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4DB-0F11-4A9F-A135-C2AF1450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5A9-9ED0-4D34-890D-2B41289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BAB-E705-44ED-91B2-46084DB3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855-3715-4C86-975E-B19B2DE5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063F-6F16-40B9-B6DD-37796745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361F-C785-4AC5-BB0F-1C7990EB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57096-D052-41C3-BD2B-89004302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E9752-6E3E-46FE-A43C-74F00C97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CA9A8-8AEB-43A1-AD08-E3E54C4C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AA9C2-B717-4881-9D45-21C1CF0C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8EA6-F5EC-4B49-A730-A2067544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239-E729-4C91-A5DC-0BC274A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C327-9389-4E6F-A1E0-21A5B9A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4F2D0-5FFB-47D2-9047-A8742804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F286E-D23A-45D1-9D99-36350C82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A537-1900-4E47-AD1B-09176678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98644-68ED-4582-94AC-2CBA009A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FDCE-01E5-41B9-96FD-BFBB2206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1588-3F3D-48D4-9331-04C5C2A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B4BC-E45C-4F75-8DB2-4B470B6A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492D-CFD7-4961-8482-8EF7A71D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2A27-D42F-4D1A-B3D8-E280603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D07-1B98-4048-A53F-42A95F83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0B42-67A4-40EB-85D5-E7DCDA06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830F-BC6F-4770-BD0B-D3C41FC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B0B8-4789-4A61-A778-F27C698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2BC2-896B-42B7-84F1-91FBE9C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C119-843A-40ED-A1CF-AA43CD7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DB00-1B5E-4EE7-BD04-4D3F3DA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8210-923A-490F-BC06-36409CD6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913E3-B03D-4941-907D-5E2A0196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F13D2-5622-49D3-A4F3-F83EAD3D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D61CB-99EA-4DB7-804B-A8F1AB9C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455-6D06-44DD-AEB6-BA2756A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8FA9D-D70C-4BD6-8F0F-2898862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3E863-D2EA-43AF-B470-7F2B06F9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8F798-91B8-4D6C-98AA-DBDAC7E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27E97-6F70-44DE-BC15-0F17C0D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B68986-B42A-4E2B-9E1A-E62DA9F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D9D36-8A9F-480F-BECA-577BCAB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71B6E-EBDF-4803-80F6-754BD2C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2FE6A-673F-454A-A3B4-4147387F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21FE6-EABE-4A57-AD06-170D61B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966-69C5-4CFF-B337-573FE7D6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3B9-B741-465F-B5A0-D87A8401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722-3675-468C-8894-B346C69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B6D-B281-4271-A25B-66C130E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600-3CC9-4D5D-88F9-E9B8092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8A3-6161-4BF9-8912-CF83CA8F074C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5A7C-D7BE-48F7-9278-9F9674497880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0288-9993-461C-AAE7-07907EA1EFAF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DEE7-C8CE-46EC-90DC-8591552612DA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3" descr=""/>
          <p:cNvPicPr/>
          <p:nvPr/>
        </p:nvPicPr>
        <p:blipFill>
          <a:blip r:embed="rId1"/>
          <a:stretch/>
        </p:blipFill>
        <p:spPr>
          <a:xfrm>
            <a:off x="212760" y="781200"/>
            <a:ext cx="84805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951280" y="333000"/>
            <a:ext cx="619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Прапрадедовской поро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Стали буквы  в чёткий строй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Строй как строй,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Да не простой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Был он назван   </a:t>
            </a:r>
            <a:r>
              <a:rPr b="1" lang="ru-RU" sz="3300" spc="-1" strike="noStrike">
                <a:solidFill>
                  <a:srgbClr val="c00000"/>
                </a:solidFill>
                <a:latin typeface="Constantia"/>
              </a:rPr>
              <a:t>???????</a:t>
            </a: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И повсюду знаменит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До сих пор с него , как встарь,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Начинается букварь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Буквы разуму верны,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И за это им даны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Высочайшие права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Образовывать слов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6349680" y="2211480"/>
            <a:ext cx="1805400" cy="520560"/>
          </a:xfrm>
          <a:prstGeom prst="rect">
            <a:avLst/>
          </a:prstGeom>
          <a:solidFill>
            <a:srgbClr val="fef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алфав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2357280" y="142920"/>
            <a:ext cx="3961080" cy="1008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Comic Sans MS"/>
              </a:rPr>
              <a:t>Создатели славянской азбу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Comic Sans MS"/>
              </a:rPr>
              <a:t>Кирилл и Мефод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Новый рисунок"/>
          <p:cNvPicPr/>
          <p:nvPr/>
        </p:nvPicPr>
        <p:blipFill>
          <a:blip r:embed="rId2"/>
          <a:stretch/>
        </p:blipFill>
        <p:spPr>
          <a:xfrm>
            <a:off x="1928880" y="1197000"/>
            <a:ext cx="530532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1238400" y="122400"/>
            <a:ext cx="6553080" cy="742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глаголица"/>
          <p:cNvPicPr/>
          <p:nvPr/>
        </p:nvPicPr>
        <p:blipFill>
          <a:blip r:embed="rId2"/>
          <a:stretch/>
        </p:blipFill>
        <p:spPr>
          <a:xfrm>
            <a:off x="714240" y="928800"/>
            <a:ext cx="7786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1494000" y="-96840"/>
            <a:ext cx="5943600" cy="816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кириллица"/>
          <p:cNvPicPr/>
          <p:nvPr/>
        </p:nvPicPr>
        <p:blipFill>
          <a:blip r:embed="rId2"/>
          <a:stretch/>
        </p:blipFill>
        <p:spPr>
          <a:xfrm>
            <a:off x="1357200" y="785880"/>
            <a:ext cx="6572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324000" y="1268280"/>
            <a:ext cx="8424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шифруй пословиц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1, 25, 6, 15, 30, 6 – 19, 3, 6, 20,    1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5, 6, 21, 25, 6, 15, 30, 6 – 20, 30, 14,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14400" y="836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Как вы понимаете пословицы?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Азбуку учат, во всю избу кричат.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Азбука – наука, а ребятам мука.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0:15:51Z</dcterms:created>
  <dc:creator>Завуч</dc:creator>
  <dc:description/>
  <dc:language>en-US</dc:language>
  <cp:lastModifiedBy>naumova76.76@mail.ru</cp:lastModifiedBy>
  <dcterms:modified xsi:type="dcterms:W3CDTF">2022-11-13T17:51:51Z</dcterms:modified>
  <cp:revision>51</cp:revision>
  <dc:subject/>
  <dc:title>Слайд 1</dc:title>
</cp:coreProperties>
</file>