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C32-F3DF-4835-A6F9-E3D6D07F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E51-CEB6-4F60-8ED7-F77851E1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842-2EC1-44C9-8487-3FBCD5A9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ACD-AC84-47FA-A479-48EA9153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9BF-1E4F-4C53-9FF2-E64EFD1A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721-B7AC-46BA-B326-70884089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D5A-70C3-4867-9B04-7737D88E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569-7190-4D1A-8F0A-7128AB6B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DC0-ED49-4FA8-A470-5B6F767D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C3E-5589-465E-B8F7-414F2DB8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5CE-E3F6-4565-96BA-D24842D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845-3562-4F72-B1CC-63AF9E11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FFC-81E2-4F55-9C9E-6CAD37D93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дактические прием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урока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мец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немец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сакова Ю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ОУ Домодедовская СОШ №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ожительные результа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ваиваются базовые знания по предме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тизируются усвоенные зн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уются навыки самоконтро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ается интерес к изучению немецкого   языка за счёт разнообразия форм и методов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изация знаний (в начале урока или перед началом изучения новой темы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инк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 в конце учебного за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ы игровых 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исуй картинку и составь её описание (темы: моя семья, мой дом, моё любимое животно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ь слова в логическом порядке, чтобы   получилось предло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 рассказ, в котором некоторые словазаменены рисун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й загадку (тема: Животны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исуй картинку к прочитанному тек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ы игровых 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умать неправдоподобную исто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ыграть сценку «В магазине», «На улице», "В ресторане", "На приеме у врач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 программу пребывания иностранных г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 интерв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«Лучший перевод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Ассоци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Магический квадра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виз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«Репортёр», «Снежный ком», «Бат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-квест по теме «Защита окружающей среды» в 7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в формате телевизионных иг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то?  Где?  Когда?»  по  теме   «Путешествие  по  Германии»  в  8 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Rückendik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0298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Rückendik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rian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sere Leser m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ich schlecht________________, dann raume ich ___________________auf. Ich mache meine Tuer zu,____________________________. Dann mache ich laute Musik an und___________________. Es tut mir richtig gut, _____________________.Und meistens bin ich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Jasmin, 15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riant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gelaunt bin, ________________am liebsten mein Zimmer____. ________________________________,weil mich Reiner storen soll. _______________________________________fange an,  aufzuraumen._____________________________, alles wieder schon 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hen. ____________________________danach  auch wieder gut gela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Jasmin, 15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ückendik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4804" r="0" b="0"/>
          <a:stretch/>
        </p:blipFill>
        <p:spPr>
          <a:xfrm>
            <a:off x="457200" y="1371600"/>
            <a:ext cx="82296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гический 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örter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6061" r="0" b="25002"/>
          <a:stretch/>
        </p:blipFill>
        <p:spPr>
          <a:xfrm>
            <a:off x="1752480" y="1523880"/>
            <a:ext cx="54165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07T17:56:45Z</dcterms:created>
  <dc:creator>Alexey</dc:creator>
  <dc:description/>
  <dc:language>en-US</dc:language>
  <cp:lastModifiedBy>Windows User</cp:lastModifiedBy>
  <dcterms:modified xsi:type="dcterms:W3CDTF">2022-10-07T18:47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