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E993-48E4-43D9-B306-DDD8C43C5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73C2-9C67-40C9-AE9F-A2CEAE72A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47E-9A32-40EE-960E-8709197E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991-2DD3-4779-8E0B-946FF6E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4D2-3B3B-411E-903F-BAAFBFA3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044-7A37-4C09-B148-BF4A2F4B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4B3-06B7-4FD7-9295-05F4625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E5A-4E3B-410B-8D91-CA53E7D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F7F-F3E7-4955-ABE0-741F39D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914-A64F-479A-A08A-0065187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7D5-21EE-4E13-8673-6ABE4684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11D-CCD5-4440-B3BE-EC6559D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F28-0252-463F-A9AA-40A8F85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7D4-691B-4664-A87F-1D83537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2017-91E1-42A8-BD54-8446EB5DA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572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ЛИТЕРАТУРНОГО ЧТЕНИЯ 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Школа 2100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Коршу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Дом в Черемушк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отрыв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 Муленкова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35720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Админ\Мои документы\Мои рисунки\MP Navigator EX\2012_04_05\IMG.jpg"/>
          <p:cNvPicPr/>
          <p:nvPr/>
        </p:nvPicPr>
        <p:blipFill>
          <a:blip r:embed="rId2"/>
          <a:srcRect l="8367" t="8870" r="12202" b="2430"/>
          <a:stretch/>
        </p:blipFill>
        <p:spPr>
          <a:xfrm rot="444600">
            <a:off x="6967080" y="3105000"/>
            <a:ext cx="17859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57200" y="2357280"/>
            <a:ext cx="64008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в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928800" y="428760"/>
            <a:ext cx="7715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Литературные жанр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 rot="21073800">
            <a:off x="873720" y="203652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 rot="1166400">
            <a:off x="7400880" y="177480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928880" y="521496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072200" y="514368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изкультмину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1357200"/>
            <a:ext cx="70725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 дорожке, по дорож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качем мы на правой но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о этой же дорож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чем мы на левой но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 тропинке побеж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До лужайки доб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лужайке, на лужай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опрыгаем как за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топ. Немного отдох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 домой пешком по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Documents and Settings\Учитель\Мои документы\Мои результаты сканировани\2009-02 (фев)\сканирование0008.jpg"/>
          <p:cNvPicPr/>
          <p:nvPr/>
        </p:nvPicPr>
        <p:blipFill>
          <a:blip r:embed="rId1"/>
          <a:srcRect l="44366" t="5731" r="14180" b="2541"/>
          <a:stretch/>
        </p:blipFill>
        <p:spPr>
          <a:xfrm>
            <a:off x="7358040" y="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0012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28760" y="131760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Знакомство с фактами биографии пис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пределение идеи, героев текста по иллюстрации, заголовку до начала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ение жан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бота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ение идеи, героев текста после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71680" y="285480"/>
            <a:ext cx="79293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определение ид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5840" y="2000160"/>
            <a:ext cx="84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Дружили ли дядя и племян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огда возможна дружба между взрослыми и дет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5720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Коршу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Дом в Черемушк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rcRect l="18646" t="0" r="16945" b="1701"/>
          <a:stretch/>
        </p:blipFill>
        <p:spPr>
          <a:xfrm>
            <a:off x="4857840" y="2071800"/>
            <a:ext cx="3286080" cy="4143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rcRect l="17039" t="0" r="17039" b="3402"/>
          <a:stretch/>
        </p:blipFill>
        <p:spPr>
          <a:xfrm>
            <a:off x="785880" y="2071800"/>
            <a:ext cx="3071880" cy="407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0040" y="57168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Незаконченные предложения»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м трудным для меня на сегодняшнем занятии было …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егодня я понял (а)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егодня я научился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1213920"/>
            <a:ext cx="7500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слышу – я забываю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ижу – я запоминаю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елаю – я понимаю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к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будем и слушать, и запоминать, и рассуждать. Ведь чтение без размышления - пустое развлечени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57160" y="357120"/>
            <a:ext cx="74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\Мои документы\Мои рисунки\MP Navigator EX\2012_04_05\IMG.jpg"/>
          <p:cNvPicPr/>
          <p:nvPr/>
        </p:nvPicPr>
        <p:blipFill>
          <a:blip r:embed="rId1"/>
          <a:srcRect l="8367" t="8870" r="12202" b="2430"/>
          <a:stretch/>
        </p:blipFill>
        <p:spPr>
          <a:xfrm rot="21142200">
            <a:off x="155520" y="465120"/>
            <a:ext cx="17859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00120" y="21384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8760" y="121428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Познакомиться  с фактами биографии пис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узна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пределить идею, героев текста по иллюстрации, заголовку до начала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опытаю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ить жан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уме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бота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буд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ь идею, героев  после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43040" y="642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ихаил Павлович КОРШУНО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сский 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4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Михаил Коршунов. Фотография"/>
          <p:cNvPicPr/>
          <p:nvPr/>
        </p:nvPicPr>
        <p:blipFill>
          <a:blip r:embed="rId1"/>
          <a:stretch/>
        </p:blipFill>
        <p:spPr>
          <a:xfrm>
            <a:off x="3214800" y="2357280"/>
            <a:ext cx="3143160" cy="35956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152800" y="614376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 ноября  2011г — 85 лет со дня ро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rcRect l="16661" t="0" r="16661" b="2488"/>
          <a:stretch/>
        </p:blipFill>
        <p:spPr>
          <a:xfrm rot="256800">
            <a:off x="6215040" y="28584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rcRect l="19465" t="0" r="19465" b="4441"/>
          <a:stretch/>
        </p:blipFill>
        <p:spPr>
          <a:xfrm rot="21194400">
            <a:off x="385920" y="350640"/>
            <a:ext cx="2500200" cy="3071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rcRect l="19274" t="0" r="14683" b="7880"/>
          <a:stretch/>
        </p:blipFill>
        <p:spPr>
          <a:xfrm>
            <a:off x="3286080" y="214200"/>
            <a:ext cx="2500200" cy="3143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4"/>
          <a:srcRect l="15622" t="0" r="15622" b="2772"/>
          <a:stretch/>
        </p:blipFill>
        <p:spPr>
          <a:xfrm>
            <a:off x="1214280" y="3714840"/>
            <a:ext cx="264348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5"/>
          <a:srcRect l="20472" t="0" r="20472" b="0"/>
          <a:stretch/>
        </p:blipFill>
        <p:spPr>
          <a:xfrm>
            <a:off x="4429080" y="3643200"/>
            <a:ext cx="2643120" cy="3000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214720" y="213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Arial"/>
              </a:rPr>
              <a:t>Тренировочные 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радь по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.24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357280" y="21430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рб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тр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стрю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анж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стокв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Админ\Мои документы\Мои рисунки\MP Navigator EX\2012_04_05\IMG_0004.jpg"/>
          <p:cNvPicPr/>
          <p:nvPr/>
        </p:nvPicPr>
        <p:blipFill>
          <a:blip r:embed="rId1"/>
          <a:srcRect l="6038" t="8538" r="328" b="6025"/>
          <a:stretch/>
        </p:blipFill>
        <p:spPr>
          <a:xfrm rot="21081000">
            <a:off x="444240" y="333000"/>
            <a:ext cx="1746000" cy="2251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0012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285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131760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Знакомство с фактами биографии пис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пределение идеи, героев текста по иллюстрации, заголовку до начала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ение жан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бота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ение идеи, героев текста после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3000" y="142560"/>
            <a:ext cx="8215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Коршунов  «Дом в Черемушк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отрыв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Админ\Мои документы\Мои рисунки\MP Navigator EX\2012_04_05\IMG_0001.jpg"/>
          <p:cNvPicPr/>
          <p:nvPr/>
        </p:nvPicPr>
        <p:blipFill>
          <a:blip r:embed="rId1"/>
          <a:srcRect l="38033" t="24812" r="18310" b="32028"/>
          <a:stretch/>
        </p:blipFill>
        <p:spPr>
          <a:xfrm>
            <a:off x="285840" y="1857240"/>
            <a:ext cx="4143240" cy="442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Админ\Мои документы\Мои рисунки\MP Navigator EX\2012_04_05\IMG_0002.jpg"/>
          <p:cNvPicPr/>
          <p:nvPr/>
        </p:nvPicPr>
        <p:blipFill>
          <a:blip r:embed="rId2"/>
          <a:srcRect l="29557" t="16423" r="8675" b="58896"/>
          <a:stretch/>
        </p:blipFill>
        <p:spPr>
          <a:xfrm>
            <a:off x="4643280" y="150012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Админ\Мои документы\Мои рисунки\MP Navigator EX\2012_04_05\IMG_0003.jpg"/>
          <p:cNvPicPr/>
          <p:nvPr/>
        </p:nvPicPr>
        <p:blipFill>
          <a:blip r:embed="rId3"/>
          <a:srcRect l="25527" t="15794" r="13857" b="60517"/>
          <a:stretch/>
        </p:blipFill>
        <p:spPr>
          <a:xfrm>
            <a:off x="4714920" y="4143240"/>
            <a:ext cx="4071960" cy="250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1407960" cy="1657440"/>
          </a:xfrm>
          <a:prstGeom prst="rect">
            <a:avLst/>
          </a:prstGeom>
          <a:ln w="76320">
            <a:solidFill>
              <a:srgbClr val="66ff66"/>
            </a:solidFill>
            <a:miter/>
          </a:ln>
        </p:spPr>
      </p:pic>
    </p:spTree>
  </p:cSld>
  <p:transition spd="slow"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0012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1285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28760" y="131760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Знакомство с фактами биографии пис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Определение идеи, героев текста по иллюстрации, заголовку до начала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ение жан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бота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ение идеи, героев текста после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24:58Z</dcterms:created>
  <dc:creator>дом</dc:creator>
  <dc:description/>
  <dc:language>en-US</dc:language>
  <cp:lastModifiedBy>Ирина</cp:lastModifiedBy>
  <dcterms:modified xsi:type="dcterms:W3CDTF">2012-04-08T07:03:58Z</dcterms:modified>
  <cp:revision>28</cp:revision>
  <dc:subject/>
  <dc:title>Слайд 1</dc:title>
</cp:coreProperties>
</file>