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6934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979640" y="4224240"/>
            <a:ext cx="6934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32840" y="162828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979640" y="422424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32840" y="422424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22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24320" y="1628280"/>
            <a:ext cx="22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69000" y="1628280"/>
            <a:ext cx="22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979640" y="4224240"/>
            <a:ext cx="22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24320" y="4224240"/>
            <a:ext cx="22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69000" y="4224240"/>
            <a:ext cx="22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79640" y="1628280"/>
            <a:ext cx="69343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69343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3383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32840" y="1628280"/>
            <a:ext cx="3383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50920" y="188640"/>
            <a:ext cx="68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2840" y="1628280"/>
            <a:ext cx="3383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79640" y="422424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979640" y="1628280"/>
            <a:ext cx="69343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3383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2840" y="162828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32840" y="422424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32840" y="162828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79640" y="4224240"/>
            <a:ext cx="6934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6934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79640" y="4224240"/>
            <a:ext cx="6934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32840" y="162828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79640" y="422424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32840" y="422424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22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4320" y="1628280"/>
            <a:ext cx="22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69000" y="1628280"/>
            <a:ext cx="22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79640" y="4224240"/>
            <a:ext cx="22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4320" y="4224240"/>
            <a:ext cx="22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69000" y="4224240"/>
            <a:ext cx="22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69343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3383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32840" y="1628280"/>
            <a:ext cx="3383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050920" y="188640"/>
            <a:ext cx="68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32840" y="1628280"/>
            <a:ext cx="3383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979640" y="422424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3383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2840" y="162828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32840" y="422424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2840" y="1628280"/>
            <a:ext cx="3383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79640" y="4224240"/>
            <a:ext cx="6934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K:\ProPowerPoint\Шаблоны\СПОРТ ТУРИЗМ\Быть в форме\FormaSlide.jpg"/>
          <p:cNvPicPr/>
          <p:nvPr/>
        </p:nvPicPr>
        <p:blipFill>
          <a:blip r:embed="rId3"/>
          <a:stretch/>
        </p:blipFill>
        <p:spPr>
          <a:xfrm>
            <a:off x="0" y="-15840"/>
            <a:ext cx="91645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79640" y="1628280"/>
            <a:ext cx="69343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6"/>
          <p:cNvSpPr/>
          <p:nvPr/>
        </p:nvSpPr>
        <p:spPr>
          <a:xfrm>
            <a:off x="108000" y="66150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9c3"/>
                </a:solidFill>
                <a:latin typeface="Bell MT"/>
              </a:rPr>
              <a:t>ProPowerPoint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K:\ProPowerPoint\Шаблоны\СПОРТ ТУРИЗМ\Быть в форме\FormaSlide.jpg"/>
          <p:cNvPicPr/>
          <p:nvPr/>
        </p:nvPicPr>
        <p:blipFill>
          <a:blip r:embed="rId3"/>
          <a:stretch/>
        </p:blipFill>
        <p:spPr>
          <a:xfrm>
            <a:off x="0" y="-15840"/>
            <a:ext cx="9164520" cy="68738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108000" y="66150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9c3"/>
                </a:solidFill>
                <a:latin typeface="Bell MT"/>
              </a:rPr>
              <a:t>ProPowerPoint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K:\ProPowerPoint\Шаблоны\СПОРТ ТУРИЗМ\Быть в форме\Forma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79640" y="1628280"/>
            <a:ext cx="69343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4929120"/>
            <a:ext cx="8518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РОССИЙСКИЙ ФИЗКУЛЬТУРНО-СПОРТИВНЫЙ КОМПЛЕ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14280" y="5428800"/>
            <a:ext cx="64008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«Готов к труду и обороне» (ГТ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дзаголовок 4"/>
          <p:cNvSpPr/>
          <p:nvPr/>
        </p:nvSpPr>
        <p:spPr>
          <a:xfrm>
            <a:off x="642960" y="6000840"/>
            <a:ext cx="77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«Единое понимание практического внедр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28520" y="142560"/>
            <a:ext cx="7072200" cy="453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нятие комплек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5" descr=""/>
          <p:cNvPicPr/>
          <p:nvPr/>
        </p:nvPicPr>
        <p:blipFill>
          <a:blip r:embed="rId1"/>
          <a:stretch/>
        </p:blipFill>
        <p:spPr>
          <a:xfrm>
            <a:off x="1987560" y="755640"/>
            <a:ext cx="88092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214360" y="214200"/>
            <a:ext cx="6500520" cy="589464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Цель - повышение эффективности использования возможностей физической культуры и спорта в укреплении здоровья, гармоничном и всестороннем развитии личности, воспитании патриотизма и обеспечение преемственности в осуществлении физического воспитания нас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school45sport.ucoz.ru/nizkij_start-foto.jpg"/>
          <p:cNvPicPr/>
          <p:nvPr/>
        </p:nvPicPr>
        <p:blipFill>
          <a:blip r:embed="rId1"/>
          <a:stretch/>
        </p:blipFill>
        <p:spPr>
          <a:xfrm>
            <a:off x="0" y="1646280"/>
            <a:ext cx="1925640" cy="1712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img.happy-giraffe.ru/thumbs/650x650/12678/8e7c8f6af65302105d951694d278b304.jpg"/>
          <p:cNvPicPr/>
          <p:nvPr/>
        </p:nvPicPr>
        <p:blipFill>
          <a:blip r:embed="rId2"/>
          <a:stretch/>
        </p:blipFill>
        <p:spPr>
          <a:xfrm>
            <a:off x="0" y="5211720"/>
            <a:ext cx="1908000" cy="178596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8715240" y="6357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Всероссийског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о-спортивного комплекс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979640" y="1628280"/>
            <a:ext cx="69343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стоит из 11 ступеней и включает возрастные групп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ая ступень — от 6 до 8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ая ступень — от 9 до 10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ья ступень — от 11 до 12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ая ступень — от 13 до 15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ая ступень — от 16 до 17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естая ступень — от 18 до 29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дьмая ступень — от 30 до 39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ьмая ступень — от 40 до 49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вятая ступень — от 50 до 59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сятая ступень — от 60 до 69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иннадцатая ступень — от 70 лет и стар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rcRect l="17578" t="16875" r="66605" b="11376"/>
          <a:stretch/>
        </p:blipFill>
        <p:spPr>
          <a:xfrm>
            <a:off x="0" y="0"/>
            <a:ext cx="189072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img.happy-giraffe.ru/thumbs/650x650/12678/8e7c8f6af65302105d951694d278b304.jpg"/>
          <p:cNvPicPr/>
          <p:nvPr/>
        </p:nvPicPr>
        <p:blipFill>
          <a:blip r:embed="rId2"/>
          <a:stretch/>
        </p:blipFill>
        <p:spPr>
          <a:xfrm>
            <a:off x="0" y="5211720"/>
            <a:ext cx="1908000" cy="164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school45sport.ucoz.ru/nizkij_start-foto.jpg"/>
          <p:cNvPicPr/>
          <p:nvPr/>
        </p:nvPicPr>
        <p:blipFill>
          <a:blip r:embed="rId3"/>
          <a:stretch/>
        </p:blipFill>
        <p:spPr>
          <a:xfrm>
            <a:off x="0" y="1646280"/>
            <a:ext cx="1925640" cy="171288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2476440" y="333360"/>
            <a:ext cx="6195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ВИДЫ ИСПЫТАНИЙ (ТЕСТЫ) И НОРМАТИ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71440" y="1285920"/>
            <a:ext cx="678636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БЯЗАТЕЛЬНЫЕ ИСПЫТАНИЯ (ТЕСТ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испытания (тесты) по определению уровня развития скоростных возможност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испытания (тесты) по определению уровня развития вынослив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испытания (тесты) по определению уровня развития сил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испытания (тесты) по определению уровня развития гибк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8715240" y="6357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2071800" y="3929040"/>
            <a:ext cx="678636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ИСПЫТАНИЯ (ТЕСТЫ) ПО ВЫБОР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испытания (тесты) по определению уровня развития скоростно-силовых возможност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испытания (тесты) по определению уровня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координационных способност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испытания (тесты) по определению уровня овладения прикладными навы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3880" y="5714640"/>
            <a:ext cx="7858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7T13:03:27Z</dcterms:created>
  <dc:creator>Колесникова Кристина Евгеньевна</dc:creator>
  <dc:description>http://propowerpoint.ru - Бесплатные шаблоны для презентаций. Полезные советы и уроки PowerPoint .</dc:description>
  <dc:language>en-US</dc:language>
  <cp:lastModifiedBy>Михаил</cp:lastModifiedBy>
  <dcterms:modified xsi:type="dcterms:W3CDTF">2016-10-05T09:15:41Z</dcterms:modified>
  <cp:revision>222</cp:revision>
  <dc:subject>Быть в форме</dc:subject>
  <dc:title>Слайд 1</dc:title>
</cp:coreProperties>
</file>