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13.jpeg" ContentType="image/jpeg"/>
  <Override PartName="/ppt/media/image20.gif" ContentType="image/gif"/>
  <Override PartName="/ppt/media/image4.png" ContentType="image/png"/>
  <Override PartName="/ppt/media/image27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25.png" ContentType="image/png"/>
  <Override PartName="/ppt/media/image22.png" ContentType="image/png"/>
  <Override PartName="/ppt/media/image3.jpeg" ContentType="image/jpeg"/>
  <Override PartName="/ppt/media/image24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4.png" ContentType="image/png"/>
  <Override PartName="/ppt/media/image26.png" ContentType="image/png"/>
  <Override PartName="/ppt/media/image17.jpeg" ContentType="image/jpeg"/>
  <Override PartName="/ppt/media/image23.gif" ContentType="image/gif"/>
  <Override PartName="/ppt/media/image16.png" ContentType="image/pn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E5F4-C9F9-4C3D-B10D-DDE496B7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2940-20C1-4A87-BCA8-819708A6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078C-14F4-47CD-97AD-8D82C775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455D-FD9B-4AE7-BB87-0BFCE718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0A44-25EC-42EB-84DE-14977318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4C17-8FD4-4408-B687-CBDD13D7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BD98-CEA9-44E6-8E8C-CCA5DD89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477D-3DA6-430B-B799-3483D0D9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6F33-DE0B-41CA-9D21-E2363123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8F81-9AD5-4999-9368-1EBFE329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B90A-9F0A-4D47-B461-53D7B89B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5799-0642-46AA-9928-C75CFB53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ABDB-8091-47EF-9FE9-20ADE510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C818-F95B-439F-9A1F-19B2D922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B30C-1A84-4FFF-89E9-D84C1EBA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D676-0BF9-496E-A61C-9FDF4242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B179-AE0B-4B80-9032-4951AE57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42E5D-6E64-404F-9CAE-7EE59F9C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195EE-D299-4073-80B8-84F06FF4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345FF-A7A8-412C-95D8-CE519B99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3DB73-3103-423B-A303-E0E75B22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B990F-BBF6-496A-97AD-555A990F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536-C4B8-476C-975D-780B957D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9587D-E178-48AE-BFD5-1655B49F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836FC-CCBC-4493-AF8A-CE46E30B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F7D31-F14E-4841-A0B4-85FE0A02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F72D8-4214-479F-86BF-1C5D45E7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1A1AA-EDE6-4F50-A8B0-4790BDDF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E7B49-F5CC-4E75-8B8D-07FB8102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0C59F-3B63-472E-A835-232423A74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7F8B7-4734-4F95-B4EB-0F15936E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A5CA8-5E36-4526-9621-BCA28B31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719E4-6368-43C9-B0C0-50B9E421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07D3-B872-46A0-903A-FBFB76C6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0890D-2427-4C5B-B418-4ACE3E6F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5B655-5EA6-41DA-B3B2-7AD8B5AB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59779-4D02-4D3B-9131-66E3AFE9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2EE50-4014-4013-9C33-BD505558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4E242-FE03-42F7-A802-5C85D1B5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5A884-8287-41EA-9C9D-B24273FB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2FEFF-8106-49A5-95AB-3C376EAC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4DE3D-D388-42A5-9238-237E85B7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2A43E-4A4E-4C1B-8825-6E96D1E0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3AB5-3407-486B-8BBE-878F2E0A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7616-F86B-428E-A0F1-FF92C36F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9D42-5854-4BEC-9D39-6D9C1773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5A39-FC96-45E6-80B1-1225BE74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C12F-9B20-455E-82E8-9A3C2EB3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FA4D-230E-46E3-932A-B30D1C4C871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866A-7C8B-40F7-9E25-34E7052F1B1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842D-F575-46EA-85E0-FCDE15328FA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4BBC-99D7-4A6C-BDEE-AEB3F0BA4B7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5640" y="3285720"/>
            <a:ext cx="6172200" cy="17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900" spc="-1" strike="noStrike">
                <a:solidFill>
                  <a:srgbClr val="90c226"/>
                </a:solidFill>
                <a:latin typeface="Trebuchet MS"/>
              </a:rPr>
              <a:t>ФИЗИЧЕСКИЕ</a:t>
            </a:r>
            <a:br>
              <a:rPr sz="4900"/>
            </a:br>
            <a:r>
              <a:rPr b="0" lang="ru-RU" sz="4900" spc="-1" strike="noStrike">
                <a:solidFill>
                  <a:srgbClr val="90c226"/>
                </a:solidFill>
                <a:latin typeface="Trebuchet MS"/>
              </a:rPr>
              <a:t>ЯВЛЕНИЯ</a:t>
            </a:r>
            <a:endParaRPr b="0" lang="en-US" sz="49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Рисунок 3" descr="15515823_WPERMSE.gif"/>
          <p:cNvPicPr/>
          <p:nvPr/>
        </p:nvPicPr>
        <p:blipFill>
          <a:blip r:embed="rId1"/>
          <a:stretch/>
        </p:blipFill>
        <p:spPr>
          <a:xfrm>
            <a:off x="6429240" y="0"/>
            <a:ext cx="25606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Documents and Settings\Засранец\Рабочий стол\Новая папка (6)\File0224.jpg"/>
          <p:cNvPicPr/>
          <p:nvPr/>
        </p:nvPicPr>
        <p:blipFill>
          <a:blip r:embed="rId1"/>
          <a:stretch/>
        </p:blipFill>
        <p:spPr>
          <a:xfrm>
            <a:off x="5786280" y="2714760"/>
            <a:ext cx="2089440" cy="38527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90c226"/>
                </a:solidFill>
                <a:uFillTx/>
                <a:latin typeface="Trebuchet MS"/>
              </a:rPr>
              <a:t>Кристаллизация или выпариван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599840"/>
            <a:ext cx="746748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Candara"/>
              </a:rPr>
              <a:t>Используется для выделения из раствора растворенных солей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571680" y="2857680"/>
            <a:ext cx="485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от способ лежит в основе получения соли из озер Эльтон и Баскунчак, морской соли – из морской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90c226"/>
                </a:solidFill>
                <a:uFillTx/>
                <a:latin typeface="Trebuchet MS"/>
              </a:rPr>
              <a:t>Отстаиван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5280" y="1557360"/>
            <a:ext cx="7686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Выделение из смеси нерастворимых вещест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ndara"/>
              </a:rPr>
              <a:t>Этот способ применяется в керамическом производстве для отделения песка от глины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Picture 5" descr="C:\Documents and Settings\Администратор\Рабочий стол\ClipArt\drivingreactions1[1].jpg"/>
          <p:cNvPicPr/>
          <p:nvPr/>
        </p:nvPicPr>
        <p:blipFill>
          <a:blip r:embed="rId1"/>
          <a:stretch/>
        </p:blipFill>
        <p:spPr>
          <a:xfrm>
            <a:off x="6215040" y="4429080"/>
            <a:ext cx="2500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C:\Documents and Settings\Засранец\Рабочий стол\Новая папка (6)\File0227.jpg"/>
          <p:cNvPicPr/>
          <p:nvPr/>
        </p:nvPicPr>
        <p:blipFill>
          <a:blip r:embed="rId1"/>
          <a:stretch/>
        </p:blipFill>
        <p:spPr>
          <a:xfrm>
            <a:off x="395280" y="3213000"/>
            <a:ext cx="2502000" cy="34624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6840" y="571320"/>
            <a:ext cx="746748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Corbel"/>
              </a:rPr>
              <a:t>Разделить смесь малорастворимых друг в друге жидкостей, например – нефть и воду – можно с помощью  делительной     </a:t>
            </a:r>
            <a:r>
              <a:rPr b="1" lang="ru-RU" sz="3600" spc="-1" strike="noStrike">
                <a:solidFill>
                  <a:srgbClr val="404040"/>
                </a:solidFill>
                <a:latin typeface="Corbel"/>
              </a:rPr>
              <a:t>	</a:t>
            </a:r>
            <a:r>
              <a:rPr b="1" lang="ru-RU" sz="3600" spc="-1" strike="noStrike">
                <a:solidFill>
                  <a:srgbClr val="404040"/>
                </a:solidFill>
                <a:latin typeface="Corbel"/>
              </a:rPr>
              <a:t>	</a:t>
            </a:r>
            <a:r>
              <a:rPr b="1" lang="ru-RU" sz="3600" spc="-1" strike="noStrike">
                <a:solidFill>
                  <a:srgbClr val="404040"/>
                </a:solidFill>
                <a:latin typeface="Corbel"/>
              </a:rPr>
              <a:t>	</a:t>
            </a:r>
            <a:r>
              <a:rPr b="1" lang="ru-RU" sz="3600" spc="-1" strike="noStrike">
                <a:solidFill>
                  <a:srgbClr val="404040"/>
                </a:solidFill>
                <a:latin typeface="Corbel"/>
              </a:rPr>
              <a:t>	</a:t>
            </a:r>
            <a:r>
              <a:rPr b="1" lang="ru-RU" sz="3600" spc="-1" strike="noStrike">
                <a:solidFill>
                  <a:srgbClr val="404040"/>
                </a:solidFill>
                <a:latin typeface="Corbel"/>
              </a:rPr>
              <a:t>воронки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Рисунок 3" descr="87.jpg"/>
          <p:cNvPicPr/>
          <p:nvPr/>
        </p:nvPicPr>
        <p:blipFill>
          <a:blip r:embed="rId2"/>
          <a:stretch/>
        </p:blipFill>
        <p:spPr>
          <a:xfrm>
            <a:off x="6297480" y="3571920"/>
            <a:ext cx="12654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ndara"/>
              </a:rPr>
              <a:t>При помощи отстаивания разделяют вещества с разной плотностью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ndara"/>
              </a:rPr>
              <a:t>Например: древесные и железные опилки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4" descr="C:\Documents and Settings\Администратор\Рабочий стол\ClipArt\medium_37421[1].jpg"/>
          <p:cNvPicPr/>
          <p:nvPr/>
        </p:nvPicPr>
        <p:blipFill>
          <a:blip r:embed="rId1"/>
          <a:stretch/>
        </p:blipFill>
        <p:spPr>
          <a:xfrm>
            <a:off x="2768760" y="4143240"/>
            <a:ext cx="3606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90c226"/>
                </a:solidFill>
                <a:uFillTx/>
                <a:latin typeface="Trebuchet MS"/>
              </a:rPr>
              <a:t>Действие магнитом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7758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Применяется для выделения из смеси веществ, способных к намагничиванию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Так из смеси можно выделить железо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Рисунок 3" descr="Magnet0873.png"/>
          <p:cNvPicPr/>
          <p:nvPr/>
        </p:nvPicPr>
        <p:blipFill>
          <a:blip r:embed="rId1"/>
          <a:stretch/>
        </p:blipFill>
        <p:spPr>
          <a:xfrm>
            <a:off x="500040" y="4143240"/>
            <a:ext cx="778680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C:\Documents and Settings\Засранец\Рабочий стол\Новая папка (6)\File0226.jpg"/>
          <p:cNvPicPr/>
          <p:nvPr/>
        </p:nvPicPr>
        <p:blipFill>
          <a:blip r:embed="rId1"/>
          <a:stretch/>
        </p:blipFill>
        <p:spPr>
          <a:xfrm>
            <a:off x="5715000" y="857160"/>
            <a:ext cx="2643120" cy="46436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844280"/>
            <a:ext cx="4329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90c226"/>
                </a:solidFill>
                <a:uFillTx/>
                <a:latin typeface="Trebuchet MS"/>
              </a:rPr>
              <a:t>ВОЗГОНКА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90c226"/>
                </a:solidFill>
                <a:uFillTx/>
                <a:latin typeface="Trebuchet MS"/>
              </a:rPr>
              <a:t>применяется для получения чистых веществ - серы или йода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mbria Math"/>
              </a:rPr>
              <a:t>Лед способен к возгонке, поэтому мокрое белье высыхает на морозе. Возгонка определила использование твердого углекислого газа для хранения продуктов в частности</a:t>
            </a:r>
            <a:r>
              <a:rPr b="1" lang="en-US" sz="2800" spc="-1" strike="noStrike">
                <a:solidFill>
                  <a:srgbClr val="404040"/>
                </a:solidFill>
                <a:latin typeface="Cambria Math"/>
              </a:rPr>
              <a:t> -</a:t>
            </a:r>
            <a:r>
              <a:rPr b="1" lang="ru-RU" sz="2800" spc="-1" strike="noStrike">
                <a:solidFill>
                  <a:srgbClr val="404040"/>
                </a:solidFill>
                <a:latin typeface="Cambria Math"/>
              </a:rPr>
              <a:t> мороженого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Рисунок 3" descr="02.jpg"/>
          <p:cNvPicPr/>
          <p:nvPr/>
        </p:nvPicPr>
        <p:blipFill>
          <a:blip r:embed="rId1"/>
          <a:stretch/>
        </p:blipFill>
        <p:spPr>
          <a:xfrm>
            <a:off x="1928880" y="3500280"/>
            <a:ext cx="4714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      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ЗАДАНИЕ</a:t>
            </a:r>
            <a:r>
              <a:rPr b="1" i="1" lang="ru-RU" sz="3600" spc="-1" strike="noStrike" u="sng">
                <a:solidFill>
                  <a:srgbClr val="90c226"/>
                </a:solidFill>
                <a:uFillTx/>
                <a:latin typeface="Trebuchet MS"/>
              </a:rPr>
              <a:t> </a:t>
            </a:r>
            <a:r>
              <a:rPr b="1" lang="ru-RU" sz="3600" spc="-1" strike="noStrike" u="sng">
                <a:solidFill>
                  <a:srgbClr val="90c226"/>
                </a:solidFill>
                <a:uFillTx/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Дана смесь железа и серы. Предложите способы разделения этой смеси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5" descr="C:\Documents and Settings\Администратор\Рабочий стол\ClipArt\34371[1].gif"/>
          <p:cNvPicPr/>
          <p:nvPr/>
        </p:nvPicPr>
        <p:blipFill>
          <a:blip r:embed="rId1"/>
          <a:stretch/>
        </p:blipFill>
        <p:spPr>
          <a:xfrm>
            <a:off x="324000" y="549360"/>
            <a:ext cx="792000" cy="780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1" descr="C:\Documents and Settings\Администратор\Рабочий стол\ClipArt\science1[1].gif"/>
          <p:cNvPicPr/>
          <p:nvPr/>
        </p:nvPicPr>
        <p:blipFill>
          <a:blip r:embed="rId2"/>
          <a:stretch/>
        </p:blipFill>
        <p:spPr>
          <a:xfrm>
            <a:off x="611280" y="4581360"/>
            <a:ext cx="32432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539640" y="549360"/>
            <a:ext cx="746784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Тема урок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«</a:t>
            </a:r>
            <a:r>
              <a:rPr b="1" lang="ru-RU" sz="3200" spc="-1" strike="noStrike" u="sng">
                <a:solidFill>
                  <a:srgbClr val="404040"/>
                </a:solidFill>
                <a:uFillTx/>
                <a:latin typeface="Trebuchet MS"/>
              </a:rPr>
              <a:t>ХИМИЧЕСКИЕ      РЕАКЦИИ»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Candara"/>
              </a:rPr>
              <a:t>-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</a:rPr>
              <a:t>Цель сегодняшнего урока – рассмотреть химические явления, познакомиться с признаками химических реакц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Явления, при которых происходит превращение одних веществ в другие, называются </a:t>
            </a:r>
            <a:r>
              <a:rPr b="1" lang="ru-RU" sz="32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химическими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3" name="Picture 4" descr="C:\Documents and Settings\Администратор\Рабочий стол\ClipArt\shutyat[1].gif"/>
          <p:cNvPicPr/>
          <p:nvPr/>
        </p:nvPicPr>
        <p:blipFill>
          <a:blip r:embed="rId1"/>
          <a:stretch/>
        </p:blipFill>
        <p:spPr>
          <a:xfrm>
            <a:off x="5357880" y="4429080"/>
            <a:ext cx="2592360" cy="18842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C:\Documents and Settings\Администратор\Рабочий стол\ClipArt\258739_1[1].jpg"/>
          <p:cNvPicPr/>
          <p:nvPr/>
        </p:nvPicPr>
        <p:blipFill>
          <a:blip r:embed="rId2"/>
          <a:stretch/>
        </p:blipFill>
        <p:spPr>
          <a:xfrm>
            <a:off x="507960" y="4321080"/>
            <a:ext cx="299232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00040" y="285480"/>
            <a:ext cx="71438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404040"/>
                </a:solidFill>
                <a:uFillTx/>
                <a:latin typeface="Cambria"/>
              </a:rPr>
              <a:t>Физическими</a:t>
            </a:r>
            <a:r>
              <a:rPr b="1" i="1" lang="ru-RU" sz="3600" spc="-1" strike="noStrike">
                <a:solidFill>
                  <a:srgbClr val="404040"/>
                </a:solidFill>
                <a:latin typeface="Cambria"/>
              </a:rPr>
              <a:t> называют такие явления, при которых не происходит превращение одного вещества в другое, а меняется только агрегатное состояние или форма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Рисунок 3" descr="15515823_WPERMSE.gif"/>
          <p:cNvPicPr/>
          <p:nvPr/>
        </p:nvPicPr>
        <p:blipFill>
          <a:blip r:embed="rId1"/>
          <a:stretch/>
        </p:blipFill>
        <p:spPr>
          <a:xfrm>
            <a:off x="357120" y="4214880"/>
            <a:ext cx="2560680" cy="2500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C:\Documents and Settings\Администратор\Рабочий стол\ClipArt\3D_professor[1].gif"/>
          <p:cNvPicPr/>
          <p:nvPr/>
        </p:nvPicPr>
        <p:blipFill>
          <a:blip r:embed="rId2"/>
          <a:stretch/>
        </p:blipFill>
        <p:spPr>
          <a:xfrm>
            <a:off x="6091200" y="4429080"/>
            <a:ext cx="162396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700" spc="-1" strike="noStrike">
                <a:solidFill>
                  <a:srgbClr val="90c226"/>
                </a:solidFill>
                <a:latin typeface="Trebuchet MS"/>
              </a:rPr>
              <a:t>ЗАПОЛНИТЕ ТАБЛИЦУ:</a:t>
            </a: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68360" y="762120"/>
          <a:ext cx="8001000" cy="6100560"/>
        </p:xfrm>
        <a:graphic>
          <a:graphicData uri="http://schemas.openxmlformats.org/drawingml/2006/table">
            <a:tbl>
              <a:tblPr/>
              <a:tblGrid>
                <a:gridCol w="2762280"/>
                <a:gridCol w="2762280"/>
                <a:gridCol w="2476440"/>
              </a:tblGrid>
              <a:tr h="192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изнаки химических реакц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имер химической реакц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словие течения химической реак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59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59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98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59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9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59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Содержимое 3" descr=""/>
          <p:cNvPicPr/>
          <p:nvPr/>
        </p:nvPicPr>
        <p:blipFill>
          <a:blip r:embed="rId1"/>
          <a:stretch/>
        </p:blipFill>
        <p:spPr>
          <a:xfrm>
            <a:off x="255600" y="6480"/>
            <a:ext cx="8443800" cy="6291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C:\Documents and Settings\Администратор\Рабочий стол\ClipArt\090a8a8ad20ec47ff23cf9513ce01f94[1].gif"/>
          <p:cNvPicPr/>
          <p:nvPr/>
        </p:nvPicPr>
        <p:blipFill>
          <a:blip r:embed="rId2"/>
          <a:stretch/>
        </p:blipFill>
        <p:spPr>
          <a:xfrm>
            <a:off x="612720" y="3443400"/>
            <a:ext cx="3516480" cy="30718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C:\Documents and Settings\Администратор\Рабочий стол\ClipArt\069[1].gif"/>
          <p:cNvPicPr/>
          <p:nvPr/>
        </p:nvPicPr>
        <p:blipFill>
          <a:blip r:embed="rId3"/>
          <a:stretch/>
        </p:blipFill>
        <p:spPr>
          <a:xfrm>
            <a:off x="5000760" y="3429000"/>
            <a:ext cx="34290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90c226"/>
                </a:solidFill>
                <a:latin typeface="Trebuchet MS"/>
              </a:rPr>
              <a:t>-Проверьте таблицу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285840" y="1000080"/>
          <a:ext cx="8286840" cy="5568840"/>
        </p:xfrm>
        <a:graphic>
          <a:graphicData uri="http://schemas.openxmlformats.org/drawingml/2006/table">
            <a:tbl>
              <a:tblPr/>
              <a:tblGrid>
                <a:gridCol w="2762280"/>
                <a:gridCol w="2952720"/>
                <a:gridCol w="257184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изнаки химических реак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имер химической реак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словие течения химической ре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. Образование осад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мешать ве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. Растворение осад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мешать ве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. Выделение г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мешать ве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 Изменение ц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 фенолфтале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мешать ве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. Появление запа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жигание сах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гре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. Поглощение теп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азлож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гре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. Выделение тепла и с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орение лучи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гре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72" name="Object 4"/>
              <p:cNvSpPr txBox="1"/>
              <p:nvPr/>
            </p:nvSpPr>
            <p:spPr>
              <a:xfrm>
                <a:off x="3071880" y="2000160"/>
                <a:ext cx="8571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uSO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5"/>
              <p:cNvSpPr txBox="1"/>
              <p:nvPr/>
            </p:nvSpPr>
            <p:spPr>
              <a:xfrm>
                <a:off x="4143240" y="2000160"/>
                <a:ext cx="9446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aO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7"/>
              <p:cNvSpPr txBox="1"/>
              <p:nvPr/>
            </p:nvSpPr>
            <p:spPr>
              <a:xfrm>
                <a:off x="3071880" y="2643120"/>
                <a:ext cx="12142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H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8"/>
              <p:cNvSpPr txBox="1"/>
              <p:nvPr/>
            </p:nvSpPr>
            <p:spPr>
              <a:xfrm>
                <a:off x="4429080" y="2643120"/>
                <a:ext cx="7653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C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9"/>
              <p:cNvSpPr txBox="1"/>
              <p:nvPr/>
            </p:nvSpPr>
            <p:spPr>
              <a:xfrm>
                <a:off x="3143160" y="3286080"/>
                <a:ext cx="9288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C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11"/>
              <p:cNvSpPr txBox="1"/>
              <p:nvPr/>
            </p:nvSpPr>
            <p:spPr>
              <a:xfrm>
                <a:off x="4286160" y="3286080"/>
                <a:ext cx="7653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C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12"/>
              <p:cNvSpPr txBox="1"/>
              <p:nvPr/>
            </p:nvSpPr>
            <p:spPr>
              <a:xfrm>
                <a:off x="3071880" y="4000680"/>
                <a:ext cx="9446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aO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13"/>
              <p:cNvSpPr txBox="1"/>
              <p:nvPr/>
            </p:nvSpPr>
            <p:spPr>
              <a:xfrm>
                <a:off x="4932360" y="5445000"/>
                <a:ext cx="10080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MnO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К  КАКИМ  ЯВЛЕНИЯМ -- ФИЗИЧЕСКИМ ИЛИ  ХИМИЧЕСКИМ   ОТНОСЯТСЯ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- образование инея на деревьях,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-образование зеленого налета на медных предметах,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Trebuchet MS"/>
              </a:rPr>
              <a:t>-</a:t>
            </a: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 диффузия,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Trebuchet MS"/>
              </a:rPr>
              <a:t>-</a:t>
            </a: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ржавление железа,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Trebuchet MS"/>
              </a:rPr>
              <a:t>-</a:t>
            </a: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 горение керосина,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Trebuchet MS"/>
              </a:rPr>
              <a:t>-</a:t>
            </a: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перегонка воды,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Trebuchet MS"/>
              </a:rPr>
              <a:t>-</a:t>
            </a: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получение кислорода из воздуха,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Trebuchet MS"/>
              </a:rPr>
              <a:t>-</a:t>
            </a: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процесс фотосинтеза,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Trebuchet MS"/>
              </a:rPr>
              <a:t>-</a:t>
            </a: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испарение спирта,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Trebuchet MS"/>
              </a:rPr>
              <a:t>-</a:t>
            </a: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горение природного газа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 u="sng">
                <a:solidFill>
                  <a:srgbClr val="90c226"/>
                </a:solidFill>
                <a:uFillTx/>
                <a:latin typeface="Trebuchet MS"/>
              </a:rPr>
              <a:t>Например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85716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Испарение или замерзание воды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Плавление металла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9" name="Рисунок 3" descr="wcpicevaporation.jpg"/>
          <p:cNvPicPr/>
          <p:nvPr/>
        </p:nvPicPr>
        <p:blipFill>
          <a:blip r:embed="rId1"/>
          <a:stretch/>
        </p:blipFill>
        <p:spPr>
          <a:xfrm>
            <a:off x="642960" y="2857680"/>
            <a:ext cx="3929040" cy="281592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4" descr="1234026325_94.jpg"/>
          <p:cNvPicPr/>
          <p:nvPr/>
        </p:nvPicPr>
        <p:blipFill>
          <a:blip r:embed="rId2"/>
          <a:stretch/>
        </p:blipFill>
        <p:spPr>
          <a:xfrm>
            <a:off x="4743360" y="2816280"/>
            <a:ext cx="36990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3" descr="truba_1.jpg"/>
          <p:cNvPicPr/>
          <p:nvPr/>
        </p:nvPicPr>
        <p:blipFill>
          <a:blip r:embed="rId1"/>
          <a:stretch/>
        </p:blipFill>
        <p:spPr>
          <a:xfrm rot="2230800">
            <a:off x="3852720" y="1636200"/>
            <a:ext cx="4416480" cy="26496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457200" y="356760"/>
            <a:ext cx="440064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 u="sng">
                <a:solidFill>
                  <a:srgbClr val="404040"/>
                </a:solidFill>
                <a:uFillTx/>
                <a:latin typeface="Cambria"/>
              </a:rPr>
              <a:t>Физические явления используются </a:t>
            </a:r>
            <a:r>
              <a:rPr b="1" i="1" lang="ru-RU" sz="3200" spc="-1" strike="noStrike">
                <a:solidFill>
                  <a:srgbClr val="404040"/>
                </a:solidFill>
                <a:latin typeface="Cambria"/>
              </a:rPr>
              <a:t>в металлургической промышленности для изготовления проволоки, труб, фольги и т.д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90c226"/>
                </a:solidFill>
                <a:uFillTx/>
                <a:latin typeface="Trebuchet MS"/>
              </a:rPr>
              <a:t>Перегонка или дистилляция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404040"/>
                </a:solidFill>
                <a:latin typeface="Candara"/>
              </a:rPr>
              <a:t>Этот способ разделения смесей основан на различии в температурах кипения растворимых друг в друге компонентов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Рисунок 3" descr="15515823_WPERMSE.gif"/>
          <p:cNvPicPr/>
          <p:nvPr/>
        </p:nvPicPr>
        <p:blipFill>
          <a:blip r:embed="rId1"/>
          <a:stretch/>
        </p:blipFill>
        <p:spPr>
          <a:xfrm>
            <a:off x="6583320" y="4429080"/>
            <a:ext cx="2560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785880" y="428760"/>
            <a:ext cx="713880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ndara"/>
              </a:rPr>
              <a:t>Его применяют для получения дистиллированной воды в фармакологии, а также для заполнения систем охлаждения автомобилей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Picture 2" descr="C:\Documents and Settings\Засранец\Рабочий стол\Новая папка (6)\80.png"/>
          <p:cNvPicPr/>
          <p:nvPr/>
        </p:nvPicPr>
        <p:blipFill>
          <a:blip r:embed="rId1"/>
          <a:stretch/>
        </p:blipFill>
        <p:spPr>
          <a:xfrm>
            <a:off x="1928880" y="3071880"/>
            <a:ext cx="54291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C:\Documents and Settings\Засранец\Рабочий стол\Новая папка (6)\File0222.jpg"/>
          <p:cNvPicPr/>
          <p:nvPr/>
        </p:nvPicPr>
        <p:blipFill>
          <a:blip r:embed="rId1"/>
          <a:stretch/>
        </p:blipFill>
        <p:spPr>
          <a:xfrm>
            <a:off x="857160" y="785880"/>
            <a:ext cx="7267680" cy="5805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785520" y="428760"/>
            <a:ext cx="371484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mbria"/>
              </a:rPr>
              <a:t>Для получения нефтепродуктов: бензина, керосин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mbria"/>
              </a:rPr>
              <a:t>Для получения из воздуха кислорода и азот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:\Documents and Settings\Засранец\Рабочий стол\Новая папка (6)\File0225.jpg"/>
          <p:cNvPicPr/>
          <p:nvPr/>
        </p:nvPicPr>
        <p:blipFill>
          <a:blip r:embed="rId1"/>
          <a:stretch/>
        </p:blipFill>
        <p:spPr>
          <a:xfrm>
            <a:off x="285840" y="2666880"/>
            <a:ext cx="8429400" cy="41911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90c226"/>
                </a:solidFill>
                <a:uFillTx/>
                <a:latin typeface="Trebuchet MS"/>
              </a:rPr>
              <a:t>Фильтрован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Calibri"/>
              </a:rPr>
              <a:t>Применяют для выделения из воды нерастворимых веществ.</a:t>
            </a:r>
            <a:r>
              <a:rPr b="0" i="1" lang="ru-RU" sz="18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Этот метод применяется на водоочистительных станциях. В качестве фильтра там выступает слой песк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3" descr="880243.JPG"/>
          <p:cNvPicPr/>
          <p:nvPr/>
        </p:nvPicPr>
        <p:blipFill>
          <a:blip r:embed="rId1"/>
          <a:stretch/>
        </p:blipFill>
        <p:spPr>
          <a:xfrm>
            <a:off x="979560" y="3571920"/>
            <a:ext cx="3558960" cy="2286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ndara"/>
              </a:rPr>
              <a:t>Фильтры применяют в пылесосах, очищающих воздух от пыл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ndara"/>
              </a:rPr>
              <a:t>Используемые в медицине многослойные марлевые повязки тоже являются своеобразным фильтром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Picture 8" descr="http://www.mirbt.ru/images/goods/pix49774233a7e35.jpg"/>
          <p:cNvPicPr/>
          <p:nvPr/>
        </p:nvPicPr>
        <p:blipFill>
          <a:blip r:embed="rId2"/>
          <a:stretch/>
        </p:blipFill>
        <p:spPr>
          <a:xfrm>
            <a:off x="5500800" y="3571920"/>
            <a:ext cx="151272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дежда Полегенько</cp:lastModifiedBy>
  <dcterms:modified xsi:type="dcterms:W3CDTF">2022-11-13T14:51:44Z</dcterms:modified>
  <cp:revision>67</cp:revision>
  <dc:subject/>
  <dc:title>Физические явления</dc:title>
</cp:coreProperties>
</file>