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0825" cy="6854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B4B6-5637-4A7B-92E0-6ABE402687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8F27-1636-468F-A038-5A513535EF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2872-9339-499D-9AA3-B8215F3FA1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5A01-7A1F-4147-90B9-1F2692E036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0E54-1702-445C-89EE-C0B80E3856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7629-2E04-40D5-9487-D46E55BB26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54CD-E9A1-43FD-BF2B-9A87A27451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CF8C-F6FC-4FE1-A20C-6367E0E72E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3D48-C749-4B29-9804-9A0E8B5269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F76B-6279-4B05-8B7A-D3A64D6D8B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338A-DADE-44AF-A73B-E7316A9DC1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CA27-FB15-4975-B437-DF99EE6E6C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B9E5-B184-4372-9B5D-CCB95DE98D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EC60-3654-4932-8E7B-3260353144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D0F0-6F94-481E-9E17-5E6F16FF12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DDA8-7B6F-473F-8E4C-E9160F54DE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2062-480C-4F5C-A92E-0AAC5E10CA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5709-E790-4866-A01C-D59DAF85D2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BAB5-FA94-4C05-AA16-B24243A88D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D0B2-731E-4C11-BF5B-8AF523F6F5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564E-2C82-4563-BCB5-52269CB6FF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5558-793B-4E00-B60F-10E17DD8F7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28E5-68BC-46D7-81CD-65CD1C63EC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CFA7-BC05-4440-860A-E5251ED5FF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E659-709F-444B-B8C8-2FCD16276A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BFD0-9901-43D5-80FB-36A82DB0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BA4A-CE58-40C9-9323-3AE885BA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3BC-C6F9-4F9E-B818-7304BAAC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88A4-D145-4997-AEEB-1191BD47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3723-6F09-4983-9BE6-E58F64DE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762F-34B7-490A-A349-2D04A7F0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AE71-AC55-4286-BF1D-B710320B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8B91-D3B0-45B7-A04D-7DE4A6EC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EA69-46A1-4E72-9072-A40FA79D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B05E-AC8E-400E-8343-B8C5CA4A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6FC8-6260-4534-96B3-6D8F5C49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0D9-4F69-4FF3-871A-46D5E5E8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C06F-6EDE-4B86-8BCD-56B6B275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6074-9BA6-4D5C-AE24-5259A256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B239-9B82-455C-A2A3-9EB32EF5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78F0-C2CC-415C-86BB-9C361240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85A3-A13C-4B09-8D6C-C3937188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3F79-9668-42E5-9544-33C44B46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F2C-1461-42E2-9A18-4E5F508D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E388-72E1-41EA-A8A3-563ADDD1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E45-47B9-4891-817B-3F3760FB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8B55-0A3C-4704-9361-44E929BA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70D2-98BE-46CF-80D9-0C4BA0B3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6C2-A6E6-486B-BE30-69DAA544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98C6-5B05-459C-9E57-4A33596DDE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6840"/>
            <a:ext cx="9005760" cy="1052640"/>
            <a:chOff x="0" y="2436840"/>
            <a:chExt cx="900576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89080" y="2544840"/>
              <a:ext cx="711000" cy="474480"/>
              <a:chOff x="289080" y="2544840"/>
              <a:chExt cx="71100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89080" y="2544840"/>
                <a:ext cx="43632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1400" y="2544840"/>
                <a:ext cx="328680" cy="47448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2920" y="2967120"/>
              <a:ext cx="738000" cy="474480"/>
              <a:chOff x="412920" y="2967120"/>
              <a:chExt cx="73800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2920" y="2967120"/>
                <a:ext cx="42048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2640" y="2967120"/>
                <a:ext cx="368280" cy="47448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4040"/>
              <a:ext cx="558720" cy="4222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3240" y="2436840"/>
              <a:ext cx="3204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4280" y="3258000"/>
              <a:ext cx="8691480" cy="558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9120" y="212400"/>
            <a:ext cx="77914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88920" y="624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1c1c1c"/>
                </a:solidFill>
                <a:latin typeface="Wingdings"/>
                <a:ea typeface="Wingding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Wingdings"/>
                <a:ea typeface="Wingding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7200" y="624528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1c1c1c"/>
                </a:solidFill>
                <a:latin typeface="Wingdings"/>
                <a:ea typeface="Wingding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Wingdings"/>
                <a:ea typeface="Wingding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4760" y="624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1c1c1c"/>
                </a:solidFill>
                <a:latin typeface="Wingdings"/>
                <a:ea typeface="Wingding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B1CF42-0378-4AD9-B9DE-28FA40D622C6}" type="slidenum">
              <a:rPr b="0" lang="en-US" sz="1400" spc="-1" strike="noStrike">
                <a:solidFill>
                  <a:srgbClr val="1c1c1c"/>
                </a:solidFill>
                <a:latin typeface="Wingdings"/>
                <a:ea typeface="Wingding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88920" y="1555920"/>
            <a:ext cx="777096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  <a:ea typeface="Arial"/>
              </a:rPr>
              <a:t>Индекс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656160" y="3908520"/>
            <a:ext cx="639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5083920"/>
            <a:ext cx="41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646440" y="3643200"/>
            <a:ext cx="43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Иванова Елена Владимиро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Индивидуальный индекс це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это цена товара в базисном период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это цена товара в текущем период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Object 5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3672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Пример 1.  Индивидуальный индекс цен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цена товара в текущем периоде составляла 30рублей, а в базисном 25рублей, то индивидуальный индекс цены = 30/25 = 1,2 или 120%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данном случае цена товара возросла по сравнению с базисным в 1,2 раза или на 20 %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Индивидуальный индекс физического объема реализации (товарооборота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это количество реализованного товара в базисном период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это количество реализованного товара в текущем период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Object 4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2735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Пример 2.Индивидуальный индекс физического объема реализации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отчетном периоде реализовали 260т картофеля , а в базисном 250 т картоф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ig=260 /250 = 1.04 или 104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Индивидуальный индекс товарооборо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это товарооборот за базисный пери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это товарооборот за текущий пери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Object 4" descr=""/>
          <p:cNvPicPr/>
          <p:nvPr/>
        </p:nvPicPr>
        <p:blipFill>
          <a:blip r:embed="rId1"/>
          <a:stretch/>
        </p:blipFill>
        <p:spPr>
          <a:xfrm>
            <a:off x="2479680" y="2492280"/>
            <a:ext cx="37195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Пример 3.Индивидуальный индекс товарооборот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Объект 2" descr=""/>
          <p:cNvPicPr/>
          <p:nvPr/>
        </p:nvPicPr>
        <p:blipFill>
          <a:blip r:embed="rId1"/>
          <a:stretch/>
        </p:blipFill>
        <p:spPr>
          <a:xfrm>
            <a:off x="1139760" y="2017800"/>
            <a:ext cx="7815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Объект 2" descr=""/>
          <p:cNvPicPr/>
          <p:nvPr/>
        </p:nvPicPr>
        <p:blipFill>
          <a:blip r:embed="rId1"/>
          <a:stretch/>
        </p:blipFill>
        <p:spPr>
          <a:xfrm>
            <a:off x="1139760" y="2017800"/>
            <a:ext cx="7815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Tahoma"/>
              </a:rPr>
              <a:t>Задача. </a:t>
            </a:r>
            <a:r>
              <a:rPr b="0" lang="ru-RU" sz="2600" spc="-1" strike="noStrike">
                <a:solidFill>
                  <a:srgbClr val="333399"/>
                </a:solidFill>
                <a:latin typeface="Tahoma"/>
              </a:rPr>
              <a:t>Рассмотрим подробно индивидуальный индекс с учетом условных данных о ценах и реализации продукции за два периода.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11280" y="1844640"/>
          <a:ext cx="8281800" cy="3384720"/>
        </p:xfrm>
        <a:graphic>
          <a:graphicData uri="http://schemas.openxmlformats.org/drawingml/2006/table">
            <a:tbl>
              <a:tblPr/>
              <a:tblGrid>
                <a:gridCol w="1584360"/>
                <a:gridCol w="1152360"/>
                <a:gridCol w="1655640"/>
                <a:gridCol w="1297080"/>
                <a:gridCol w="1295640"/>
                <a:gridCol w="1296720"/>
              </a:tblGrid>
              <a:tr h="6159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ва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ди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етий кварт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твертый кварт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диниц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диниц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1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лок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17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йц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17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ртоф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47" name="Прямоугольник 5"/>
          <p:cNvSpPr/>
          <p:nvPr/>
        </p:nvSpPr>
        <p:spPr>
          <a:xfrm>
            <a:off x="611280" y="55897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ьмем третий квартал как базисный период, тогда четверты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кущий период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Общий индекс цен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водный индекс це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Object 4" descr=""/>
          <p:cNvPicPr/>
          <p:nvPr/>
        </p:nvPicPr>
        <p:blipFill>
          <a:blip r:embed="rId1"/>
          <a:stretch/>
        </p:blipFill>
        <p:spPr>
          <a:xfrm>
            <a:off x="1757520" y="2038320"/>
            <a:ext cx="5556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Индексы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относительный показатель, который характеризует изменение исследуемого явления во времени, в пространстве или по сравнению с планируемым уровнем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Общий индекс  физического объема реализации (товарооборота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водный индекс физического объ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Object 4" descr=""/>
          <p:cNvPicPr/>
          <p:nvPr/>
        </p:nvPicPr>
        <p:blipFill>
          <a:blip r:embed="rId1"/>
          <a:stretch/>
        </p:blipFill>
        <p:spPr>
          <a:xfrm>
            <a:off x="1380960" y="1854360"/>
            <a:ext cx="6002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водный индекс товарообор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Object 4" descr=""/>
          <p:cNvPicPr/>
          <p:nvPr/>
        </p:nvPicPr>
        <p:blipFill>
          <a:blip r:embed="rId1"/>
          <a:stretch/>
        </p:blipFill>
        <p:spPr>
          <a:xfrm>
            <a:off x="1258920" y="2490840"/>
            <a:ext cx="58212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 Общий индекс себестоимост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это себестоимость единиц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Object 4" descr=""/>
          <p:cNvPicPr/>
          <p:nvPr/>
        </p:nvPicPr>
        <p:blipFill>
          <a:blip r:embed="rId1"/>
          <a:stretch/>
        </p:blipFill>
        <p:spPr>
          <a:xfrm>
            <a:off x="1739880" y="2592360"/>
            <a:ext cx="544824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Рассчитать индивидуальный индексы по каждому товару. Сделать выв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Рассчитать сводные индексы. Сделать выв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Данные о реализации продукц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8360" y="1628640"/>
          <a:ext cx="8229600" cy="5026320"/>
        </p:xfrm>
        <a:graphic>
          <a:graphicData uri="http://schemas.openxmlformats.org/drawingml/2006/table">
            <a:tbl>
              <a:tblPr/>
              <a:tblGrid>
                <a:gridCol w="1811160"/>
                <a:gridCol w="790560"/>
                <a:gridCol w="865440"/>
                <a:gridCol w="792000"/>
                <a:gridCol w="792360"/>
                <a:gridCol w="1079280"/>
                <a:gridCol w="1069920"/>
                <a:gridCol w="1028880"/>
              </a:tblGrid>
              <a:tr h="7556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Ю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ГУ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четные граф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кг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, то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кг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,то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реш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с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ногр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Данные о реализации продукц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68360" y="1628640"/>
          <a:ext cx="8229600" cy="5026320"/>
        </p:xfrm>
        <a:graphic>
          <a:graphicData uri="http://schemas.openxmlformats.org/drawingml/2006/table">
            <a:tbl>
              <a:tblPr/>
              <a:tblGrid>
                <a:gridCol w="1811160"/>
                <a:gridCol w="790560"/>
                <a:gridCol w="865440"/>
                <a:gridCol w="792000"/>
                <a:gridCol w="792360"/>
                <a:gridCol w="1079280"/>
                <a:gridCol w="1069920"/>
                <a:gridCol w="1028880"/>
              </a:tblGrid>
              <a:tr h="7556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Ю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ГУ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четные граф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кг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, то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кг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,то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реш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с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ногр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Данные о реализации продукц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68360" y="1628640"/>
          <a:ext cx="8229600" cy="5026320"/>
        </p:xfrm>
        <a:graphic>
          <a:graphicData uri="http://schemas.openxmlformats.org/drawingml/2006/table">
            <a:tbl>
              <a:tblPr/>
              <a:tblGrid>
                <a:gridCol w="1811160"/>
                <a:gridCol w="790560"/>
                <a:gridCol w="865440"/>
                <a:gridCol w="792000"/>
                <a:gridCol w="792360"/>
                <a:gridCol w="1079280"/>
                <a:gridCol w="1069920"/>
                <a:gridCol w="1028880"/>
              </a:tblGrid>
              <a:tr h="7556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Ю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ГУ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четные граф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кг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, то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кг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,то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реш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с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ногр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Данные о реализации продукц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68360" y="1628640"/>
          <a:ext cx="8229600" cy="5026320"/>
        </p:xfrm>
        <a:graphic>
          <a:graphicData uri="http://schemas.openxmlformats.org/drawingml/2006/table">
            <a:tbl>
              <a:tblPr/>
              <a:tblGrid>
                <a:gridCol w="1811160"/>
                <a:gridCol w="790560"/>
                <a:gridCol w="865440"/>
                <a:gridCol w="792000"/>
                <a:gridCol w="792360"/>
                <a:gridCol w="1079280"/>
                <a:gridCol w="1069920"/>
                <a:gridCol w="1028880"/>
              </a:tblGrid>
              <a:tr h="7556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Ю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ГУ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четные граф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кг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, то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кг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,то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реш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с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ногр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Данные о реализации продукц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1628640"/>
          <a:ext cx="8229600" cy="5026320"/>
        </p:xfrm>
        <a:graphic>
          <a:graphicData uri="http://schemas.openxmlformats.org/drawingml/2006/table">
            <a:tbl>
              <a:tblPr/>
              <a:tblGrid>
                <a:gridCol w="1811160"/>
                <a:gridCol w="790560"/>
                <a:gridCol w="865440"/>
                <a:gridCol w="792000"/>
                <a:gridCol w="792360"/>
                <a:gridCol w="1079280"/>
                <a:gridCol w="1069920"/>
                <a:gridCol w="1028880"/>
              </a:tblGrid>
              <a:tr h="7556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Ю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ГУ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четные граф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кг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, то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кг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,то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реш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с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ногр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иды индексо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1. динамические и пространственные (территориальные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1.1 Динамические индекс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характеризуют изменение одной и той же статистической совокупности на основании сравнения показателей за 2 периода или боле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1.2 Пространственные индекс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ются для сравнения показателей по двум статистическим совокупностям в пространстве (два города, два предприятия, два региона и т.д.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Данные о реализации продукц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8360" y="1628640"/>
          <a:ext cx="8229600" cy="5026320"/>
        </p:xfrm>
        <a:graphic>
          <a:graphicData uri="http://schemas.openxmlformats.org/drawingml/2006/table">
            <a:tbl>
              <a:tblPr/>
              <a:tblGrid>
                <a:gridCol w="1811160"/>
                <a:gridCol w="790560"/>
                <a:gridCol w="865440"/>
                <a:gridCol w="792000"/>
                <a:gridCol w="792360"/>
                <a:gridCol w="1079280"/>
                <a:gridCol w="1069920"/>
                <a:gridCol w="1028880"/>
              </a:tblGrid>
              <a:tr h="7556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Ю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ГУ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четные граф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кг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, то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кг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,то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реш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с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7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ногр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Данные о реализации продукц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68360" y="1628640"/>
          <a:ext cx="8229600" cy="5026320"/>
        </p:xfrm>
        <a:graphic>
          <a:graphicData uri="http://schemas.openxmlformats.org/drawingml/2006/table">
            <a:tbl>
              <a:tblPr/>
              <a:tblGrid>
                <a:gridCol w="1811160"/>
                <a:gridCol w="790560"/>
                <a:gridCol w="865440"/>
                <a:gridCol w="792000"/>
                <a:gridCol w="792360"/>
                <a:gridCol w="1079280"/>
                <a:gridCol w="1069920"/>
                <a:gridCol w="1028880"/>
              </a:tblGrid>
              <a:tr h="7556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Ю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ВГУ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четные граф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кг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, то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кг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,то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реш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с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7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ногр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3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Данные о реализации продукции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по регионам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1628640"/>
          <a:ext cx="8229600" cy="4378320"/>
        </p:xfrm>
        <a:graphic>
          <a:graphicData uri="http://schemas.openxmlformats.org/drawingml/2006/table">
            <a:tbl>
              <a:tblPr/>
              <a:tblGrid>
                <a:gridCol w="1295280"/>
                <a:gridCol w="863640"/>
                <a:gridCol w="936720"/>
                <a:gridCol w="936720"/>
                <a:gridCol w="863280"/>
                <a:gridCol w="1079640"/>
                <a:gridCol w="1152720"/>
                <a:gridCol w="1101600"/>
              </a:tblGrid>
              <a:tr h="7556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ги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ю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четные граф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шт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,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шт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(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,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Данные о реализации продукции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по регионам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68360" y="1628640"/>
          <a:ext cx="8229600" cy="4378320"/>
        </p:xfrm>
        <a:graphic>
          <a:graphicData uri="http://schemas.openxmlformats.org/drawingml/2006/table">
            <a:tbl>
              <a:tblPr/>
              <a:tblGrid>
                <a:gridCol w="1295280"/>
                <a:gridCol w="863640"/>
                <a:gridCol w="936720"/>
                <a:gridCol w="936720"/>
                <a:gridCol w="863280"/>
                <a:gridCol w="1079640"/>
                <a:gridCol w="1152720"/>
                <a:gridCol w="1101600"/>
              </a:tblGrid>
              <a:tr h="7556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ги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ю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четные граф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шт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,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шт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(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,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Данные о реализации продукции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по регионам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68360" y="1628640"/>
          <a:ext cx="8229600" cy="4459320"/>
        </p:xfrm>
        <a:graphic>
          <a:graphicData uri="http://schemas.openxmlformats.org/drawingml/2006/table">
            <a:tbl>
              <a:tblPr/>
              <a:tblGrid>
                <a:gridCol w="1295280"/>
                <a:gridCol w="863640"/>
                <a:gridCol w="936720"/>
                <a:gridCol w="936720"/>
                <a:gridCol w="863280"/>
                <a:gridCol w="1079640"/>
                <a:gridCol w="1152720"/>
                <a:gridCol w="1101600"/>
              </a:tblGrid>
              <a:tr h="7556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ги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ю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четные граф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шт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,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шт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б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(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,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00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400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00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400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100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300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400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00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000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3  Индекс сравнения фактических данных с плановыми (договорными,  нормативными, прогнозируемым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2. по охвату единицы совокупност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2.1. индивидуальные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)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ссчитываются по одной единице совокупност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2.2. сводные (общие) индексы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(I)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ычисляются по нескольким видам товаров, продукции выпускаемой одним предприятием или всеми предприятиями отрасл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В зависимости от содержания индексируемой величины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дексы количественных показателей характеризуют (весь объем статистической совокупности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дексы качественных показателей (характеризуют единицу статистической совокупности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 способу сравнения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азисные, когда база сравнения постоянн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пные, когда база сравнения переменн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ндивидуальные индек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ндивидуальный индек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относительный показатель, получающийся в результате сравнения двух абсолютных величин, характеризующих уровень изучаемого явления для двух разных периодов, где в числители уровень отчетного периода, а знаменателе уровень базисного период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Индексы выражаются в форме коэффициентов, в процента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07:15:01Z</dcterms:created>
  <dc:creator>server</dc:creator>
  <dc:description/>
  <dc:language>en-US</dc:language>
  <cp:lastModifiedBy>lenovo</cp:lastModifiedBy>
  <dcterms:modified xsi:type="dcterms:W3CDTF">2022-11-13T15:04:26Z</dcterms:modified>
  <cp:revision>0</cp:revision>
  <dc:subject/>
  <dc:title>흡鴨揄�</dc:title>
</cp:coreProperties>
</file>