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2.wmf" ContentType="image/x-wmf"/>
  <Override PartName="/ppt/media/image4.gif" ContentType="image/gif"/>
  <Override PartName="/ppt/media/image7.png" ContentType="image/png"/>
  <Override PartName="/ppt/media/image1.jpeg" ContentType="image/jpeg"/>
  <Override PartName="/ppt/media/image24.wmf" ContentType="image/x-wmf"/>
  <Override PartName="/ppt/media/image21.gif" ContentType="image/gif"/>
  <Override PartName="/ppt/media/image23.gif" ContentType="image/gif"/>
  <Override PartName="/ppt/media/image15.png" ContentType="image/png"/>
  <Override PartName="/ppt/media/image20.wmf" ContentType="image/x-wmf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017-46C8-488F-BA3E-97FB1E64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470-DF84-459E-B720-665E5DB6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F5D-963E-4A76-9500-A2EE2E52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686-9EA7-47D7-93F6-016458E4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63C-07A7-4759-B1D1-E1C3F364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CEB-AD66-4451-AEEB-63FE3CA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78A-51B0-4470-B9A8-693654F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8BC-BCAE-45FE-96EF-721D0ACC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50F-C18C-45C8-B94B-7EBACA8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3D9-C182-417F-8568-3E74039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25A-86C3-45A0-97C1-81026082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618-1B1B-4745-BFE8-9E89DF9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4D3-3D4F-428C-945E-774156E470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8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УРОК ЛИТЕРАТУРНОГО ЧТЕНИЯ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2 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ас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МБОУ Излучинской ОСШ №1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Муленкова И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Словарная работа: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1 ча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Раздобр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еста себе не находи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озгами раскидыва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Позабавиться досыт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CGA035"/>
          <p:cNvPicPr/>
          <p:nvPr/>
        </p:nvPicPr>
        <p:blipFill>
          <a:blip r:embed="rId1"/>
          <a:stretch/>
        </p:blipFill>
        <p:spPr>
          <a:xfrm>
            <a:off x="304920" y="304920"/>
            <a:ext cx="147312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3352680" y="2133720"/>
            <a:ext cx="5486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авился, растолсте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638680" y="2590920"/>
            <a:ext cx="372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знать поко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029200" y="4191120"/>
            <a:ext cx="3962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умать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мышля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001480" y="541008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играть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20ce7"/>
                </a:solidFill>
                <a:latin typeface="Tahoma"/>
              </a:rPr>
              <a:t>Физ.минутка</a:t>
            </a:r>
            <a:r>
              <a:rPr b="0" lang="ru-RU" sz="4400" spc="-1" strike="noStrike">
                <a:solidFill>
                  <a:srgbClr val="e20ce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о дорожке, по дорож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качем мы на правой нож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о этой же дорож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чем мы на левой нож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о тропинке побеж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До лужайки добеж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лужайке, на лужай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прыгаем как зай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оп. Немного отдохн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И домой пешком пойд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J0095758"/>
          <p:cNvPicPr/>
          <p:nvPr/>
        </p:nvPicPr>
        <p:blipFill>
          <a:blip r:embed="rId1"/>
          <a:stretch/>
        </p:blipFill>
        <p:spPr>
          <a:xfrm>
            <a:off x="7696080" y="4876920"/>
            <a:ext cx="1143000" cy="144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58"/>
          <p:cNvPicPr/>
          <p:nvPr/>
        </p:nvPicPr>
        <p:blipFill>
          <a:blip r:embed="rId2"/>
          <a:stretch/>
        </p:blipFill>
        <p:spPr>
          <a:xfrm>
            <a:off x="609480" y="4724280"/>
            <a:ext cx="1219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0ce7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раткий пересказ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4 и 5 част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" descr="SCHOOLDK"/>
          <p:cNvPicPr/>
          <p:nvPr/>
        </p:nvPicPr>
        <p:blipFill>
          <a:blip r:embed="rId1"/>
          <a:stretch/>
        </p:blipFill>
        <p:spPr>
          <a:xfrm>
            <a:off x="2590920" y="3505320"/>
            <a:ext cx="3779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0ce7"/>
                </a:solidFill>
                <a:latin typeface="Tahoma"/>
              </a:rPr>
              <a:t>Итог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ам понравился уро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дведём, друзья итог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Что сегодня                        Что сей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олучилос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е удало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1357200" y="4572000"/>
            <a:ext cx="914400" cy="9144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388620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6477120" y="4648320"/>
            <a:ext cx="91440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№4"/>
          <p:cNvPicPr/>
          <p:nvPr/>
        </p:nvPicPr>
        <p:blipFill>
          <a:blip r:embed="rId1"/>
          <a:stretch/>
        </p:blipFill>
        <p:spPr>
          <a:xfrm>
            <a:off x="3505320" y="2590920"/>
            <a:ext cx="2438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пасибо за урок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CGF1B1"/>
          <p:cNvPicPr/>
          <p:nvPr/>
        </p:nvPicPr>
        <p:blipFill>
          <a:blip r:embed="rId1"/>
          <a:stretch/>
        </p:blipFill>
        <p:spPr>
          <a:xfrm>
            <a:off x="1752480" y="2438280"/>
            <a:ext cx="54849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ДЕВИЗ УРОКА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Нужно уметь не только читать, но и думать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казка ложь,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 да в ней намёк,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 добрым  молодцам</a:t>
            </a:r>
            <a:br>
              <a:rPr sz="7200"/>
            </a:br>
            <a:r>
              <a:rPr b="1" lang="ru-RU" sz="7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урок.</a:t>
            </a:r>
            <a:br>
              <a:rPr sz="7200"/>
            </a:b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10" descr="03"/>
          <p:cNvPicPr/>
          <p:nvPr/>
        </p:nvPicPr>
        <p:blipFill>
          <a:blip r:embed="rId1"/>
          <a:stretch/>
        </p:blipFill>
        <p:spPr>
          <a:xfrm>
            <a:off x="7467480" y="228600"/>
            <a:ext cx="153360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baby18"/>
          <p:cNvPicPr/>
          <p:nvPr/>
        </p:nvPicPr>
        <p:blipFill>
          <a:blip r:embed="rId2"/>
          <a:stretch/>
        </p:blipFill>
        <p:spPr>
          <a:xfrm>
            <a:off x="914400" y="5105520"/>
            <a:ext cx="10666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Что такое сказка?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Выбери верную формулировку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1.Сказка – это произведение о вымышленных лицах и событиях, чаще с участием волшебных фантастических си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2. Сказка – это научно-фантастическое    произве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AG00373_"/>
          <p:cNvPicPr/>
          <p:nvPr/>
        </p:nvPicPr>
        <p:blipFill>
          <a:blip r:embed="rId1"/>
          <a:stretch/>
        </p:blipFill>
        <p:spPr>
          <a:xfrm>
            <a:off x="7315200" y="4876920"/>
            <a:ext cx="1676520" cy="161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Опять роз пантера"/>
          <p:cNvPicPr/>
          <p:nvPr/>
        </p:nvPicPr>
        <p:blipFill>
          <a:blip r:embed="rId2"/>
          <a:stretch/>
        </p:blipFill>
        <p:spPr>
          <a:xfrm>
            <a:off x="6934320" y="152280"/>
            <a:ext cx="129528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457200" y="5029200"/>
            <a:ext cx="76201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3. Сказка – это произведение в                               котором разговаривают живот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868680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Найди ошибк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28600" y="2743200"/>
            <a:ext cx="144792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Ю.Мори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Слоних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лоне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и слон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828800" y="2743200"/>
            <a:ext cx="15238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Братья Гри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«Еж и заяц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505320" y="2743200"/>
            <a:ext cx="15238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Рус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ка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Лиса и ра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181480" y="2743200"/>
            <a:ext cx="152424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Рус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ка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Напуга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едве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и  вол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934320" y="2743200"/>
            <a:ext cx="15238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Африкан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ка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«Похожд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ди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к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Симбы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9" descr="слон3"/>
          <p:cNvPicPr/>
          <p:nvPr/>
        </p:nvPicPr>
        <p:blipFill>
          <a:blip r:embed="rId1"/>
          <a:stretch/>
        </p:blipFill>
        <p:spPr>
          <a:xfrm>
            <a:off x="380880" y="510552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Rabbit03"/>
          <p:cNvPicPr/>
          <p:nvPr/>
        </p:nvPicPr>
        <p:blipFill>
          <a:blip r:embed="rId2"/>
          <a:stretch/>
        </p:blipFill>
        <p:spPr>
          <a:xfrm>
            <a:off x="2057400" y="4572000"/>
            <a:ext cx="10954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r3"/>
          <p:cNvPicPr/>
          <p:nvPr/>
        </p:nvPicPr>
        <p:blipFill>
          <a:blip r:embed="rId3"/>
          <a:stretch/>
        </p:blipFill>
        <p:spPr>
          <a:xfrm>
            <a:off x="3657600" y="51055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u9"/>
          <p:cNvPicPr/>
          <p:nvPr/>
        </p:nvPicPr>
        <p:blipFill>
          <a:blip r:embed="rId4"/>
          <a:stretch/>
        </p:blipFill>
        <p:spPr>
          <a:xfrm>
            <a:off x="5410080" y="502920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at27"/>
          <p:cNvPicPr/>
          <p:nvPr/>
        </p:nvPicPr>
        <p:blipFill>
          <a:blip r:embed="rId5"/>
          <a:stretch/>
        </p:blipFill>
        <p:spPr>
          <a:xfrm>
            <a:off x="7315200" y="495288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лан расска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1.Где живет Симб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.Чем он занимае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3.Какой кот в сказк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4.Твое отношение к коту Симб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An00790_"/>
          <p:cNvPicPr/>
          <p:nvPr/>
        </p:nvPicPr>
        <p:blipFill>
          <a:blip r:embed="rId1"/>
          <a:stretch/>
        </p:blipFill>
        <p:spPr>
          <a:xfrm>
            <a:off x="152280" y="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фроамериканцы – темнокожее население США или американские негр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8" descr="PH01861J"/>
          <p:cNvPicPr/>
          <p:nvPr/>
        </p:nvPicPr>
        <p:blipFill>
          <a:blip r:embed="rId1"/>
          <a:stretch/>
        </p:blipFill>
        <p:spPr>
          <a:xfrm>
            <a:off x="228600" y="2057400"/>
            <a:ext cx="426708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PH01999J"/>
          <p:cNvPicPr/>
          <p:nvPr/>
        </p:nvPicPr>
        <p:blipFill>
          <a:blip r:embed="rId2"/>
          <a:stretch/>
        </p:blipFill>
        <p:spPr>
          <a:xfrm>
            <a:off x="5105520" y="205740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600206-Tropical-Fish-String-Lights"/>
          <p:cNvPicPr/>
          <p:nvPr/>
        </p:nvPicPr>
        <p:blipFill>
          <a:blip r:embed="rId1"/>
          <a:srcRect l="50013" t="3993" r="4661" b="67674"/>
          <a:stretch/>
        </p:blipFill>
        <p:spPr>
          <a:xfrm>
            <a:off x="-2341440" y="836640"/>
            <a:ext cx="2592360" cy="163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600206-Tropical-Fish-String-Lights"/>
          <p:cNvPicPr/>
          <p:nvPr/>
        </p:nvPicPr>
        <p:blipFill>
          <a:blip r:embed="rId2"/>
          <a:srcRect l="4661" t="62560" r="55064" b="4674"/>
          <a:stretch/>
        </p:blipFill>
        <p:spPr>
          <a:xfrm>
            <a:off x="3995640" y="4724280"/>
            <a:ext cx="2590920" cy="1909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600206-Tropical-Fish-String-Lights"/>
          <p:cNvPicPr/>
          <p:nvPr/>
        </p:nvPicPr>
        <p:blipFill>
          <a:blip r:embed="rId3"/>
          <a:srcRect l="4661" t="65117" r="49950" b="4674"/>
          <a:stretch/>
        </p:blipFill>
        <p:spPr>
          <a:xfrm>
            <a:off x="5867280" y="620640"/>
            <a:ext cx="266400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600206-Tropical-Fish-String-Lights"/>
          <p:cNvPicPr/>
          <p:nvPr/>
        </p:nvPicPr>
        <p:blipFill>
          <a:blip r:embed="rId4"/>
          <a:srcRect l="29831" t="34895" r="29844" b="37276"/>
          <a:stretch/>
        </p:blipFill>
        <p:spPr>
          <a:xfrm>
            <a:off x="9325080" y="3933720"/>
            <a:ext cx="2519280" cy="173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600206-Tropical-Fish-String-Lights"/>
          <p:cNvPicPr/>
          <p:nvPr/>
        </p:nvPicPr>
        <p:blipFill>
          <a:blip r:embed="rId5"/>
          <a:srcRect l="51587" t="4611" r="4661" b="65697"/>
          <a:stretch/>
        </p:blipFill>
        <p:spPr>
          <a:xfrm>
            <a:off x="3276720" y="2276640"/>
            <a:ext cx="2592360" cy="170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600206-Tropical-Fish-String-Lights"/>
          <p:cNvPicPr/>
          <p:nvPr/>
        </p:nvPicPr>
        <p:blipFill>
          <a:blip r:embed="rId6"/>
          <a:srcRect l="50013" t="3993" r="4661" b="67674"/>
          <a:stretch/>
        </p:blipFill>
        <p:spPr>
          <a:xfrm>
            <a:off x="-2592360" y="907920"/>
            <a:ext cx="2592360" cy="17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600206-Tropical-Fish-String-Lights"/>
          <p:cNvPicPr/>
          <p:nvPr/>
        </p:nvPicPr>
        <p:blipFill>
          <a:blip r:embed="rId7"/>
          <a:srcRect l="29831" t="34895" r="29844" b="37276"/>
          <a:stretch/>
        </p:blipFill>
        <p:spPr>
          <a:xfrm>
            <a:off x="9540720" y="4149720"/>
            <a:ext cx="2519640" cy="173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C 0.01007 0.0706 0.03664 0.16944 0.13177 0.16805 C 0.26841 0.16805 0.27952 -0.16274 0.44358 -0.16389 C 0.59132 -0.16389 0.51233 0.12523 0.65452 0.12407 C 0.80209 0.12407 0.72309 -0.08542 0.88195 -0.08542 C 1.02414 -0.08542 0.94514 0.05601 1.07188 0.05601 C 1.19358 0.05601 1.13039 -0.05209 1.24132 -0.05209 C 1.30452 -0.05209 1.30921 -0.02269 1.31511 4.44444E-006 E">
                                      <p:cBhvr>
                                        <p:cTn id="30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3 -2.96296E-006 C 0.21893 0.0706 0.18872 0.16945 0.07622 0.16806 C -0.08593 0.16806 -0.09809 -0.16273 -0.29166 -0.16389 C -0.46562 -0.16389 -0.37274 0.12523 -0.54027 0.12408 C -0.71562 0.12408 -0.6217 -0.08541 -0.80868 -0.08541 C -0.97639 -0.08541 -0.8835 0.05602 -1.03229 0.05602 C -1.17569 0.05602 -1.10139 -0.05208 -1.23211 -0.05208 C -1.30659 -0.05208 -1.31198 -0.02268 -1.31892 -2.96296E-006 E">
                                      <p:cBhvr>
                                        <p:cTn id="33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3 0.13935 C -0.30521 0.20995 -0.27968 0.30879 -0.18819 0.3074 C -0.05694 0.3074 -0.04618 -0.02338 0.11146 -0.02454 C 0.2533 -0.02454 0.17743 0.26458 0.31389 0.26342 C 0.45591 0.26342 0.37986 0.05393 0.53264 0.05393 C 0.66927 0.05393 0.59323 0.19537 0.71511 0.19537 C 0.83212 0.19537 0.77118 0.08727 0.87795 0.08727 C 0.93872 0.08727 0.94323 0.11666 0.94879 0.13935 E">
                                      <p:cBhvr>
                                        <p:cTn id="40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13843 C 0.07274 -0.07732 0.10555 0.01412 0.05607 0.06504 C -0.01545 0.14074 -0.17483 -0.11227 -0.2599 -0.02408 C -0.33577 0.05717 -0.16059 0.24027 -0.23438 0.31666 C -0.31129 0.39838 -0.36771 0.19074 -0.44896 0.27731 C -0.52223 0.35532 -0.41598 0.42222 -0.48143 0.49166 C -0.54375 0.55879 -0.56198 0.43888 -0.6191 0.5 C -0.65174 0.53449 -0.63993 0.56018 -0.6323 0.58078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17 0.29723 C 0.19878 0.20487 0.22326 0.07014 0.13819 0.01181 C 0.01649 -0.07407 -0.15087 0.3176 -0.29688 0.21621 C -0.42743 0.12431 -0.21927 -0.17453 -0.34566 -0.26226 C -0.47726 -0.35532 -0.50695 -0.05324 -0.64705 -0.15231 C -0.77309 -0.24143 -0.63577 -0.36226 -0.7474 -0.44166 C -0.85486 -0.51759 -0.8507 -0.34791 -0.94896 -0.41759 C -1.00486 -0.45694 -0.9948 -0.49513 -0.98941 -0.52615 E">
                                      <p:cBhvr>
                                        <p:cTn id="58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726 -0.58796 C -0.60868 -0.5993 -0.46667 -0.50532 -0.46181 -0.37638 C -0.45608 -0.24699 -0.58959 -0.13194 -0.75816 -0.11944 C -0.92743 -0.10694 -1.0691 -0.20277 -1.07431 -0.33194 C -1.07969 -0.46134 -0.9467 -0.57615 -0.77726 -0.58796 Z">
                                      <p:cBhvr>
                                        <p:cTn id="61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C:\Documents and Settings\Учитель\Мои документы\Мои результаты сканировани\2009-02 (фев)\сканирование0008.jpg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22-11-13T11:17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