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ACE3-E691-4409-A05C-81FE746C1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AA8D-2AC6-4FC4-AB1C-E0A53976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BCCB-696B-43E7-9E5E-0219987B8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3530-40A8-4C76-9B6A-CC1DEF894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55C1-D881-423F-82B3-4240D34E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6AF2-45D5-4DFC-8E71-2442FA50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27AE-43ED-474E-B708-0C48B0D0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8A0D-9BDC-4A91-BFAA-0821F965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3CF4-F36D-4B63-9B03-3F32FF3B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13FC-7348-4C8D-BE87-0CB10F0E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B772-3F0D-493D-B15B-3C98056A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06A7-BECB-4B49-9404-77857585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C658-7209-42D5-A630-EA822C0A6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КАК ГОВОРИТЬ, ЧТОБЫ ПОДРОСТКИ СЛУШАЛИ, И КАК СЛУШАТЬ, ЧТОБЫ ПОДРОСТКИ ГОВОРИ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ПРИНИМАЙТЕ ЧУВСТВА ПОДРОСТ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нтифицируйте мысли и чув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агируйте на чувства словами или междомет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ложите в виде фантазии то, чего не можете дать в реа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очувствуйте, одновременно внося коррективы в по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ПООЩРЯЙТЕ СОТРУДНИЧ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ишите пробл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ишите свои чувства или ощу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информиру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ложите выб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ажите одним слов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звучьте свои жизненные ценности и ожи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делайте что-нибудь неожида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ложите в письменном ви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ИСПОЛЬЗУЙТЕ АЛЬТЕРНАТИВЫ НАКАЗАН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разите свои чув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явите о своих ожида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ложите возможность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скажите, как можно загладить ви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ринимайте активные 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СОВМЕСТНО РЕШАЙТЕ ПРОБЛЕМ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ложите подростку выразить свою точку з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скажите свою точку з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ложите подростку устроить совместный «мозговой штур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пишите все возникшие идеи. Не оценивая 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анализируйте полученный список и решите, какие из идей вам хотелось бы воплот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ПРИМИТЕ И ПРИЗНАЙТЕ ЧУВСТВА ПОДРОСТ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очувствуйте звуком или сл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нтифицируйте чув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ложите в виде фантазии то, чего не можете дать в реа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НАШИ ДЕТИ -  ЭТО НАШ ПОДАРОК БУДУЩЕ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Сделайте этот подарок достойным и приятны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0T18:53:49Z</dcterms:created>
  <dc:creator>COMP</dc:creator>
  <dc:description/>
  <dc:language>en-US</dc:language>
  <cp:lastModifiedBy>COMP</cp:lastModifiedBy>
  <dcterms:modified xsi:type="dcterms:W3CDTF">2012-12-10T19:06:11Z</dcterms:modified>
  <cp:revision>2</cp:revision>
  <dc:subject/>
  <dc:title> КАК ГОВОРИТЬ, ЧТОБЫ ПОДРОСТКИ СЛУШАЛИ, И КАК СЛУШАТЬ, ЧТОБЫ ПОДРОСТКИ ГОВОРИЛИ</dc:title>
</cp:coreProperties>
</file>