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34E-99E3-4753-9520-BF8F9563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7D4-B360-4108-9C90-21601E06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005-0F45-45F1-A498-0A10126A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1EA-CFB1-474A-A665-6DA6B277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FB4-D36E-4553-81A4-14135FEA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D09-42E7-4421-AFB7-1BD5DD93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6FA-D7A7-4BB4-9F64-D31DA836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3B9-8422-4C98-B9DB-0DFAD285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D60-8743-4F8C-9B67-35D2242E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C5C-00BC-45C5-86CE-78575C1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6D4-EE07-4FA4-89AF-3777A52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992-FA6E-4EEA-A73C-924CC66C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7F19-1519-4AFE-B786-AF6D7426A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zagadki-dlya-detej.ru/zagadki-pro-babushku/" TargetMode="External"/><Relationship Id="rId2" Type="http://schemas.openxmlformats.org/officeDocument/2006/relationships/hyperlink" Target="https://zagadki-dlya-detej.ru/zagadki-pro-babushk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779840" y="2276640"/>
            <a:ext cx="548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россворд – квест по миниатюр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.П. Деткова «Такая арифмети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656800" y="4221000"/>
            <a:ext cx="3548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МБОУ «Гимназия № 25» г. Кур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Агаркова  Ольга Геннад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/>
          <p:cNvSpPr/>
          <p:nvPr/>
        </p:nvSpPr>
        <p:spPr>
          <a:xfrm>
            <a:off x="664920" y="27082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1812960" y="1946160"/>
            <a:ext cx="56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2881800" y="2320920"/>
            <a:ext cx="49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794400" y="1349280"/>
            <a:ext cx="56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915440" y="2320920"/>
            <a:ext cx="6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alibri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5946480" y="4869000"/>
            <a:ext cx="58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6951600" y="4000680"/>
            <a:ext cx="5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197400" y="3040200"/>
            <a:ext cx="5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6238800" y="1890720"/>
            <a:ext cx="5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Овал 14"/>
          <p:cNvSpPr/>
          <p:nvPr/>
        </p:nvSpPr>
        <p:spPr>
          <a:xfrm>
            <a:off x="407880" y="2643120"/>
            <a:ext cx="1189080" cy="119052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6 •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Овал 15"/>
          <p:cNvSpPr/>
          <p:nvPr/>
        </p:nvSpPr>
        <p:spPr>
          <a:xfrm>
            <a:off x="1461960" y="2066760"/>
            <a:ext cx="1266840" cy="114948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17 +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вал 16"/>
          <p:cNvSpPr/>
          <p:nvPr/>
        </p:nvSpPr>
        <p:spPr>
          <a:xfrm>
            <a:off x="922320" y="4368960"/>
            <a:ext cx="1173240" cy="114768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6 •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вал 17"/>
          <p:cNvSpPr/>
          <p:nvPr/>
        </p:nvSpPr>
        <p:spPr>
          <a:xfrm>
            <a:off x="4687920" y="2239920"/>
            <a:ext cx="1208160" cy="117792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50 - 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Овал 18"/>
          <p:cNvSpPr/>
          <p:nvPr/>
        </p:nvSpPr>
        <p:spPr>
          <a:xfrm>
            <a:off x="2554200" y="4051440"/>
            <a:ext cx="1225800" cy="110628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12 •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19"/>
          <p:cNvSpPr/>
          <p:nvPr/>
        </p:nvSpPr>
        <p:spPr>
          <a:xfrm>
            <a:off x="5902200" y="3151080"/>
            <a:ext cx="1181160" cy="114804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48 :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21"/>
          <p:cNvSpPr/>
          <p:nvPr/>
        </p:nvSpPr>
        <p:spPr>
          <a:xfrm>
            <a:off x="3576600" y="1366920"/>
            <a:ext cx="1209600" cy="113832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8 •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Овал 22"/>
          <p:cNvSpPr/>
          <p:nvPr/>
        </p:nvSpPr>
        <p:spPr>
          <a:xfrm>
            <a:off x="4111560" y="3594240"/>
            <a:ext cx="1181160" cy="113004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48 :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24"/>
          <p:cNvSpPr/>
          <p:nvPr/>
        </p:nvSpPr>
        <p:spPr>
          <a:xfrm>
            <a:off x="7389720" y="2027160"/>
            <a:ext cx="1197000" cy="122868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50 - 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Овал 25"/>
          <p:cNvSpPr/>
          <p:nvPr/>
        </p:nvSpPr>
        <p:spPr>
          <a:xfrm>
            <a:off x="6769080" y="4000680"/>
            <a:ext cx="1258920" cy="115704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7 - 5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26"/>
          <p:cNvSpPr/>
          <p:nvPr/>
        </p:nvSpPr>
        <p:spPr>
          <a:xfrm>
            <a:off x="5651640" y="4884840"/>
            <a:ext cx="1179360" cy="106524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2 :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7"/>
          <p:cNvSpPr/>
          <p:nvPr/>
        </p:nvSpPr>
        <p:spPr>
          <a:xfrm>
            <a:off x="806400" y="26820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3. Что  делал отец, чтобы объяснить мальчику, что он не прав? Найди примеры с ответом  24. Нажми на кружок. Собери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28"/>
          <p:cNvSpPr/>
          <p:nvPr/>
        </p:nvSpPr>
        <p:spPr>
          <a:xfrm>
            <a:off x="2786040" y="2441520"/>
            <a:ext cx="1198440" cy="112392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12 •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29"/>
          <p:cNvSpPr/>
          <p:nvPr/>
        </p:nvSpPr>
        <p:spPr>
          <a:xfrm>
            <a:off x="6021360" y="1890720"/>
            <a:ext cx="1209600" cy="112860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48 - 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03280" y="1413000"/>
          <a:ext cx="6216840" cy="3475080"/>
        </p:xfrm>
        <a:graphic>
          <a:graphicData uri="http://schemas.openxmlformats.org/drawingml/2006/table">
            <a:tbl>
              <a:tblPr/>
              <a:tblGrid>
                <a:gridCol w="517680"/>
                <a:gridCol w="519120"/>
                <a:gridCol w="517320"/>
                <a:gridCol w="517680"/>
                <a:gridCol w="519120"/>
                <a:gridCol w="517320"/>
                <a:gridCol w="517680"/>
                <a:gridCol w="519120"/>
                <a:gridCol w="517680"/>
                <a:gridCol w="517320"/>
                <a:gridCol w="519120"/>
                <a:gridCol w="5176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2"/>
          <p:cNvSpPr/>
          <p:nvPr/>
        </p:nvSpPr>
        <p:spPr>
          <a:xfrm>
            <a:off x="2661480" y="443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2053440" y="3860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1045440" y="328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3115440" y="2678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1550160" y="213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1550160" y="1484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2907360" y="549360"/>
            <a:ext cx="25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362240" y="1844640"/>
          <a:ext cx="6359400" cy="31687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3320"/>
                <a:gridCol w="1271520"/>
                <a:gridCol w="1271520"/>
              </a:tblGrid>
              <a:tr h="60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Прямоугольник 4"/>
          <p:cNvSpPr/>
          <p:nvPr/>
        </p:nvSpPr>
        <p:spPr>
          <a:xfrm>
            <a:off x="950760" y="47628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3. Что  растопило упрямство мальчи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спомни игру «Морской бой». Прочти слово по координа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5"/>
          <p:cNvSpPr/>
          <p:nvPr/>
        </p:nvSpPr>
        <p:spPr>
          <a:xfrm>
            <a:off x="3059280" y="197316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4387680" y="2039760"/>
            <a:ext cx="308160" cy="306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Равнобедренный треугольник 7"/>
          <p:cNvSpPr/>
          <p:nvPr/>
        </p:nvSpPr>
        <p:spPr>
          <a:xfrm>
            <a:off x="5659560" y="199080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5-конечная звезда 8"/>
          <p:cNvSpPr/>
          <p:nvPr/>
        </p:nvSpPr>
        <p:spPr>
          <a:xfrm>
            <a:off x="6875640" y="1990800"/>
            <a:ext cx="360360" cy="306360"/>
          </a:xfrm>
          <a:custGeom>
            <a:avLst/>
            <a:gdLst/>
            <a:ahLst/>
            <a:rect l="l" t="t" r="r" b="b"/>
            <a:pathLst>
              <a:path w="360362" h="306388">
                <a:moveTo>
                  <a:pt x="0" y="117030"/>
                </a:moveTo>
                <a:lnTo>
                  <a:pt x="137647" y="117030"/>
                </a:lnTo>
                <a:lnTo>
                  <a:pt x="180181" y="0"/>
                </a:lnTo>
                <a:lnTo>
                  <a:pt x="222715" y="117030"/>
                </a:lnTo>
                <a:lnTo>
                  <a:pt x="360362" y="117030"/>
                </a:lnTo>
                <a:lnTo>
                  <a:pt x="249003" y="189357"/>
                </a:lnTo>
                <a:lnTo>
                  <a:pt x="291539" y="306387"/>
                </a:lnTo>
                <a:lnTo>
                  <a:pt x="180181" y="234058"/>
                </a:lnTo>
                <a:lnTo>
                  <a:pt x="68823" y="306387"/>
                </a:lnTo>
                <a:lnTo>
                  <a:pt x="111359" y="189357"/>
                </a:lnTo>
                <a:lnTo>
                  <a:pt x="0" y="11703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814680" y="5373720"/>
            <a:ext cx="52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         , 1        , 3          , 4          , 2        ,1         ,  4           ,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3111480" y="5405400"/>
            <a:ext cx="308160" cy="30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955800" y="5398920"/>
            <a:ext cx="307800" cy="30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5-конечная звезда 12"/>
          <p:cNvSpPr/>
          <p:nvPr/>
        </p:nvSpPr>
        <p:spPr>
          <a:xfrm>
            <a:off x="4416480" y="5362560"/>
            <a:ext cx="360360" cy="306360"/>
          </a:xfrm>
          <a:custGeom>
            <a:avLst/>
            <a:gdLst/>
            <a:ahLst/>
            <a:rect l="l" t="t" r="r" b="b"/>
            <a:pathLst>
              <a:path w="360363" h="306388">
                <a:moveTo>
                  <a:pt x="0" y="117030"/>
                </a:moveTo>
                <a:lnTo>
                  <a:pt x="137647" y="117030"/>
                </a:lnTo>
                <a:lnTo>
                  <a:pt x="180182" y="0"/>
                </a:lnTo>
                <a:lnTo>
                  <a:pt x="222716" y="117030"/>
                </a:lnTo>
                <a:lnTo>
                  <a:pt x="360363" y="117030"/>
                </a:lnTo>
                <a:lnTo>
                  <a:pt x="249003" y="189357"/>
                </a:lnTo>
                <a:lnTo>
                  <a:pt x="291540" y="306387"/>
                </a:lnTo>
                <a:lnTo>
                  <a:pt x="180182" y="234058"/>
                </a:lnTo>
                <a:lnTo>
                  <a:pt x="68823" y="306387"/>
                </a:lnTo>
                <a:lnTo>
                  <a:pt x="111360" y="189357"/>
                </a:lnTo>
                <a:lnTo>
                  <a:pt x="0" y="11703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5-конечная звезда 13"/>
          <p:cNvSpPr/>
          <p:nvPr/>
        </p:nvSpPr>
        <p:spPr>
          <a:xfrm>
            <a:off x="1677960" y="5373720"/>
            <a:ext cx="360360" cy="306360"/>
          </a:xfrm>
          <a:custGeom>
            <a:avLst/>
            <a:gdLst/>
            <a:ahLst/>
            <a:rect l="l" t="t" r="r" b="b"/>
            <a:pathLst>
              <a:path w="360362" h="306387">
                <a:moveTo>
                  <a:pt x="0" y="117029"/>
                </a:moveTo>
                <a:lnTo>
                  <a:pt x="137647" y="117030"/>
                </a:lnTo>
                <a:lnTo>
                  <a:pt x="180181" y="0"/>
                </a:lnTo>
                <a:lnTo>
                  <a:pt x="222715" y="117030"/>
                </a:lnTo>
                <a:lnTo>
                  <a:pt x="360362" y="117029"/>
                </a:lnTo>
                <a:lnTo>
                  <a:pt x="249003" y="189357"/>
                </a:lnTo>
                <a:lnTo>
                  <a:pt x="291539" y="306386"/>
                </a:lnTo>
                <a:lnTo>
                  <a:pt x="180181" y="234057"/>
                </a:lnTo>
                <a:lnTo>
                  <a:pt x="68823" y="306386"/>
                </a:lnTo>
                <a:lnTo>
                  <a:pt x="111359" y="189357"/>
                </a:lnTo>
                <a:lnTo>
                  <a:pt x="0" y="11702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Равнобедренный треугольник 14"/>
          <p:cNvSpPr/>
          <p:nvPr/>
        </p:nvSpPr>
        <p:spPr>
          <a:xfrm>
            <a:off x="3780000" y="534672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Равнобедренный треугольник 15"/>
          <p:cNvSpPr/>
          <p:nvPr/>
        </p:nvSpPr>
        <p:spPr>
          <a:xfrm>
            <a:off x="2340000" y="535932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5-конечная звезда 16"/>
          <p:cNvSpPr/>
          <p:nvPr/>
        </p:nvSpPr>
        <p:spPr>
          <a:xfrm>
            <a:off x="5219640" y="5359320"/>
            <a:ext cx="360360" cy="306360"/>
          </a:xfrm>
          <a:custGeom>
            <a:avLst/>
            <a:gdLst/>
            <a:ahLst/>
            <a:rect l="l" t="t" r="r" b="b"/>
            <a:pathLst>
              <a:path w="360363" h="306388">
                <a:moveTo>
                  <a:pt x="0" y="117030"/>
                </a:moveTo>
                <a:lnTo>
                  <a:pt x="137647" y="117030"/>
                </a:lnTo>
                <a:lnTo>
                  <a:pt x="180182" y="0"/>
                </a:lnTo>
                <a:lnTo>
                  <a:pt x="222716" y="117030"/>
                </a:lnTo>
                <a:lnTo>
                  <a:pt x="360363" y="117030"/>
                </a:lnTo>
                <a:lnTo>
                  <a:pt x="249003" y="189357"/>
                </a:lnTo>
                <a:lnTo>
                  <a:pt x="291540" y="306387"/>
                </a:lnTo>
                <a:lnTo>
                  <a:pt x="180182" y="234058"/>
                </a:lnTo>
                <a:lnTo>
                  <a:pt x="68823" y="306387"/>
                </a:lnTo>
                <a:lnTo>
                  <a:pt x="111360" y="189357"/>
                </a:lnTo>
                <a:lnTo>
                  <a:pt x="0" y="11703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Овал 17"/>
          <p:cNvSpPr/>
          <p:nvPr/>
        </p:nvSpPr>
        <p:spPr>
          <a:xfrm>
            <a:off x="5970600" y="535932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403280" y="1413000"/>
          <a:ext cx="6216840" cy="3475080"/>
        </p:xfrm>
        <a:graphic>
          <a:graphicData uri="http://schemas.openxmlformats.org/drawingml/2006/table">
            <a:tbl>
              <a:tblPr/>
              <a:tblGrid>
                <a:gridCol w="517680"/>
                <a:gridCol w="519120"/>
                <a:gridCol w="517320"/>
                <a:gridCol w="517680"/>
                <a:gridCol w="519120"/>
                <a:gridCol w="517320"/>
                <a:gridCol w="517680"/>
                <a:gridCol w="519120"/>
                <a:gridCol w="517680"/>
                <a:gridCol w="517320"/>
                <a:gridCol w="519120"/>
                <a:gridCol w="5176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12"/>
          <p:cNvSpPr/>
          <p:nvPr/>
        </p:nvSpPr>
        <p:spPr>
          <a:xfrm>
            <a:off x="2661480" y="443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2053440" y="3860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1045440" y="328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3115440" y="2678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1550160" y="213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1550160" y="1484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2907360" y="549360"/>
            <a:ext cx="25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7"/>
          <p:cNvSpPr/>
          <p:nvPr/>
        </p:nvSpPr>
        <p:spPr>
          <a:xfrm>
            <a:off x="787320" y="66672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5,6. О каких человеческих чувствах поведала миниатюра «Такая арифмети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Прочти зеркальное отражение с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6" descr=""/>
          <p:cNvPicPr/>
          <p:nvPr/>
        </p:nvPicPr>
        <p:blipFill>
          <a:blip r:embed="rId1"/>
          <a:stretch/>
        </p:blipFill>
        <p:spPr>
          <a:xfrm>
            <a:off x="7236000" y="2128680"/>
            <a:ext cx="741240" cy="7225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"/>
          <p:cNvPicPr/>
          <p:nvPr/>
        </p:nvPicPr>
        <p:blipFill>
          <a:blip r:embed="rId2"/>
          <a:stretch/>
        </p:blipFill>
        <p:spPr>
          <a:xfrm rot="929400">
            <a:off x="4070160" y="2103120"/>
            <a:ext cx="857160" cy="8715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9" descr=""/>
          <p:cNvPicPr/>
          <p:nvPr/>
        </p:nvPicPr>
        <p:blipFill>
          <a:blip r:embed="rId3"/>
          <a:stretch/>
        </p:blipFill>
        <p:spPr>
          <a:xfrm>
            <a:off x="2019240" y="2098800"/>
            <a:ext cx="79056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"/>
          <p:cNvPicPr/>
          <p:nvPr/>
        </p:nvPicPr>
        <p:blipFill>
          <a:blip r:embed="rId4"/>
          <a:stretch/>
        </p:blipFill>
        <p:spPr>
          <a:xfrm>
            <a:off x="3025800" y="2098800"/>
            <a:ext cx="744480" cy="8794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1" descr=""/>
          <p:cNvPicPr/>
          <p:nvPr/>
        </p:nvPicPr>
        <p:blipFill>
          <a:blip r:embed="rId5"/>
          <a:stretch/>
        </p:blipFill>
        <p:spPr>
          <a:xfrm>
            <a:off x="5135400" y="2117880"/>
            <a:ext cx="800280" cy="86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User\Downloads\img31-removebg-preview.png"/>
          <p:cNvPicPr/>
          <p:nvPr/>
        </p:nvPicPr>
        <p:blipFill>
          <a:blip r:embed="rId6"/>
          <a:stretch/>
        </p:blipFill>
        <p:spPr>
          <a:xfrm>
            <a:off x="6189840" y="1957320"/>
            <a:ext cx="799920" cy="10652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"/>
          <p:cNvPicPr/>
          <p:nvPr/>
        </p:nvPicPr>
        <p:blipFill>
          <a:blip r:embed="rId7"/>
          <a:stretch/>
        </p:blipFill>
        <p:spPr>
          <a:xfrm>
            <a:off x="7093080" y="3548160"/>
            <a:ext cx="704880" cy="8334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3" descr=""/>
          <p:cNvPicPr/>
          <p:nvPr/>
        </p:nvPicPr>
        <p:blipFill>
          <a:blip r:embed="rId8"/>
          <a:stretch/>
        </p:blipFill>
        <p:spPr>
          <a:xfrm>
            <a:off x="3863880" y="3462480"/>
            <a:ext cx="709560" cy="8460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"/>
          <p:cNvPicPr/>
          <p:nvPr/>
        </p:nvPicPr>
        <p:blipFill>
          <a:blip r:embed="rId9"/>
          <a:stretch/>
        </p:blipFill>
        <p:spPr>
          <a:xfrm>
            <a:off x="7942320" y="3559320"/>
            <a:ext cx="763560" cy="739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"/>
          <p:cNvPicPr/>
          <p:nvPr/>
        </p:nvPicPr>
        <p:blipFill>
          <a:blip r:embed="rId10"/>
          <a:stretch/>
        </p:blipFill>
        <p:spPr>
          <a:xfrm>
            <a:off x="6016680" y="347508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8" descr=""/>
          <p:cNvPicPr/>
          <p:nvPr/>
        </p:nvPicPr>
        <p:blipFill>
          <a:blip r:embed="rId11"/>
          <a:stretch/>
        </p:blipFill>
        <p:spPr>
          <a:xfrm>
            <a:off x="2897280" y="3481560"/>
            <a:ext cx="860400" cy="8650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9" descr=""/>
          <p:cNvPicPr/>
          <p:nvPr/>
        </p:nvPicPr>
        <p:blipFill>
          <a:blip r:embed="rId12"/>
          <a:stretch/>
        </p:blipFill>
        <p:spPr>
          <a:xfrm>
            <a:off x="1728720" y="3511440"/>
            <a:ext cx="906480" cy="835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1" descr=""/>
          <p:cNvPicPr/>
          <p:nvPr/>
        </p:nvPicPr>
        <p:blipFill>
          <a:blip r:embed="rId13"/>
          <a:stretch/>
        </p:blipFill>
        <p:spPr>
          <a:xfrm>
            <a:off x="785880" y="3511440"/>
            <a:ext cx="701640" cy="8352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0" descr=""/>
          <p:cNvPicPr/>
          <p:nvPr/>
        </p:nvPicPr>
        <p:blipFill>
          <a:blip r:embed="rId14"/>
          <a:stretch/>
        </p:blipFill>
        <p:spPr>
          <a:xfrm>
            <a:off x="5135400" y="3506760"/>
            <a:ext cx="800280" cy="8031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3" descr=""/>
          <p:cNvPicPr/>
          <p:nvPr/>
        </p:nvPicPr>
        <p:blipFill>
          <a:blip r:embed="rId15"/>
          <a:stretch/>
        </p:blipFill>
        <p:spPr>
          <a:xfrm>
            <a:off x="4651200" y="3475080"/>
            <a:ext cx="790920" cy="82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03280" y="1413000"/>
          <a:ext cx="6216840" cy="3475080"/>
        </p:xfrm>
        <a:graphic>
          <a:graphicData uri="http://schemas.openxmlformats.org/drawingml/2006/table">
            <a:tbl>
              <a:tblPr/>
              <a:tblGrid>
                <a:gridCol w="517680"/>
                <a:gridCol w="519120"/>
                <a:gridCol w="517320"/>
                <a:gridCol w="517680"/>
                <a:gridCol w="519120"/>
                <a:gridCol w="517320"/>
                <a:gridCol w="517680"/>
                <a:gridCol w="519120"/>
                <a:gridCol w="517680"/>
                <a:gridCol w="517320"/>
                <a:gridCol w="519120"/>
                <a:gridCol w="5176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6" name="TextBox 12"/>
          <p:cNvSpPr/>
          <p:nvPr/>
        </p:nvSpPr>
        <p:spPr>
          <a:xfrm>
            <a:off x="2661480" y="443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2053440" y="3860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1045440" y="328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3115440" y="2678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1550160" y="213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1550160" y="1484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2907360" y="549360"/>
            <a:ext cx="25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1609560" y="5300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Прочитай ключево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915840" y="1641600"/>
            <a:ext cx="66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Соловушка: Хрестоматия для чтения в начальной школе/Сос. О.О.Барышникова и др.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Курск: Издательский дом «Славянка», 20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</a:rPr>
              <a:t>http://xn----7sbocldfdkft8abydq1dze.xn--p1ai/licej/detskie-izdaniya/solovushka/solovushka-2017-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915840" y="3211560"/>
            <a:ext cx="732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Загадки.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zagadki-dlya-detej.ru/zagadki-pro-babushk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755640" y="378936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yandex.ru/search/?lr=8&amp;text=%D0%B2+%D0%BF+%D0%B4%D0%B5%D1%82%D0%BA%D0%BE%D0%B2%D0%B0+%D1%84%D0%BE%D1%82%D0%BE&amp;src=suggest_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1990440" y="90792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Используемые ресур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755640" y="507852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yandex.ru/images/search?text=%D0%9C%D0%BE%D1%80%D1%81%D0%BA%D0%BE%D0%B9%20%D0%B1%D0%BE%D0%B9&amp;source=related-duck&amp;lr=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4"/>
          <p:cNvSpPr/>
          <p:nvPr/>
        </p:nvSpPr>
        <p:spPr>
          <a:xfrm>
            <a:off x="1476360" y="431640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Владимир Павлович Детк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         </a:t>
            </a: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«Такая арифмети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5" descr=""/>
          <p:cNvPicPr/>
          <p:nvPr/>
        </p:nvPicPr>
        <p:blipFill>
          <a:blip r:embed="rId1"/>
          <a:stretch/>
        </p:blipFill>
        <p:spPr>
          <a:xfrm>
            <a:off x="2835360" y="390600"/>
            <a:ext cx="3267000" cy="403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574560" y="549360"/>
            <a:ext cx="792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ервоклассник Вовка отчаянно нагрубил бабушке, которая на самом интересном месте вмешалась в его «войну» и заставила сменить автомат на школьную ручку. Просить прощения наотрез отказался. Вечером отец беседовал с сыно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Ты любишь ма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редчувствуя в этом вопросе начало родительской нотации за дневные подвиги, Возка, потупив взор, обреченно ответ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Люблю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Уважаешь е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Сын с недоумением покосился на отца: мол, что за вопрос — раз люблю, значит, и уважаю, но «заострять» не стал и ответил, как требовалос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Уважа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Мама тоже любит и уважает свою маму… И помни всегда, сынок, что бабушка — это мамина ма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овка оживился, навострил уши, что-то соображая, и выпал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Два раза мам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Да, брат, такая арифметика. Вот и действуй по ней — в два раз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Но сын уже не слышал мудреных выводов. Неожиданное открытие растопило упрямство, и он побежал к бабу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4572000" y="1133640"/>
            <a:ext cx="40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орогой друг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егодня я предлагаю тебе разгадать кроссворд и расшифровать его главное слово, которое появится по вертикали. К каждому слову выполни разные задания. Желаю успех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i.pinimg.com/originals/17/84/49/17844908466b614e00320707a3fec4cb.png"/>
          <p:cNvPicPr/>
          <p:nvPr/>
        </p:nvPicPr>
        <p:blipFill>
          <a:blip r:embed="rId1"/>
          <a:stretch/>
        </p:blipFill>
        <p:spPr>
          <a:xfrm>
            <a:off x="343080" y="1557360"/>
            <a:ext cx="4228920" cy="341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362240" y="1670040"/>
          <a:ext cx="6216480" cy="320364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7320"/>
                <a:gridCol w="519120"/>
                <a:gridCol w="517680"/>
                <a:gridCol w="517320"/>
                <a:gridCol w="519120"/>
                <a:gridCol w="517680"/>
                <a:gridCol w="517320"/>
                <a:gridCol w="519120"/>
                <a:gridCol w="517680"/>
              </a:tblGrid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3252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3252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" name="TextBox 12"/>
          <p:cNvSpPr/>
          <p:nvPr/>
        </p:nvSpPr>
        <p:spPr>
          <a:xfrm>
            <a:off x="2598120" y="4253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2053440" y="3860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1045440" y="328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3115440" y="2678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1550160" y="213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1550160" y="1484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2907360" y="549360"/>
            <a:ext cx="25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71640" y="62064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1. Назови главного героя миниатюры  «Такая арифметика». Его имя зашифровано в ребу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4"/>
          <p:cNvSpPr/>
          <p:nvPr/>
        </p:nvSpPr>
        <p:spPr>
          <a:xfrm>
            <a:off x="1511280" y="2133720"/>
            <a:ext cx="2376360" cy="2519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5"/>
          <p:cNvSpPr/>
          <p:nvPr/>
        </p:nvSpPr>
        <p:spPr>
          <a:xfrm>
            <a:off x="2236680" y="2679840"/>
            <a:ext cx="1011240" cy="12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733760" y="268272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3250440" y="282564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978920" y="371628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2887560" y="371628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2456640" y="204804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12" descr=""/>
          <p:cNvPicPr/>
          <p:nvPr/>
        </p:nvPicPr>
        <p:blipFill>
          <a:blip r:embed="rId1"/>
          <a:stretch/>
        </p:blipFill>
        <p:spPr>
          <a:xfrm>
            <a:off x="3564000" y="2214720"/>
            <a:ext cx="4971960" cy="2355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3"/>
          <p:cNvSpPr/>
          <p:nvPr/>
        </p:nvSpPr>
        <p:spPr>
          <a:xfrm>
            <a:off x="7205040" y="1494000"/>
            <a:ext cx="102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,,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403280" y="1413000"/>
          <a:ext cx="6216840" cy="3475080"/>
        </p:xfrm>
        <a:graphic>
          <a:graphicData uri="http://schemas.openxmlformats.org/drawingml/2006/table">
            <a:tbl>
              <a:tblPr/>
              <a:tblGrid>
                <a:gridCol w="517680"/>
                <a:gridCol w="519120"/>
                <a:gridCol w="517320"/>
                <a:gridCol w="517680"/>
                <a:gridCol w="519120"/>
                <a:gridCol w="517320"/>
                <a:gridCol w="517680"/>
                <a:gridCol w="519120"/>
                <a:gridCol w="517680"/>
                <a:gridCol w="517320"/>
                <a:gridCol w="519120"/>
                <a:gridCol w="5176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TextBox 12"/>
          <p:cNvSpPr/>
          <p:nvPr/>
        </p:nvSpPr>
        <p:spPr>
          <a:xfrm>
            <a:off x="2661480" y="443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2053440" y="3860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1045440" y="328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3115440" y="2678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1550160" y="213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1550160" y="1484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907360" y="549360"/>
            <a:ext cx="25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4"/>
          <p:cNvSpPr/>
          <p:nvPr/>
        </p:nvSpPr>
        <p:spPr>
          <a:xfrm>
            <a:off x="1476360" y="83664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2. Мамина мама – это…   Кт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Отгадай загад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1476360" y="21337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Испечёт для нас пирог,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варит к завтраку творог,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И журнал свой прочитает,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ак всегда всё успевает?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ы о ком сейчас спросили,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обрых слов наговори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1"/>
          <a:stretch/>
        </p:blipFill>
        <p:spPr>
          <a:xfrm>
            <a:off x="5580000" y="1612800"/>
            <a:ext cx="3127320" cy="31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403280" y="1413000"/>
          <a:ext cx="6216840" cy="3475080"/>
        </p:xfrm>
        <a:graphic>
          <a:graphicData uri="http://schemas.openxmlformats.org/drawingml/2006/table">
            <a:tbl>
              <a:tblPr/>
              <a:tblGrid>
                <a:gridCol w="517680"/>
                <a:gridCol w="519120"/>
                <a:gridCol w="517320"/>
                <a:gridCol w="517680"/>
                <a:gridCol w="519120"/>
                <a:gridCol w="517320"/>
                <a:gridCol w="517680"/>
                <a:gridCol w="519120"/>
                <a:gridCol w="517680"/>
                <a:gridCol w="517320"/>
                <a:gridCol w="519120"/>
                <a:gridCol w="5176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66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TextBox 12"/>
          <p:cNvSpPr/>
          <p:nvPr/>
        </p:nvSpPr>
        <p:spPr>
          <a:xfrm>
            <a:off x="2661480" y="443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2053440" y="3860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1045440" y="328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3115440" y="2678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1550160" y="213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1550160" y="1484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907360" y="549360"/>
            <a:ext cx="25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07T09:29:00Z</dcterms:created>
  <dc:creator>Агаркова О.Г.</dc:creator>
  <dc:description/>
  <dc:language>en-US</dc:language>
  <cp:lastModifiedBy>Пользователь Windows</cp:lastModifiedBy>
  <dcterms:modified xsi:type="dcterms:W3CDTF">2022-05-07T23:17:02Z</dcterms:modified>
  <cp:revision>34</cp:revision>
  <dc:subject/>
  <dc:title>Презентация PowerPoint</dc:title>
</cp:coreProperties>
</file>