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947-BDB3-4A0F-A7A3-632C9646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8A0-CD57-4640-A0F8-010A0576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ED6-2D9A-46F6-8F92-837B48E2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0F0-62B7-40EE-8EFB-E32A2930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05B5-8C02-4365-AAE9-639ACE81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6E8C-E149-4964-A0E2-0DF26DC9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0D9B-BA51-40B8-9725-27BB12EC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33FC-0521-4CA9-B3A6-2B02CE2E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6B40-9321-4325-BEB1-15CC130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E6B6-E72B-417F-B2EA-A9CEBCEC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F72C-46C7-41CB-B4E9-421C75B1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04A-C3F6-4AEB-AC5C-0DBC5F87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1A05-4093-41C1-B0D8-D6CDCB5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6820-C93E-4B83-B3D2-68B3B89E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F813-0044-4B9C-AF23-09F59624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291D-5A64-426E-B507-59489C18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DA70-8B61-493B-8277-4E203361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EB9B-D736-4273-B678-99603BBD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2FAA-6E59-4F1D-BF02-29757369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0924E-95CB-4BA9-A82C-664DCFA9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BC56-DEB1-4469-94AA-5B4FF657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36B6-C573-48A5-96A1-A0153226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912-96EC-48D4-9CA9-1516667C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6540-6220-48BC-9C19-E9F7AB97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1261-2C57-4D20-8F4C-17BCEC70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CBFEA-A8D9-407D-9F38-9CD03588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F43C-4215-452A-8A8A-399893B7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F33F-A5A5-4490-8031-E433D291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9D2D-79C0-4295-A2FF-7378D2E6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F3669-94E2-4DD1-834D-F38ACCEF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C0E75-AF01-49DD-B00C-00952BA2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8B638-9125-455E-92E7-8C8E4234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913D5-ACB6-493B-9F79-682F1DDF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F27-8D17-469B-A4DD-5AB467A4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10595-BCBD-4D4A-9DBE-D100507B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C1701-89AD-4738-B7D7-BB8CC10E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B6828-300E-4248-9339-FE742187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FF728-3B6F-474D-ACD4-B581E964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B10D5-9F84-4AED-B196-FF0F52CD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85DA7-E3CD-48B1-AB46-E7C8E69D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2DE5-5667-4BEE-9347-75B66FEA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76E4F-9DA4-4184-8BF9-B2A60E2E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E437-93E7-4D3D-8449-32409A6F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8DAF-852A-491E-AB9A-C7587786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ABD-65EE-45EA-A9DD-A12F3FDB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F4680-25D2-45F6-A679-DE24B2AF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0D0A0-A2EC-4C70-85D3-60FB0DDB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26C23-4192-4F6A-A39B-EFD10B7E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F86FA-C619-4778-9F3D-C1E6ABAD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97C97-75F5-40CC-9894-6450375A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AFA37-3359-4228-BACD-77D9D83C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27434-AEA8-493B-B1F4-75830CBE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E065B-9257-417F-8C65-70400870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360BB-54B0-4099-BD7B-2745F18C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1E51-D1EE-4552-94FC-4723A4A3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4B9-0A86-4CF0-9CFF-FC37C7CB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034ED-BB64-4F0E-9F6D-E9C35DE4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BCECA-C1E4-4948-9D5A-F6D045BE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A6416-0EE1-43CC-8FBA-63BA2172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FDA3-AC18-4B53-AE1F-33AEC577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550DE-1067-40A7-A19A-CC575758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1F4E3-2325-450B-A06E-66F9CFFF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2150A-9B3C-4953-978F-22A7D5F8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1C3D7-63FF-4A8A-BE8A-9D3CCC67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A1C13-5151-48D1-ADF2-F157B6C2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F20D0-8D4A-4F75-B438-1D80D644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840-70D2-4D85-A1CA-E22BABD0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6E70D-D4B5-4763-BF22-2A252E91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96DB-ADB8-4F9A-AA46-4585167D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AD9E0-73FC-43C7-968C-91209E32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881-9D23-4D97-A365-EB3A4092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643-4D02-483D-A303-7C319720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200" cy="6873480"/>
            <a:chOff x="-7920" y="-7920"/>
            <a:chExt cx="9169200" cy="687348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6840" cy="28522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2280"/>
                <a:gd name="textAreaBottom" fmla="*/ 2852640 h 285228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cxnSp>
          <p:nvCxnSpPr>
            <p:cNvPr id="2" name="Straight Connector 7"/>
            <p:cNvCxnSpPr/>
            <p:nvPr/>
          </p:nvCxnSpPr>
          <p:spPr>
            <a:xfrm flipV="1">
              <a:off x="5130720" y="4174920"/>
              <a:ext cx="4023000" cy="2683080"/>
            </a:xfrm>
            <a:prstGeom prst="straightConnector1">
              <a:avLst/>
            </a:prstGeom>
            <a:ln cap="rnd" w="0">
              <a:solidFill>
                <a:srgbClr val="d9d9d9"/>
              </a:solidFill>
            </a:ln>
          </p:spPr>
        </p:cxnSp>
        <p:cxnSp>
          <p:nvCxnSpPr>
            <p:cNvPr id="3" name="Straight Connector 8"/>
            <p:cNvCxnSpPr/>
            <p:nvPr/>
          </p:nvCxnSpPr>
          <p:spPr>
            <a:xfrm>
              <a:off x="7041960" y="0"/>
              <a:ext cx="1219680" cy="6858360"/>
            </a:xfrm>
            <a:prstGeom prst="straightConnector1">
              <a:avLst/>
            </a:prstGeom>
            <a:ln cap="rnd" w="0">
              <a:solidFill>
                <a:srgbClr val="bfbfbf"/>
              </a:solidFill>
            </a:ln>
          </p:spPr>
        </p:cxnSp>
        <p:sp>
          <p:nvSpPr>
            <p:cNvPr id="4" name="Freeform 9"/>
            <p:cNvSpPr/>
            <p:nvPr/>
          </p:nvSpPr>
          <p:spPr>
            <a:xfrm>
              <a:off x="6891480" y="0"/>
              <a:ext cx="2269800" cy="6865560"/>
            </a:xfrm>
            <a:custGeom>
              <a:avLst/>
              <a:gdLst>
                <a:gd name="textAreaLeft" fmla="*/ 0 w 2269800"/>
                <a:gd name="textAreaRight" fmla="*/ 2270160 w 2269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560"/>
            </a:xfrm>
            <a:custGeom>
              <a:avLst/>
              <a:gdLst>
                <a:gd name="textAreaLeft" fmla="*/ 0 w 1947600"/>
                <a:gd name="textAreaRight" fmla="*/ 1947960 w 1947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760" y="3919680"/>
              <a:ext cx="2512800" cy="2937960"/>
            </a:xfrm>
            <a:custGeom>
              <a:avLst/>
              <a:gdLst>
                <a:gd name="textAreaLeft" fmla="*/ 0 w 2512800"/>
                <a:gd name="textAreaRight" fmla="*/ 2513160 w 2512800"/>
                <a:gd name="textAreaTop" fmla="*/ 0 h 2937960"/>
                <a:gd name="textAreaBottom" fmla="*/ 2938320 h 293796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280" y="-7920"/>
              <a:ext cx="2142720" cy="6865560"/>
            </a:xfrm>
            <a:custGeom>
              <a:avLst/>
              <a:gdLst>
                <a:gd name="textAreaLeft" fmla="*/ 0 w 2142720"/>
                <a:gd name="textAreaRight" fmla="*/ 2143080 w 21427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920"/>
              <a:ext cx="856800" cy="686556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320" cy="68655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59680" y="4894200"/>
              <a:ext cx="1095120" cy="196344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1963440"/>
                <a:gd name="textAreaBottom" fmla="*/ 1963800 h 196344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  <a:ea typeface="Arial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Arial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  <a:ea typeface="Arial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  <a:ea typeface="Arial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  <a:ea typeface="Arial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1796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Arial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  <a:ea typeface="Arial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  <a:ea typeface="Arial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  <a:ea typeface="Arial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dt" idx="1"/>
          </p:nvPr>
        </p:nvSpPr>
        <p:spPr>
          <a:xfrm>
            <a:off x="540540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ftr" idx="2"/>
          </p:nvPr>
        </p:nvSpPr>
        <p:spPr>
          <a:xfrm>
            <a:off x="609480" y="6041880"/>
            <a:ext cx="4622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6"/>
          <p:cNvSpPr>
            <a:spLocks noGrp="1"/>
          </p:cNvSpPr>
          <p:nvPr>
            <p:ph type="sldNum" idx="3"/>
          </p:nvPr>
        </p:nvSpPr>
        <p:spPr>
          <a:xfrm>
            <a:off x="6445080" y="604188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900" spc="-1" strike="noStrike">
                <a:solidFill>
                  <a:schemeClr val="accent1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85CA708-3A05-4B59-9791-B48A69CF27BA}" type="slidenum">
              <a:rPr b="0" lang="ru-RU" sz="900" spc="-1" strike="noStrike">
                <a:solidFill>
                  <a:schemeClr val="accent1"/>
                </a:solidFill>
                <a:latin typeface="Arial"/>
                <a:ea typeface="Arial"/>
              </a:rPr>
              <a:t>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6"/>
          <p:cNvGrpSpPr/>
          <p:nvPr/>
        </p:nvGrpSpPr>
        <p:grpSpPr>
          <a:xfrm>
            <a:off x="-7920" y="-7920"/>
            <a:ext cx="9169200" cy="6873480"/>
            <a:chOff x="-7920" y="-7920"/>
            <a:chExt cx="9169200" cy="6873480"/>
          </a:xfrm>
        </p:grpSpPr>
        <p:sp>
          <p:nvSpPr>
            <p:cNvPr id="54" name="Freeform 6"/>
            <p:cNvSpPr/>
            <p:nvPr/>
          </p:nvSpPr>
          <p:spPr>
            <a:xfrm>
              <a:off x="-7920" y="4013280"/>
              <a:ext cx="456840" cy="28522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2280"/>
                <a:gd name="textAreaBottom" fmla="*/ 2852640 h 285228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cxnSp>
          <p:nvCxnSpPr>
            <p:cNvPr id="55" name="Straight Connector 7"/>
            <p:cNvCxnSpPr/>
            <p:nvPr/>
          </p:nvCxnSpPr>
          <p:spPr>
            <a:xfrm flipV="1">
              <a:off x="5130720" y="4174920"/>
              <a:ext cx="4023000" cy="2683080"/>
            </a:xfrm>
            <a:prstGeom prst="straightConnector1">
              <a:avLst/>
            </a:prstGeom>
            <a:ln cap="rnd" w="0">
              <a:solidFill>
                <a:srgbClr val="d9d9d9"/>
              </a:solidFill>
            </a:ln>
          </p:spPr>
        </p:cxnSp>
        <p:cxnSp>
          <p:nvCxnSpPr>
            <p:cNvPr id="56" name="Straight Connector 8"/>
            <p:cNvCxnSpPr/>
            <p:nvPr/>
          </p:nvCxnSpPr>
          <p:spPr>
            <a:xfrm>
              <a:off x="7041960" y="0"/>
              <a:ext cx="1219680" cy="6858360"/>
            </a:xfrm>
            <a:prstGeom prst="straightConnector1">
              <a:avLst/>
            </a:prstGeom>
            <a:ln cap="rnd" w="0">
              <a:solidFill>
                <a:srgbClr val="bfbfbf"/>
              </a:solidFill>
            </a:ln>
          </p:spPr>
        </p:cxnSp>
        <p:sp>
          <p:nvSpPr>
            <p:cNvPr id="57" name="Freeform 9"/>
            <p:cNvSpPr/>
            <p:nvPr/>
          </p:nvSpPr>
          <p:spPr>
            <a:xfrm>
              <a:off x="6891480" y="0"/>
              <a:ext cx="2269800" cy="6865560"/>
            </a:xfrm>
            <a:custGeom>
              <a:avLst/>
              <a:gdLst>
                <a:gd name="textAreaLeft" fmla="*/ 0 w 2269800"/>
                <a:gd name="textAreaRight" fmla="*/ 2270160 w 2269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7205760" y="-7920"/>
              <a:ext cx="1947600" cy="6865560"/>
            </a:xfrm>
            <a:custGeom>
              <a:avLst/>
              <a:gdLst>
                <a:gd name="textAreaLeft" fmla="*/ 0 w 1947600"/>
                <a:gd name="textAreaRight" fmla="*/ 1947960 w 1947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638760" y="3919680"/>
              <a:ext cx="2512800" cy="2937960"/>
            </a:xfrm>
            <a:custGeom>
              <a:avLst/>
              <a:gdLst>
                <a:gd name="textAreaLeft" fmla="*/ 0 w 2512800"/>
                <a:gd name="textAreaRight" fmla="*/ 2513160 w 2512800"/>
                <a:gd name="textAreaTop" fmla="*/ 0 h 2937960"/>
                <a:gd name="textAreaBottom" fmla="*/ 2938320 h 293796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7010280" y="-7920"/>
              <a:ext cx="2142720" cy="6865560"/>
            </a:xfrm>
            <a:custGeom>
              <a:avLst/>
              <a:gdLst>
                <a:gd name="textAreaLeft" fmla="*/ 0 w 2142720"/>
                <a:gd name="textAreaRight" fmla="*/ 2143080 w 21427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296200" y="-7920"/>
              <a:ext cx="856800" cy="686556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077320" y="-7920"/>
              <a:ext cx="1066320" cy="68655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059680" y="4894200"/>
              <a:ext cx="1095120" cy="196344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1963440"/>
                <a:gd name="textAreaBottom" fmla="*/ 1963800 h 196344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-7920" y="-7920"/>
            <a:ext cx="9169200" cy="6873480"/>
            <a:chOff x="-7920" y="-7920"/>
            <a:chExt cx="9169200" cy="6873480"/>
          </a:xfrm>
        </p:grpSpPr>
        <p:cxnSp>
          <p:nvCxnSpPr>
            <p:cNvPr id="65" name="Straight Connector 16"/>
            <p:cNvCxnSpPr/>
            <p:nvPr/>
          </p:nvCxnSpPr>
          <p:spPr>
            <a:xfrm flipV="1">
              <a:off x="5130720" y="4174920"/>
              <a:ext cx="4023000" cy="2683080"/>
            </a:xfrm>
            <a:prstGeom prst="straightConnector1">
              <a:avLst/>
            </a:prstGeom>
            <a:ln cap="rnd" w="0">
              <a:solidFill>
                <a:srgbClr val="d9d9d9"/>
              </a:solidFill>
            </a:ln>
          </p:spPr>
        </p:cxnSp>
        <p:cxnSp>
          <p:nvCxnSpPr>
            <p:cNvPr id="66" name="Straight Connector 17"/>
            <p:cNvCxnSpPr/>
            <p:nvPr/>
          </p:nvCxnSpPr>
          <p:spPr>
            <a:xfrm>
              <a:off x="7041960" y="0"/>
              <a:ext cx="1219680" cy="6858360"/>
            </a:xfrm>
            <a:prstGeom prst="straightConnector1">
              <a:avLst/>
            </a:prstGeom>
            <a:ln cap="rnd" w="0">
              <a:solidFill>
                <a:srgbClr val="bfbfbf"/>
              </a:solidFill>
            </a:ln>
          </p:spPr>
        </p:cxnSp>
        <p:sp>
          <p:nvSpPr>
            <p:cNvPr id="67" name="Freeform 18"/>
            <p:cNvSpPr/>
            <p:nvPr/>
          </p:nvSpPr>
          <p:spPr>
            <a:xfrm>
              <a:off x="6891480" y="0"/>
              <a:ext cx="2269800" cy="6865560"/>
            </a:xfrm>
            <a:custGeom>
              <a:avLst/>
              <a:gdLst>
                <a:gd name="textAreaLeft" fmla="*/ 0 w 2269800"/>
                <a:gd name="textAreaRight" fmla="*/ 2270160 w 2269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7205760" y="-7920"/>
              <a:ext cx="1947600" cy="6865560"/>
            </a:xfrm>
            <a:custGeom>
              <a:avLst/>
              <a:gdLst>
                <a:gd name="textAreaLeft" fmla="*/ 0 w 1947600"/>
                <a:gd name="textAreaRight" fmla="*/ 1947960 w 1947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6638760" y="3919680"/>
              <a:ext cx="2512800" cy="2937960"/>
            </a:xfrm>
            <a:custGeom>
              <a:avLst/>
              <a:gdLst>
                <a:gd name="textAreaLeft" fmla="*/ 0 w 2512800"/>
                <a:gd name="textAreaRight" fmla="*/ 2513160 w 2512800"/>
                <a:gd name="textAreaTop" fmla="*/ 0 h 2937960"/>
                <a:gd name="textAreaBottom" fmla="*/ 2938320 h 293796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7010280" y="-7920"/>
              <a:ext cx="2142720" cy="6865560"/>
            </a:xfrm>
            <a:custGeom>
              <a:avLst/>
              <a:gdLst>
                <a:gd name="textAreaLeft" fmla="*/ 0 w 2142720"/>
                <a:gd name="textAreaRight" fmla="*/ 2143080 w 21427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8296200" y="-7920"/>
              <a:ext cx="856800" cy="686556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8077320" y="-7920"/>
              <a:ext cx="1066320" cy="68655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8059680" y="4894200"/>
              <a:ext cx="1095120" cy="196344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1963440"/>
                <a:gd name="textAreaBottom" fmla="*/ 1963800 h 196344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-7920" y="-7920"/>
              <a:ext cx="863280" cy="569700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000"/>
                <a:gd name="textAreaBottom" fmla="*/ 5697360 h 569700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30760" y="2404440"/>
            <a:ext cx="58262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  <a:ea typeface="Arial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540540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609480" y="6041880"/>
            <a:ext cx="4622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445080" y="604188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900" spc="-1" strike="noStrike">
                <a:solidFill>
                  <a:schemeClr val="accent1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8AC949D-5627-4921-B5C7-94E88FEC89C9}" type="slidenum">
              <a:rPr b="0" lang="ru-RU" sz="900" spc="-1" strike="noStrike">
                <a:solidFill>
                  <a:schemeClr val="accent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16"/>
          <p:cNvGrpSpPr/>
          <p:nvPr/>
        </p:nvGrpSpPr>
        <p:grpSpPr>
          <a:xfrm>
            <a:off x="-7920" y="-7920"/>
            <a:ext cx="9169200" cy="6873480"/>
            <a:chOff x="-7920" y="-7920"/>
            <a:chExt cx="9169200" cy="6873480"/>
          </a:xfrm>
        </p:grpSpPr>
        <p:sp>
          <p:nvSpPr>
            <p:cNvPr id="117" name="Freeform 6"/>
            <p:cNvSpPr/>
            <p:nvPr/>
          </p:nvSpPr>
          <p:spPr>
            <a:xfrm>
              <a:off x="-7920" y="4013280"/>
              <a:ext cx="456840" cy="28522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2280"/>
                <a:gd name="textAreaBottom" fmla="*/ 2852640 h 285228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cxnSp>
          <p:nvCxnSpPr>
            <p:cNvPr id="118" name="Straight Connector 7"/>
            <p:cNvCxnSpPr/>
            <p:nvPr/>
          </p:nvCxnSpPr>
          <p:spPr>
            <a:xfrm flipV="1">
              <a:off x="5130720" y="4174920"/>
              <a:ext cx="4023000" cy="2683080"/>
            </a:xfrm>
            <a:prstGeom prst="straightConnector1">
              <a:avLst/>
            </a:prstGeom>
            <a:ln cap="rnd" w="0">
              <a:solidFill>
                <a:srgbClr val="d9d9d9"/>
              </a:solidFill>
            </a:ln>
          </p:spPr>
        </p:cxnSp>
        <p:cxnSp>
          <p:nvCxnSpPr>
            <p:cNvPr id="119" name="Straight Connector 8"/>
            <p:cNvCxnSpPr/>
            <p:nvPr/>
          </p:nvCxnSpPr>
          <p:spPr>
            <a:xfrm>
              <a:off x="7041960" y="0"/>
              <a:ext cx="1219680" cy="6858360"/>
            </a:xfrm>
            <a:prstGeom prst="straightConnector1">
              <a:avLst/>
            </a:prstGeom>
            <a:ln cap="rnd" w="0">
              <a:solidFill>
                <a:srgbClr val="bfbfbf"/>
              </a:solidFill>
            </a:ln>
          </p:spPr>
        </p:cxnSp>
        <p:sp>
          <p:nvSpPr>
            <p:cNvPr id="120" name="Freeform 9"/>
            <p:cNvSpPr/>
            <p:nvPr/>
          </p:nvSpPr>
          <p:spPr>
            <a:xfrm>
              <a:off x="6891480" y="0"/>
              <a:ext cx="2269800" cy="6865560"/>
            </a:xfrm>
            <a:custGeom>
              <a:avLst/>
              <a:gdLst>
                <a:gd name="textAreaLeft" fmla="*/ 0 w 2269800"/>
                <a:gd name="textAreaRight" fmla="*/ 2270160 w 2269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21" name="Freeform 10"/>
            <p:cNvSpPr/>
            <p:nvPr/>
          </p:nvSpPr>
          <p:spPr>
            <a:xfrm>
              <a:off x="7205760" y="-7920"/>
              <a:ext cx="1947600" cy="6865560"/>
            </a:xfrm>
            <a:custGeom>
              <a:avLst/>
              <a:gdLst>
                <a:gd name="textAreaLeft" fmla="*/ 0 w 1947600"/>
                <a:gd name="textAreaRight" fmla="*/ 1947960 w 1947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22" name="Freeform 11"/>
            <p:cNvSpPr/>
            <p:nvPr/>
          </p:nvSpPr>
          <p:spPr>
            <a:xfrm>
              <a:off x="6638760" y="3919680"/>
              <a:ext cx="2512800" cy="2937960"/>
            </a:xfrm>
            <a:custGeom>
              <a:avLst/>
              <a:gdLst>
                <a:gd name="textAreaLeft" fmla="*/ 0 w 2512800"/>
                <a:gd name="textAreaRight" fmla="*/ 2513160 w 2512800"/>
                <a:gd name="textAreaTop" fmla="*/ 0 h 2937960"/>
                <a:gd name="textAreaBottom" fmla="*/ 2938320 h 293796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23" name="Freeform 12"/>
            <p:cNvSpPr/>
            <p:nvPr/>
          </p:nvSpPr>
          <p:spPr>
            <a:xfrm>
              <a:off x="7010280" y="-7920"/>
              <a:ext cx="2142720" cy="6865560"/>
            </a:xfrm>
            <a:custGeom>
              <a:avLst/>
              <a:gdLst>
                <a:gd name="textAreaLeft" fmla="*/ 0 w 2142720"/>
                <a:gd name="textAreaRight" fmla="*/ 2143080 w 21427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>
              <a:off x="8296200" y="-7920"/>
              <a:ext cx="856800" cy="686556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25" name="Freeform 14"/>
            <p:cNvSpPr/>
            <p:nvPr/>
          </p:nvSpPr>
          <p:spPr>
            <a:xfrm>
              <a:off x="8077320" y="-7920"/>
              <a:ext cx="1066320" cy="68655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26" name="Freeform 15"/>
            <p:cNvSpPr/>
            <p:nvPr/>
          </p:nvSpPr>
          <p:spPr>
            <a:xfrm>
              <a:off x="8059680" y="4894200"/>
              <a:ext cx="1095120" cy="196344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1963440"/>
                <a:gd name="textAreaBottom" fmla="*/ 1963800 h 196344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  <a:ea typeface="Arial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540540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8"/>
          </p:nvPr>
        </p:nvSpPr>
        <p:spPr>
          <a:xfrm>
            <a:off x="609480" y="6041880"/>
            <a:ext cx="4622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9"/>
          </p:nvPr>
        </p:nvSpPr>
        <p:spPr>
          <a:xfrm>
            <a:off x="6445080" y="604188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900" spc="-1" strike="noStrike">
                <a:solidFill>
                  <a:schemeClr val="accent1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92F2F46-69BE-4835-9674-B28A7E130630}" type="slidenum">
              <a:rPr b="0" lang="ru-RU" sz="900" spc="-1" strike="noStrike">
                <a:solidFill>
                  <a:schemeClr val="accent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16"/>
          <p:cNvGrpSpPr/>
          <p:nvPr/>
        </p:nvGrpSpPr>
        <p:grpSpPr>
          <a:xfrm>
            <a:off x="-7920" y="-7920"/>
            <a:ext cx="9169200" cy="6873480"/>
            <a:chOff x="-7920" y="-7920"/>
            <a:chExt cx="9169200" cy="6873480"/>
          </a:xfrm>
        </p:grpSpPr>
        <p:sp>
          <p:nvSpPr>
            <p:cNvPr id="169" name="Freeform 6"/>
            <p:cNvSpPr/>
            <p:nvPr/>
          </p:nvSpPr>
          <p:spPr>
            <a:xfrm>
              <a:off x="-7920" y="4013280"/>
              <a:ext cx="456840" cy="28522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2280"/>
                <a:gd name="textAreaBottom" fmla="*/ 2852640 h 285228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cxnSp>
          <p:nvCxnSpPr>
            <p:cNvPr id="170" name="Straight Connector 7"/>
            <p:cNvCxnSpPr/>
            <p:nvPr/>
          </p:nvCxnSpPr>
          <p:spPr>
            <a:xfrm flipV="1">
              <a:off x="5130720" y="4174920"/>
              <a:ext cx="4023000" cy="2683080"/>
            </a:xfrm>
            <a:prstGeom prst="straightConnector1">
              <a:avLst/>
            </a:prstGeom>
            <a:ln cap="rnd" w="0">
              <a:solidFill>
                <a:srgbClr val="d9d9d9"/>
              </a:solidFill>
            </a:ln>
          </p:spPr>
        </p:cxnSp>
        <p:cxnSp>
          <p:nvCxnSpPr>
            <p:cNvPr id="171" name="Straight Connector 8"/>
            <p:cNvCxnSpPr/>
            <p:nvPr/>
          </p:nvCxnSpPr>
          <p:spPr>
            <a:xfrm>
              <a:off x="7041960" y="0"/>
              <a:ext cx="1219680" cy="6858360"/>
            </a:xfrm>
            <a:prstGeom prst="straightConnector1">
              <a:avLst/>
            </a:prstGeom>
            <a:ln cap="rnd" w="0">
              <a:solidFill>
                <a:srgbClr val="bfbfbf"/>
              </a:solidFill>
            </a:ln>
          </p:spPr>
        </p:cxnSp>
        <p:sp>
          <p:nvSpPr>
            <p:cNvPr id="172" name="Freeform 9"/>
            <p:cNvSpPr/>
            <p:nvPr/>
          </p:nvSpPr>
          <p:spPr>
            <a:xfrm>
              <a:off x="6891480" y="0"/>
              <a:ext cx="2269800" cy="6865560"/>
            </a:xfrm>
            <a:custGeom>
              <a:avLst/>
              <a:gdLst>
                <a:gd name="textAreaLeft" fmla="*/ 0 w 2269800"/>
                <a:gd name="textAreaRight" fmla="*/ 2270160 w 2269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7205760" y="-7920"/>
              <a:ext cx="1947600" cy="6865560"/>
            </a:xfrm>
            <a:custGeom>
              <a:avLst/>
              <a:gdLst>
                <a:gd name="textAreaLeft" fmla="*/ 0 w 1947600"/>
                <a:gd name="textAreaRight" fmla="*/ 1947960 w 1947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74" name="Freeform 11"/>
            <p:cNvSpPr/>
            <p:nvPr/>
          </p:nvSpPr>
          <p:spPr>
            <a:xfrm>
              <a:off x="6638760" y="3919680"/>
              <a:ext cx="2512800" cy="2937960"/>
            </a:xfrm>
            <a:custGeom>
              <a:avLst/>
              <a:gdLst>
                <a:gd name="textAreaLeft" fmla="*/ 0 w 2512800"/>
                <a:gd name="textAreaRight" fmla="*/ 2513160 w 2512800"/>
                <a:gd name="textAreaTop" fmla="*/ 0 h 2937960"/>
                <a:gd name="textAreaBottom" fmla="*/ 2938320 h 293796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75" name="Freeform 12"/>
            <p:cNvSpPr/>
            <p:nvPr/>
          </p:nvSpPr>
          <p:spPr>
            <a:xfrm>
              <a:off x="7010280" y="-7920"/>
              <a:ext cx="2142720" cy="6865560"/>
            </a:xfrm>
            <a:custGeom>
              <a:avLst/>
              <a:gdLst>
                <a:gd name="textAreaLeft" fmla="*/ 0 w 2142720"/>
                <a:gd name="textAreaRight" fmla="*/ 2143080 w 21427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8296200" y="-7920"/>
              <a:ext cx="856800" cy="686556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77" name="Freeform 14"/>
            <p:cNvSpPr/>
            <p:nvPr/>
          </p:nvSpPr>
          <p:spPr>
            <a:xfrm>
              <a:off x="8077320" y="-7920"/>
              <a:ext cx="1066320" cy="68655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178" name="Freeform 15"/>
            <p:cNvSpPr/>
            <p:nvPr/>
          </p:nvSpPr>
          <p:spPr>
            <a:xfrm>
              <a:off x="8059680" y="4894200"/>
              <a:ext cx="1095120" cy="196344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1963440"/>
                <a:gd name="textAreaBottom" fmla="*/ 1963800 h 196344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dt" idx="10"/>
          </p:nvPr>
        </p:nvSpPr>
        <p:spPr>
          <a:xfrm>
            <a:off x="540540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1"/>
          </p:nvPr>
        </p:nvSpPr>
        <p:spPr>
          <a:xfrm>
            <a:off x="609480" y="6041880"/>
            <a:ext cx="4622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2"/>
          </p:nvPr>
        </p:nvSpPr>
        <p:spPr>
          <a:xfrm>
            <a:off x="6445080" y="604188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900" spc="-1" strike="noStrike">
                <a:solidFill>
                  <a:schemeClr val="accent1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BD8F918-85BD-46FF-A981-9D2DA6CED586}" type="slidenum">
              <a:rPr b="0" lang="ru-RU" sz="900" spc="-1" strike="noStrike">
                <a:solidFill>
                  <a:schemeClr val="accent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16"/>
          <p:cNvGrpSpPr/>
          <p:nvPr/>
        </p:nvGrpSpPr>
        <p:grpSpPr>
          <a:xfrm>
            <a:off x="-7920" y="-7920"/>
            <a:ext cx="9169200" cy="6873480"/>
            <a:chOff x="-7920" y="-7920"/>
            <a:chExt cx="9169200" cy="6873480"/>
          </a:xfrm>
        </p:grpSpPr>
        <p:sp>
          <p:nvSpPr>
            <p:cNvPr id="221" name="Freeform 6"/>
            <p:cNvSpPr/>
            <p:nvPr/>
          </p:nvSpPr>
          <p:spPr>
            <a:xfrm>
              <a:off x="-7920" y="4013280"/>
              <a:ext cx="456840" cy="28522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2280"/>
                <a:gd name="textAreaBottom" fmla="*/ 2852640 h 285228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cxnSp>
          <p:nvCxnSpPr>
            <p:cNvPr id="222" name="Straight Connector 7"/>
            <p:cNvCxnSpPr/>
            <p:nvPr/>
          </p:nvCxnSpPr>
          <p:spPr>
            <a:xfrm flipV="1">
              <a:off x="5130720" y="4174920"/>
              <a:ext cx="4023000" cy="2683080"/>
            </a:xfrm>
            <a:prstGeom prst="straightConnector1">
              <a:avLst/>
            </a:prstGeom>
            <a:ln cap="rnd" w="0">
              <a:solidFill>
                <a:srgbClr val="d9d9d9"/>
              </a:solidFill>
            </a:ln>
          </p:spPr>
        </p:cxnSp>
        <p:cxnSp>
          <p:nvCxnSpPr>
            <p:cNvPr id="223" name="Straight Connector 8"/>
            <p:cNvCxnSpPr/>
            <p:nvPr/>
          </p:nvCxnSpPr>
          <p:spPr>
            <a:xfrm>
              <a:off x="7041960" y="0"/>
              <a:ext cx="1219680" cy="6858360"/>
            </a:xfrm>
            <a:prstGeom prst="straightConnector1">
              <a:avLst/>
            </a:prstGeom>
            <a:ln cap="rnd" w="0">
              <a:solidFill>
                <a:srgbClr val="bfbfbf"/>
              </a:solidFill>
            </a:ln>
          </p:spPr>
        </p:cxnSp>
        <p:sp>
          <p:nvSpPr>
            <p:cNvPr id="224" name="Freeform 9"/>
            <p:cNvSpPr/>
            <p:nvPr/>
          </p:nvSpPr>
          <p:spPr>
            <a:xfrm>
              <a:off x="6891480" y="0"/>
              <a:ext cx="2269800" cy="6865560"/>
            </a:xfrm>
            <a:custGeom>
              <a:avLst/>
              <a:gdLst>
                <a:gd name="textAreaLeft" fmla="*/ 0 w 2269800"/>
                <a:gd name="textAreaRight" fmla="*/ 2270160 w 2269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7205760" y="-7920"/>
              <a:ext cx="1947600" cy="6865560"/>
            </a:xfrm>
            <a:custGeom>
              <a:avLst/>
              <a:gdLst>
                <a:gd name="textAreaLeft" fmla="*/ 0 w 1947600"/>
                <a:gd name="textAreaRight" fmla="*/ 1947960 w 1947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6638760" y="3919680"/>
              <a:ext cx="2512800" cy="2937960"/>
            </a:xfrm>
            <a:custGeom>
              <a:avLst/>
              <a:gdLst>
                <a:gd name="textAreaLeft" fmla="*/ 0 w 2512800"/>
                <a:gd name="textAreaRight" fmla="*/ 2513160 w 2512800"/>
                <a:gd name="textAreaTop" fmla="*/ 0 h 2937960"/>
                <a:gd name="textAreaBottom" fmla="*/ 2938320 h 293796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>
              <a:off x="7010280" y="-7920"/>
              <a:ext cx="2142720" cy="6865560"/>
            </a:xfrm>
            <a:custGeom>
              <a:avLst/>
              <a:gdLst>
                <a:gd name="textAreaLeft" fmla="*/ 0 w 2142720"/>
                <a:gd name="textAreaRight" fmla="*/ 2143080 w 21427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8296200" y="-7920"/>
              <a:ext cx="856800" cy="686556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8077320" y="-7920"/>
              <a:ext cx="1066320" cy="68655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8059680" y="4894200"/>
              <a:ext cx="1095120" cy="196344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1963440"/>
                <a:gd name="textAreaBottom" fmla="*/ 1963800 h 196344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457200" y="244440"/>
            <a:ext cx="8388000" cy="58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Arial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  <a:ea typeface="Arial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  <a:ea typeface="Arial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  <a:ea typeface="Arial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dt" idx="13"/>
          </p:nvPr>
        </p:nvSpPr>
        <p:spPr>
          <a:xfrm>
            <a:off x="540540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4"/>
          </p:nvPr>
        </p:nvSpPr>
        <p:spPr>
          <a:xfrm>
            <a:off x="609480" y="6041880"/>
            <a:ext cx="4622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5"/>
          </p:nvPr>
        </p:nvSpPr>
        <p:spPr>
          <a:xfrm>
            <a:off x="6445080" y="604188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900" spc="-1" strike="noStrike">
                <a:solidFill>
                  <a:schemeClr val="accent1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3AE9C21-F2FD-4792-8791-29622BB690BE}" type="slidenum">
              <a:rPr b="0" lang="ru-RU" sz="900" spc="-1" strike="noStrike">
                <a:solidFill>
                  <a:schemeClr val="accent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-7920" y="-7920"/>
            <a:ext cx="9169200" cy="6873480"/>
            <a:chOff x="-7920" y="-7920"/>
            <a:chExt cx="9169200" cy="6873480"/>
          </a:xfrm>
        </p:grpSpPr>
        <p:sp>
          <p:nvSpPr>
            <p:cNvPr id="273" name="Freeform 6"/>
            <p:cNvSpPr/>
            <p:nvPr/>
          </p:nvSpPr>
          <p:spPr>
            <a:xfrm>
              <a:off x="-7920" y="4013280"/>
              <a:ext cx="456840" cy="28522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2280"/>
                <a:gd name="textAreaBottom" fmla="*/ 2852640 h 285228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cxnSp>
          <p:nvCxnSpPr>
            <p:cNvPr id="274" name="Straight Connector 7"/>
            <p:cNvCxnSpPr/>
            <p:nvPr/>
          </p:nvCxnSpPr>
          <p:spPr>
            <a:xfrm flipV="1">
              <a:off x="5130720" y="4174920"/>
              <a:ext cx="4023000" cy="2683080"/>
            </a:xfrm>
            <a:prstGeom prst="straightConnector1">
              <a:avLst/>
            </a:prstGeom>
            <a:ln cap="rnd" w="0">
              <a:solidFill>
                <a:srgbClr val="d9d9d9"/>
              </a:solidFill>
            </a:ln>
          </p:spPr>
        </p:cxnSp>
        <p:cxnSp>
          <p:nvCxnSpPr>
            <p:cNvPr id="275" name="Straight Connector 8"/>
            <p:cNvCxnSpPr/>
            <p:nvPr/>
          </p:nvCxnSpPr>
          <p:spPr>
            <a:xfrm>
              <a:off x="7041960" y="0"/>
              <a:ext cx="1219680" cy="6858360"/>
            </a:xfrm>
            <a:prstGeom prst="straightConnector1">
              <a:avLst/>
            </a:prstGeom>
            <a:ln cap="rnd" w="0">
              <a:solidFill>
                <a:srgbClr val="bfbfbf"/>
              </a:solidFill>
            </a:ln>
          </p:spPr>
        </p:cxnSp>
        <p:sp>
          <p:nvSpPr>
            <p:cNvPr id="276" name="Freeform 9"/>
            <p:cNvSpPr/>
            <p:nvPr/>
          </p:nvSpPr>
          <p:spPr>
            <a:xfrm>
              <a:off x="6891480" y="0"/>
              <a:ext cx="2269800" cy="6865560"/>
            </a:xfrm>
            <a:custGeom>
              <a:avLst/>
              <a:gdLst>
                <a:gd name="textAreaLeft" fmla="*/ 0 w 2269800"/>
                <a:gd name="textAreaRight" fmla="*/ 2270160 w 2269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277" name="Freeform 10"/>
            <p:cNvSpPr/>
            <p:nvPr/>
          </p:nvSpPr>
          <p:spPr>
            <a:xfrm>
              <a:off x="7205760" y="-7920"/>
              <a:ext cx="1947600" cy="6865560"/>
            </a:xfrm>
            <a:custGeom>
              <a:avLst/>
              <a:gdLst>
                <a:gd name="textAreaLeft" fmla="*/ 0 w 1947600"/>
                <a:gd name="textAreaRight" fmla="*/ 1947960 w 1947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278" name="Freeform 11"/>
            <p:cNvSpPr/>
            <p:nvPr/>
          </p:nvSpPr>
          <p:spPr>
            <a:xfrm>
              <a:off x="6638760" y="3919680"/>
              <a:ext cx="2512800" cy="2937960"/>
            </a:xfrm>
            <a:custGeom>
              <a:avLst/>
              <a:gdLst>
                <a:gd name="textAreaLeft" fmla="*/ 0 w 2512800"/>
                <a:gd name="textAreaRight" fmla="*/ 2513160 w 2512800"/>
                <a:gd name="textAreaTop" fmla="*/ 0 h 2937960"/>
                <a:gd name="textAreaBottom" fmla="*/ 2938320 h 293796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279" name="Freeform 12"/>
            <p:cNvSpPr/>
            <p:nvPr/>
          </p:nvSpPr>
          <p:spPr>
            <a:xfrm>
              <a:off x="7010280" y="-7920"/>
              <a:ext cx="2142720" cy="6865560"/>
            </a:xfrm>
            <a:custGeom>
              <a:avLst/>
              <a:gdLst>
                <a:gd name="textAreaLeft" fmla="*/ 0 w 2142720"/>
                <a:gd name="textAreaRight" fmla="*/ 2143080 w 21427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280" name="Freeform 13"/>
            <p:cNvSpPr/>
            <p:nvPr/>
          </p:nvSpPr>
          <p:spPr>
            <a:xfrm>
              <a:off x="8296200" y="-7920"/>
              <a:ext cx="856800" cy="686556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281" name="Freeform 14"/>
            <p:cNvSpPr/>
            <p:nvPr/>
          </p:nvSpPr>
          <p:spPr>
            <a:xfrm>
              <a:off x="8077320" y="-7920"/>
              <a:ext cx="1066320" cy="68655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  <p:sp>
          <p:nvSpPr>
            <p:cNvPr id="282" name="Freeform 15"/>
            <p:cNvSpPr/>
            <p:nvPr/>
          </p:nvSpPr>
          <p:spPr>
            <a:xfrm>
              <a:off x="8059680" y="4894200"/>
              <a:ext cx="1095120" cy="196344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1963440"/>
                <a:gd name="textAreaBottom" fmla="*/ 1963800 h 196344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chemeClr val="lt1"/>
                </a:solidFill>
                <a:latin typeface="Trebuchet MS"/>
                <a:ea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880" cy="13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  <a:ea typeface="Arial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09480" y="2160720"/>
            <a:ext cx="6347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Arial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  <a:ea typeface="Arial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  <a:ea typeface="Arial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  <a:ea typeface="Arial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540540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609480" y="6041880"/>
            <a:ext cx="4622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445080" y="604188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900" spc="-1" strike="noStrike">
                <a:solidFill>
                  <a:schemeClr val="accent1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8FD3EDB-19F8-4FCA-B06F-82C1700F4CD8}" type="slidenum">
              <a:rPr b="0" lang="ru-RU" sz="900" spc="-1" strike="noStrike">
                <a:solidFill>
                  <a:schemeClr val="accent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4920" y="0"/>
            <a:ext cx="7461000" cy="1671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2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chemeClr val="accent2"/>
                </a:solidFill>
                <a:latin typeface="Times New Roman"/>
                <a:ea typeface="Arial"/>
              </a:rPr>
              <a:t>Мастер-класс: </a:t>
            </a:r>
            <a:br>
              <a:rPr sz="4000"/>
            </a:br>
            <a:r>
              <a:rPr b="0" lang="ru-RU" sz="4000" spc="-1" strike="noStrike">
                <a:solidFill>
                  <a:schemeClr val="accent2"/>
                </a:solidFill>
                <a:latin typeface="Times New Roman"/>
                <a:ea typeface="Arial"/>
              </a:rPr>
              <a:t>«Использование технологии конструирования из бумаги методом оригами»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Объект 2" descr=""/>
          <p:cNvPicPr/>
          <p:nvPr/>
        </p:nvPicPr>
        <p:blipFill>
          <a:blip r:embed="rId1"/>
          <a:stretch/>
        </p:blipFill>
        <p:spPr>
          <a:xfrm>
            <a:off x="609480" y="2200320"/>
            <a:ext cx="3644640" cy="4485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290840" y="4336920"/>
            <a:ext cx="40320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№1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форова Марина Игоревна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2" descr=""/>
          <p:cNvPicPr/>
          <p:nvPr/>
        </p:nvPicPr>
        <p:blipFill>
          <a:blip r:embed="rId1"/>
          <a:stretch/>
        </p:blipFill>
        <p:spPr>
          <a:xfrm>
            <a:off x="4425840" y="-96840"/>
            <a:ext cx="4687560" cy="328428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3" descr=""/>
          <p:cNvPicPr/>
          <p:nvPr/>
        </p:nvPicPr>
        <p:blipFill>
          <a:blip r:embed="rId2"/>
          <a:stretch/>
        </p:blipFill>
        <p:spPr>
          <a:xfrm>
            <a:off x="-347760" y="-324000"/>
            <a:ext cx="4870080" cy="371916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" descr=""/>
          <p:cNvPicPr/>
          <p:nvPr/>
        </p:nvPicPr>
        <p:blipFill>
          <a:blip r:embed="rId3"/>
          <a:stretch/>
        </p:blipFill>
        <p:spPr>
          <a:xfrm>
            <a:off x="66600" y="2889360"/>
            <a:ext cx="4389120" cy="42541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2" descr=""/>
          <p:cNvPicPr/>
          <p:nvPr/>
        </p:nvPicPr>
        <p:blipFill>
          <a:blip r:embed="rId4"/>
          <a:stretch/>
        </p:blipFill>
        <p:spPr>
          <a:xfrm>
            <a:off x="3529080" y="3200400"/>
            <a:ext cx="5517720" cy="360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41360"/>
            <a:ext cx="2935080" cy="36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49000"/>
          </a:bodyPr>
          <a:p>
            <a:pPr indent="0">
              <a:buNone/>
            </a:pPr>
            <a:endParaRPr b="0" lang="ru-RU" sz="3600" spc="-1" strike="noStrike">
              <a:solidFill>
                <a:schemeClr val="accent1"/>
              </a:solidFill>
              <a:latin typeface="Trebuchet MS"/>
              <a:ea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642160" cy="6237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rebuchet MS"/>
                <a:ea typeface="Arial"/>
              </a:rPr>
              <a:t>Педагогами разных стран выявлено, что Оригами: </a:t>
            </a:r>
            <a:endParaRPr b="0" lang="ru-RU" sz="3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вает пространственное воображение,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память,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творческие и исследовательские способности,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елкую мускулатуру кистей рук,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концентрацию внимания,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уверенность в своих силах и способностях,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знакомит с основными геометрическими понятиями;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улучшает способность следовать устным инструкциям;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расширяет коммуникативные способности;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воспитывает личность как члена общества, его нравственные, патриотические, интернациональные чувства;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воспитывает наблюдательность, художественно-эстетический вкус детей,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самостоятельность и аккуратность при работе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181080" y="1773360"/>
            <a:ext cx="7886520" cy="61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Monotype Corsiva"/>
                <a:ea typeface="Arial"/>
              </a:rPr>
              <a:t>Это занятие радует душу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Monotype Corsiva"/>
                <a:ea typeface="Arial"/>
              </a:rPr>
              <a:t>и позволяет человеку хотя бы ненадолго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Monotype Corsiva"/>
                <a:ea typeface="Arial"/>
              </a:rPr>
              <a:t>оторваться от груза повседневных проблем и улететь вместе с квадратиком бумаги в руках в замечательную страну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Monotype Corsiva"/>
                <a:ea typeface="Arial"/>
              </a:rPr>
              <a:t>Творчества.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828720" y="126828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9600" spc="-1" strike="noStrike">
                <a:solidFill>
                  <a:srgbClr val="0070c0"/>
                </a:solidFill>
                <a:latin typeface="Monotype Corsiva"/>
                <a:ea typeface="Arial"/>
              </a:rPr>
              <a:t>Спасибо </a:t>
            </a:r>
            <a:br>
              <a:rPr sz="9600"/>
            </a:br>
            <a:r>
              <a:rPr b="0" lang="ru-RU" sz="9600" spc="-1" strike="noStrike">
                <a:solidFill>
                  <a:srgbClr val="0070c0"/>
                </a:solidFill>
                <a:latin typeface="Monotype Corsiva"/>
                <a:ea typeface="Arial"/>
              </a:rPr>
              <a:t>за внимание!</a:t>
            </a:r>
            <a:endParaRPr b="0" lang="ru-RU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306360"/>
            <a:ext cx="777204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chemeClr val="accent2"/>
                </a:solidFill>
                <a:uFillTx/>
                <a:latin typeface="Tahoma"/>
                <a:ea typeface="Arial"/>
              </a:rPr>
              <a:t>Цель</a:t>
            </a:r>
            <a:r>
              <a:rPr b="0" lang="ru-RU" sz="3200" spc="-1" strike="noStrike">
                <a:solidFill>
                  <a:schemeClr val="accent2"/>
                </a:solidFill>
                <a:latin typeface="Tahoma"/>
                <a:ea typeface="Arial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755640" y="939960"/>
            <a:ext cx="7056000" cy="93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1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Овладение методикой использования оригами как средства пластического моделирования направленного на развитие художественного твор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1187280" y="1827360"/>
            <a:ext cx="216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2"/>
                </a:solidFill>
                <a:latin typeface="Tahoma"/>
                <a:ea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395280" y="2747880"/>
            <a:ext cx="7200720" cy="35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ередача опыта путём прямого и комментированного показа последовательности действий, методов, приёмов и форм педаг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овместная отработка методических методов и приёмов поставленных в программе мастер-кла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ефлексия собственного профессионального мастерства всеми участниками мастер-кла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казание помощи участникам мастер-класса в решении задач саморазвития и самосовершенс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88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ru-RU" sz="3600" spc="-1" strike="noStrike">
              <a:solidFill>
                <a:schemeClr val="accent1"/>
              </a:solidFill>
              <a:latin typeface="Trebuchet MS"/>
              <a:ea typeface="Arial"/>
            </a:endParaRPr>
          </a:p>
        </p:txBody>
      </p:sp>
      <p:pic>
        <p:nvPicPr>
          <p:cNvPr id="332" name="Picture 4" descr="https://i.ytimg.com/vi/slH1FhDKdps/maxresdefault.jpg"/>
          <p:cNvPicPr/>
          <p:nvPr/>
        </p:nvPicPr>
        <p:blipFill>
          <a:blip r:embed="rId1"/>
          <a:stretch/>
        </p:blipFill>
        <p:spPr>
          <a:xfrm>
            <a:off x="-158760" y="-158760"/>
            <a:ext cx="9461160" cy="71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rukodelieinfo.ru/wp-content/uploads/2018/02/Origami-babochka-58.jpg"/>
          <p:cNvPicPr/>
          <p:nvPr/>
        </p:nvPicPr>
        <p:blipFill>
          <a:blip r:embed="rId1"/>
          <a:stretch/>
        </p:blipFill>
        <p:spPr>
          <a:xfrm>
            <a:off x="3943440" y="-487440"/>
            <a:ext cx="5754240" cy="466848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2" descr=""/>
          <p:cNvPicPr/>
          <p:nvPr/>
        </p:nvPicPr>
        <p:blipFill>
          <a:blip r:embed="rId2"/>
          <a:stretch/>
        </p:blipFill>
        <p:spPr>
          <a:xfrm>
            <a:off x="-171360" y="-139680"/>
            <a:ext cx="4669920" cy="3857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http://learningvision.info/wp-content/uploads/2018/05/origami-yacht-instructions-nouveau-how-to-make-origami-boat-of-origami-yacht-instructions.jpg"/>
          <p:cNvPicPr/>
          <p:nvPr/>
        </p:nvPicPr>
        <p:blipFill>
          <a:blip r:embed="rId3"/>
          <a:stretch/>
        </p:blipFill>
        <p:spPr>
          <a:xfrm>
            <a:off x="-3349800" y="-9489960"/>
            <a:ext cx="28574640" cy="61495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http://learningvision.info/wp-content/uploads/2018/05/origami-yacht-instructions-nouveau-how-to-make-origami-boat-of-origami-yacht-instructions.jpg"/>
          <p:cNvPicPr/>
          <p:nvPr/>
        </p:nvPicPr>
        <p:blipFill>
          <a:blip r:embed="rId4"/>
          <a:stretch/>
        </p:blipFill>
        <p:spPr>
          <a:xfrm>
            <a:off x="-378000" y="3108240"/>
            <a:ext cx="5254200" cy="429876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4" descr=""/>
          <p:cNvPicPr/>
          <p:nvPr/>
        </p:nvPicPr>
        <p:blipFill>
          <a:blip r:embed="rId5"/>
          <a:stretch/>
        </p:blipFill>
        <p:spPr>
          <a:xfrm>
            <a:off x="4206960" y="3425760"/>
            <a:ext cx="5065200" cy="35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7056000" cy="62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1"/>
                </a:solidFill>
                <a:latin typeface="Tahoma"/>
                <a:ea typeface="Tahoma"/>
              </a:rPr>
              <a:t>Актуальность</a:t>
            </a:r>
            <a:br>
              <a:rPr sz="36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"Дошкольное образование направлено на формирование общей культуры, развитие физических, интеллектуальных, нравственных, эстетических и личностных качеств, формирование предпосылок учебной деятельности, сохранение и укрепление здоровья детей дошкольного возраст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(ФЗ «Об образовании в РФ».)</a:t>
            </a:r>
            <a:br>
              <a:rPr sz="2800"/>
            </a:br>
            <a:r>
              <a:rPr b="0" lang="ru-RU" sz="2800" spc="-1" strike="noStrike">
                <a:solidFill>
                  <a:schemeClr val="accent1"/>
                </a:solidFill>
                <a:latin typeface="Tahoma"/>
                <a:ea typeface="Tahoma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7886520" cy="6016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ahoma"/>
                <a:ea typeface="Arial"/>
              </a:rPr>
              <a:t>Оригами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  <a:ea typeface="Arial"/>
              </a:rPr>
              <a:t> - </a:t>
            </a: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Tahoma"/>
                <a:ea typeface="Arial"/>
              </a:rPr>
              <a:t>это самобытное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Tahoma"/>
                <a:ea typeface="Arial"/>
              </a:rPr>
              <a:t>японское искусство создания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Tahoma"/>
                <a:ea typeface="Arial"/>
              </a:rPr>
              <a:t>моделей различных предметов,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Tahoma"/>
                <a:ea typeface="Arial"/>
              </a:rPr>
              <a:t>животных, птиц, цветов путем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Tahoma"/>
                <a:ea typeface="Arial"/>
              </a:rPr>
              <a:t>сгибания листа бумаг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886520" cy="615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Общие правила при обучении технике оригами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готовка должна иметь точно квадратную форм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Бумага для поделок должна быть тонкой, упругой, хорошо сгибаться, цветн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. Показ изготовления производиться на столе или на доске. Заготовка для показа должна быть в 2 раза больше, чем у дет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. При показе не должно быть лишних поворотов и переворотов издел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5. Обучение складыванию каждой поделки должно быть поэтапным: показ одного приёма – выполнение детьми, показ второго – выполнение деть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6. Линии сгиба изделия должны тщательно разглаживать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7. Совмещение сторон и углов в процессе складывания должно быть точны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8. После того, как игрушка будет полностью готова, необходимо повторить приёмы складывания. В итоге ребёнок должен уметь самостоятельно изготовить поделку от начала до конца.</a:t>
            </a:r>
            <a:br>
              <a:rPr sz="36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360" y="476280"/>
            <a:ext cx="6192360" cy="72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ahoma"/>
                <a:ea typeface="Tahoma"/>
              </a:rPr>
              <a:t>Что дают ребенку занятия оригами?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027640" cy="525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9000"/>
          </a:bodyPr>
          <a:p>
            <a:pPr marL="274680" indent="-274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овершенствование координации тонких движений пальцев (мелкой мотори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терпение и внима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развитие способности четко формулировать мыс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обучение элементам логического и абстрактн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развитие усидчивости, наблюдательности, памяти и пространственного констру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244440"/>
            <a:ext cx="8845200" cy="6613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rebuchet MS"/>
                <a:ea typeface="Arial"/>
              </a:rPr>
              <a:t>Использование оригами в детском саду: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Оригами в интерьере. 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в сюжетно-ролевых играх. 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в дидактических играх.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Проведение подвижных игр с ободками-масками, выполненных из модулей цветной бумаги.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в театральной деятельности. 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Поделки-поздравления к праздникам (8 Марта, день Учителя, день Бабушек, день Защитника Отечества, 9 Мая, Новый год).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Новогодние игрушки на ёлку. 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На выставках: внутри учреждения, группе.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704</TotalTime>
  <Application>LibreOffice/7.4.7.2$Linux_X86_64 LibreOffice_project/40$Build-2</Application>
  <AppVersion>15.0000</AppVersion>
  <Paragraphs>45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7:54:12Z</dcterms:created>
  <dc:creator>333</dc:creator>
  <dc:description/>
  <dc:language>en-US</dc:language>
  <cp:lastModifiedBy>User</cp:lastModifiedBy>
  <cp:lastPrinted>2019-02-06T19:31:02Z</cp:lastPrinted>
  <dcterms:modified xsi:type="dcterms:W3CDTF">2022-11-13T13:43:19Z</dcterms:modified>
  <cp:revision>67</cp:revision>
  <dc:subject/>
  <dc:title>Мастер-класс по ориг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3</vt:r8>
  </property>
</Properties>
</file>