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0692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7296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4124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0692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7296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41240" y="28224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25400" y="7077240"/>
            <a:ext cx="935532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741240" y="282600"/>
            <a:ext cx="8609040" cy="66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024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Times New Roman"/>
              </a:rPr>
              <a:t>Методическая разработка по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Times New Roman"/>
              </a:rPr>
              <a:t>обогащению предметно-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Times New Roman"/>
              </a:rPr>
              <a:t>пространственной среды в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Times New Roman"/>
              </a:rPr>
              <a:t>дошкольной группе младшего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Times New Roman"/>
              </a:rPr>
              <a:t>возраста.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60360" y="360360"/>
            <a:ext cx="9431280" cy="712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0920" y="576360"/>
            <a:ext cx="9469440" cy="655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016000" y="431640"/>
            <a:ext cx="5668920" cy="655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4960" y="71280"/>
            <a:ext cx="8609040" cy="73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656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ВАРИАНТЫ ИГР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Игра «Соотнеси по размеру и цвету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Цель: способствовать развитию сенсорного восприятия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Игра развивает зрительное внимание, наблюдательность,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логическое мышление, память, речь, обогащает детский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словарь, учит различать размер и цвет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Игра «Волшебные замочки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Цель: Познакомить детей с подручными бытовыми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приспособлениями, изучить функциональность каждой мелкой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детали, способствовать ослаблению интереса ребёнка к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запретным «взрослым» бытовым приборам и замкам,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способствовать развитию мелкой моторики рук,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пространственного воображения, познавательных интересов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Игра « Разноцветные молнии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Цель: Развитие сенсомоторной координации, мелкой моторики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рук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73000" y="1573200"/>
            <a:ext cx="8402760" cy="54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12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41240" y="279360"/>
            <a:ext cx="8609040" cy="66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656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Обучающая игра «Весёлые шнурочки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Цель: способствовать развитию мелкой моторики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Игра «Веселые резинки и пуговицы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Цель: закреплять умение детей растягивать резинки на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пуговицы, учить различать цвета, воспитывать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настойчивость, целеустремленность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Игра « Вкусный десерт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Цель: Закрепление формы, цвета, координации рук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Эти и многие другие игры на бизибордах служат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предметом интеграции элементов всех образовательных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областей развития ребенка: познавательное, речевое,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социально – коммуникативное, физическое. А так игра с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бизибордом может являться формой психолого-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педагогической поддержки позитивной социализации и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индивидуализации ребёнка, средством всестороннего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развития его личности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741240" y="282600"/>
            <a:ext cx="8609040" cy="66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В ходе процесса создания и внедрения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бизибордов мы делились своими успехами 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родителями. Получив положительные отзывы, от родителей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начали поступат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предложения об участии в проекте по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обогащению предметно-пространственной сред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Первым заразительным примером от родителей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в нашей группе появилась игр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«Весёлые тоннельчики», цель которой–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выделение и название цвета. Материал игры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цветной картон, разноцветные плюшевые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шарик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17520" y="419040"/>
            <a:ext cx="9617040" cy="642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741240" y="282600"/>
            <a:ext cx="8609040" cy="66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Игра «Геометрические коробочки»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Цель: формирование представлений 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геометрических формах и цвет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Материал: картонные коробки, гуашь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цветной картон. Способ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применения: непосредственно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образовательная деятельность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самостоятельна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деятельность дете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31640" y="144360"/>
            <a:ext cx="9095040" cy="656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34960" y="144360"/>
            <a:ext cx="8609040" cy="66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656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Игры с разноцветными крышечками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«Интересная коробка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Цель: развитие мелкой моторики, координации,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пространственного мышления, сенсорных ощущений,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внимания. Материал: картонна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коробка, горлышки от пластиковых бутылок, пластиковые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крышки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«Крышки в банках». Цель: закрепление знания цветов,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развитие мелкой моторики,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координации движения и логического мышления. Материал: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пластиковые банки, разноцветные крышечки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«Весёлая мозаика». Цель: закрепление знания цветов, развитие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мелкой моторики рук,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творческого воображения, внимания, памяти, фантазии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Материал: цветные рисунки, разноцветные крышечки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41240" y="282600"/>
            <a:ext cx="8609040" cy="66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Современный ребёнок уже не так активно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занимается познанием мира, как его ровесник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еще пару десятков лет назад. Если раньше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малыш хватал в руки всё, что попадется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исследовал мир всеми возможными способами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то сейчас уже с года дети все чаще заняты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планшетами, телефонами, мультиками –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всем, что так нравится и намертво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приковывает их внимание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44360" y="287280"/>
            <a:ext cx="4680000" cy="3384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735280" y="3959280"/>
            <a:ext cx="4392720" cy="2808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4986360" y="287280"/>
            <a:ext cx="4734000" cy="33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741240" y="282600"/>
            <a:ext cx="8609040" cy="66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Игра «Цветочная поляна»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Цель: развитие мелкой моторики, координаци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движений рук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цветового восприятия. Материал: картонная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коробка (от пиццы), цветная бумага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коктейльные трубочки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Способы применения: непосредственно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образовательна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деятельность, самостоятельная деятельность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дете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73280" y="576360"/>
            <a:ext cx="8731080" cy="610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60360" y="287280"/>
            <a:ext cx="8999640" cy="6551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Игра «Удивительный домик»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Цель: способствовать развитию памяти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сенсорики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мышления, логики и мелкой моторики рук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Способы применения: непосредственн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образовательная деятельность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самостоятельная деятельность дете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87280" y="863640"/>
            <a:ext cx="9360000" cy="5904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12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Сказочное панно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Цель использования: развитие творческих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способностей детей дошкольного возраст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посредством театрализованных игр 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режиссерской деятельности, развитие мышления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памяти, внимания, воображения, реч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8040" y="301320"/>
            <a:ext cx="8609040" cy="17002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Игра «Разноцветные прищепки». 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Цель: развитие мелкой моторики рук, закрепление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сенсорных навыков и пространственных 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представлений, развитие воображения, речи.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Материал: цветное изображение предметов, 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цветные прищепки.</a:t>
            </a:r>
            <a:endParaRPr b="1" i="1" lang="en-US" sz="2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41240" y="2448000"/>
            <a:ext cx="4154760" cy="44528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 rot="21540000">
            <a:off x="5829120" y="2064960"/>
            <a:ext cx="3300120" cy="483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741240" y="282600"/>
            <a:ext cx="8609040" cy="66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656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Вывод: В ходе проекта мы углубились в понимание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потребностей детей и восполнили их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Также между воспитателями группы и родителями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образовались дружески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доверительные отношения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По результатам проекта можно сказать, что дети,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посещающие нашу группу, чувствую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себя полноправными владельцами пространства. Мы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считаем, что нам удалось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обустроить среду так, чтобы в след за удивлением и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интересом у ребёнка возникло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стремление узнавать всё больше и больше о мире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41240" y="282600"/>
            <a:ext cx="8609040" cy="66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Ссылаясь на многочисленный опыт коллег в интерне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источниках, мы увлеклись идеей – БИЗИБОРД.  Это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развивающая доска для детей, которая содержи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много различных кнопочек, замочков, щеколд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прищепок, резинок 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прочих предметов, которые могли бы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заинтересовать ребёнка. В нашей интерпретаци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«волшебные» доски статичны и мобильны. В наших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бизибордах мы постарались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учесть все развивающие фактор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41240" y="282600"/>
            <a:ext cx="8609040" cy="66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656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Мелкая моторика и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развитие речи взаимосвязаны напрямую. Через выполнение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мелких движений пальчиками рук,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происходит прямое влияние на мозг ребёнка. При давлении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на кончики пальцев сигнал идет прямо в кору головного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мозга, эти сигналы активизируют ещё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неразвитые клетки головного мозга, отвечающие за речь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ребёнка. Многократно открывая и закрывая замочки,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ребёнок каждый раз испытывает радость, когда ему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удается справиться с механизмом. Работа с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разнообразными  модулями совершенствует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зрительно-моторную координацию, формирует причинно-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следственные связи, нормализует эмоционально-волевую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сферу ребёнка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41240" y="282600"/>
            <a:ext cx="8609040" cy="66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Работа с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разнообразными  модулям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совершенствует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зрительно-моторную координацию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формирует причинно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следственные связи, нормализует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эмоционально-волевую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сферу ребёнка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92360" y="2438280"/>
            <a:ext cx="4746600" cy="27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12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41240" y="281160"/>
            <a:ext cx="8609040" cy="66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1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Цель: способствовать развитию мелкой моторики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координации движения, внимания, фантазии, усидчивости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творческого и логического мышления, самостоятельности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помогать в освоении бытовой деятельности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способствовать формированию умений и навыков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открывания и закрывания различных замков и задвижек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молний, щекол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Задачи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развивать мелкую моторику рук, логику и мышление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способствовать изучению различных цветов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формировать причинно-следственные связ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развивать самостоятельность и познавательную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активность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способствовать развитию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произвольности (умение играть по правилам и выполнять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инструкции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41240" y="282600"/>
            <a:ext cx="8609040" cy="66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656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Основой для бизибордов послужили разные материалы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(фанеры, плотный картон). Для наполнения использовалась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различные придметы: шпингалеты, молния, выключатель,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розетка, звоночки, шнурки, прищепки, пластиковые крышки,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пуговицы, застежки, картинки с липучками, детали от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конструктора, дверные петли, крючок, музыкальные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игрушки и т.д. Создавая развивающие доски, была внесена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полезность в каждый их элемент. Любой элемент в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бизиборде может заинтересовать ребёнка тем или иным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свойством. Развитие с помощью бизиборда возможно как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самостоятельно, так и с педагогом. Наши развивающие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доски  рассчитаны на младший дошкольный возраст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60360" y="431640"/>
            <a:ext cx="9360000" cy="633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4360" y="287280"/>
            <a:ext cx="9576000" cy="6624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13T14:26:31Z</dcterms:created>
  <dc:creator/>
  <dc:description>Оранжевый заголовок на темно-синем фоне; оранжевые линии по нижней границе</dc:description>
  <dc:language>en-US</dc:language>
  <cp:lastModifiedBy/>
  <cp:revision>1</cp:revision>
  <dc:subject/>
  <dc:title>Темно-синий с оранжевым</dc:title>
</cp:coreProperties>
</file>