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7.jpeg" ContentType="image/jpeg"/>
  <Override PartName="/ppt/media/image40.png" ContentType="image/png"/>
  <Override PartName="/ppt/media/image42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31A-41B8-4B87-BA2B-FA7B1A79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DB2-F987-4C98-BB53-B8B6B254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81D-0799-40BE-8E5E-3F718A68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BAB-15BF-43D6-AB58-969BE14C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52B9-ECA5-43D4-8F6E-D5CCBEA1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536F-1C02-4A27-8634-412EDA85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5F53-3A5B-499B-A4B1-AA8AE637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D9CD-3E2B-4986-91FE-92F49187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6C1F-FD84-492B-93B5-9B3A637B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A8F4-BF53-4782-ABD3-3FD937A9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78B9-6D71-4D30-B127-86955136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A99-96F7-470E-AA40-140BC04D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8047-B517-4A44-946E-C6172D42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0C69-89F5-4AA6-8D35-BFD9CF62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B129-783F-4046-B679-CE141F8F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F2E8-4E43-4E55-BD6F-F5DD2ACD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89A3-F8BA-4960-9142-06801B54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786C-8687-448E-AC9D-948BFC20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F61B-326C-492E-B454-19D52C1C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7E070-EC11-4E1D-A606-8E08591E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AAED-714B-46FC-A603-0CB7CE37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6878-C67A-47E2-B386-418D688F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389-8E81-4A2C-9A91-FDD4DCF5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8FAE-02F1-402E-821E-7B6971A2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F929-01AB-472A-B989-654867BB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9439-00F6-4E72-A8C6-DA7F1ABD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C48B2-8292-4CE9-B2E1-DBC704AD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EFE9-03D2-4956-B8A6-0B8CD0B6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71DC-7667-4AE7-B01C-1D5F5016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4E7F-ADC6-4280-A043-B9F77BC8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C43-7DFC-429F-9B46-ABFE02C6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F8A-53AB-4BEB-8A6F-D15E9BCE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37A-E5AB-40DC-86F9-2FF69827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08A-A86B-468A-83FF-5D3C1232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E34-6E4B-4781-9339-FC6E9EA1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237-C747-4A02-AF9B-7B125766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7094-EDA9-42C8-B91A-9151C4C96D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5EC1-659A-44B4-AB1B-8468017626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4EB4-2B25-49E1-BAEA-41A84C064C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slide" Target="slide9.xml"/><Relationship Id="rId5" Type="http://schemas.openxmlformats.org/officeDocument/2006/relationships/image" Target="../media/image12.png"/><Relationship Id="rId6" Type="http://schemas.openxmlformats.org/officeDocument/2006/relationships/slide" Target="slide13.xml"/><Relationship Id="rId7" Type="http://schemas.openxmlformats.org/officeDocument/2006/relationships/image" Target="../media/image13.png"/><Relationship Id="rId8" Type="http://schemas.openxmlformats.org/officeDocument/2006/relationships/slide" Target="slide21.xml"/><Relationship Id="rId9" Type="http://schemas.openxmlformats.org/officeDocument/2006/relationships/image" Target="../media/image14.png"/><Relationship Id="rId10" Type="http://schemas.openxmlformats.org/officeDocument/2006/relationships/slide" Target="slide25.xml"/><Relationship Id="rId11" Type="http://schemas.openxmlformats.org/officeDocument/2006/relationships/image" Target="../media/image15.png"/><Relationship Id="rId12" Type="http://schemas.openxmlformats.org/officeDocument/2006/relationships/slide" Target="slide27.xml"/><Relationship Id="rId13" Type="http://schemas.openxmlformats.org/officeDocument/2006/relationships/image" Target="../media/image16.png"/><Relationship Id="rId14" Type="http://schemas.openxmlformats.org/officeDocument/2006/relationships/image" Target="../media/image3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jpeg"/><Relationship Id="rId12" Type="http://schemas.openxmlformats.org/officeDocument/2006/relationships/image" Target="../media/image3.png"/><Relationship Id="rId13" Type="http://schemas.openxmlformats.org/officeDocument/2006/relationships/image" Target="../media/image9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>
            <a:hlinkClick r:id="rId1" action="ppaction://hlinksldjump"/>
          </p:cNvPr>
          <p:cNvSpPr/>
          <p:nvPr/>
        </p:nvSpPr>
        <p:spPr>
          <a:xfrm>
            <a:off x="8317080" y="638172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10800" y="7419"/>
                </a:moveTo>
                <a:lnTo>
                  <a:pt x="13376" y="10030"/>
                </a:lnTo>
                <a:lnTo>
                  <a:pt x="13376" y="8289"/>
                </a:lnTo>
                <a:lnTo>
                  <a:pt x="15152" y="8289"/>
                </a:lnTo>
                <a:lnTo>
                  <a:pt x="15152" y="11806"/>
                </a:lnTo>
                <a:lnTo>
                  <a:pt x="17763" y="14382"/>
                </a:lnTo>
                <a:lnTo>
                  <a:pt x="16109" y="14382"/>
                </a:lnTo>
                <a:lnTo>
                  <a:pt x="16109" y="21571"/>
                </a:lnTo>
                <a:lnTo>
                  <a:pt x="5491" y="21571"/>
                </a:lnTo>
                <a:lnTo>
                  <a:pt x="5491" y="14382"/>
                </a:lnTo>
                <a:lnTo>
                  <a:pt x="3837" y="14382"/>
                </a:lnTo>
                <a:close/>
              </a:path>
              <a:path fill="darkenLess" w="21600" h="28764">
                <a:moveTo>
                  <a:pt x="13376" y="10030"/>
                </a:moveTo>
                <a:lnTo>
                  <a:pt x="13376" y="8289"/>
                </a:lnTo>
                <a:lnTo>
                  <a:pt x="15152" y="8289"/>
                </a:lnTo>
                <a:lnTo>
                  <a:pt x="15152" y="11806"/>
                </a:lnTo>
                <a:close/>
              </a:path>
              <a:path fill="darkenLess" w="21600" h="28764">
                <a:moveTo>
                  <a:pt x="9877" y="17881"/>
                </a:moveTo>
                <a:lnTo>
                  <a:pt x="11723" y="17881"/>
                </a:lnTo>
                <a:lnTo>
                  <a:pt x="11723" y="21571"/>
                </a:lnTo>
                <a:lnTo>
                  <a:pt x="16109" y="21571"/>
                </a:lnTo>
                <a:lnTo>
                  <a:pt x="16109" y="14382"/>
                </a:lnTo>
                <a:lnTo>
                  <a:pt x="5491" y="14382"/>
                </a:lnTo>
                <a:lnTo>
                  <a:pt x="5491" y="21571"/>
                </a:lnTo>
                <a:lnTo>
                  <a:pt x="9877" y="2157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Прямоугольник 6" descr=""/>
          <p:cNvPicPr/>
          <p:nvPr/>
        </p:nvPicPr>
        <p:blipFill>
          <a:blip r:embed="rId2"/>
          <a:stretch/>
        </p:blipFill>
        <p:spPr>
          <a:xfrm>
            <a:off x="1017720" y="1189080"/>
            <a:ext cx="6992640" cy="2352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8"/>
          <p:cNvSpPr/>
          <p:nvPr/>
        </p:nvSpPr>
        <p:spPr>
          <a:xfrm>
            <a:off x="2050920" y="4437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кола № 277  Кировского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: Столбовая Наталия Евген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Стрелка вправо с вырезом 9"/>
          <p:cNvGrpSpPr/>
          <p:nvPr/>
        </p:nvGrpSpPr>
        <p:grpSpPr>
          <a:xfrm>
            <a:off x="4724280" y="5913360"/>
            <a:ext cx="476280" cy="322200"/>
            <a:chOff x="4724280" y="5913360"/>
            <a:chExt cx="476280" cy="322200"/>
          </a:xfrm>
        </p:grpSpPr>
        <p:pic>
          <p:nvPicPr>
            <p:cNvPr id="127" name="Стрелка вправо с вырезом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4724280" y="5913360"/>
              <a:ext cx="4762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842000" y="6004080"/>
              <a:ext cx="25236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Овал 11"/>
          <p:cNvGrpSpPr/>
          <p:nvPr/>
        </p:nvGrpSpPr>
        <p:grpSpPr>
          <a:xfrm>
            <a:off x="4151160" y="5711760"/>
            <a:ext cx="695520" cy="596880"/>
            <a:chOff x="4151160" y="5711760"/>
            <a:chExt cx="695520" cy="596880"/>
          </a:xfrm>
        </p:grpSpPr>
        <p:pic>
          <p:nvPicPr>
            <p:cNvPr id="130" name="Овал 11" descr=""/>
            <p:cNvPicPr/>
            <p:nvPr/>
          </p:nvPicPr>
          <p:blipFill>
            <a:blip r:embed="rId4"/>
            <a:stretch/>
          </p:blipFill>
          <p:spPr>
            <a:xfrm>
              <a:off x="4151160" y="5711760"/>
              <a:ext cx="6955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346640" y="586908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мметрия в пространств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Organization Chart 7"/>
          <p:cNvGrpSpPr/>
          <p:nvPr/>
        </p:nvGrpSpPr>
        <p:grpSpPr>
          <a:xfrm>
            <a:off x="860040" y="1845000"/>
            <a:ext cx="6856560" cy="803520"/>
            <a:chOff x="860040" y="1845000"/>
            <a:chExt cx="6856560" cy="803520"/>
          </a:xfrm>
        </p:grpSpPr>
        <p:cxnSp>
          <p:nvCxnSpPr>
            <p:cNvPr id="288" name="_s3076"/>
            <p:cNvCxnSpPr>
              <a:stCxn id="289" idx="0"/>
              <a:endCxn id="290" idx="2"/>
            </p:cNvCxnSpPr>
            <p:nvPr/>
          </p:nvCxnSpPr>
          <p:spPr>
            <a:xfrm flipV="1" rot="16200000">
              <a:off x="5344560" y="1073880"/>
              <a:ext cx="229320" cy="2343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1" name="_s3077"/>
            <p:cNvCxnSpPr>
              <a:stCxn id="292" idx="0"/>
              <a:endCxn id="290" idx="2"/>
            </p:cNvCxnSpPr>
            <p:nvPr/>
          </p:nvCxnSpPr>
          <p:spPr>
            <a:xfrm flipV="1" rot="16200000">
              <a:off x="4173480" y="224496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3" name="_s3078"/>
            <p:cNvCxnSpPr>
              <a:stCxn id="294" idx="0"/>
              <a:endCxn id="290" idx="2"/>
            </p:cNvCxnSpPr>
            <p:nvPr/>
          </p:nvCxnSpPr>
          <p:spPr>
            <a:xfrm flipH="1" flipV="1" rot="5400000">
              <a:off x="3003480" y="1075680"/>
              <a:ext cx="229320" cy="234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0" name="_s3079"/>
            <p:cNvSpPr/>
            <p:nvPr/>
          </p:nvSpPr>
          <p:spPr>
            <a:xfrm>
              <a:off x="2867400" y="1845000"/>
              <a:ext cx="2841840" cy="287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иды симметрии в пространств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_s3080"/>
            <p:cNvSpPr/>
            <p:nvPr/>
          </p:nvSpPr>
          <p:spPr>
            <a:xfrm>
              <a:off x="860040" y="2361240"/>
              <a:ext cx="2172960" cy="287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носительно точ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_s3081"/>
            <p:cNvSpPr/>
            <p:nvPr/>
          </p:nvSpPr>
          <p:spPr>
            <a:xfrm>
              <a:off x="3201840" y="2361240"/>
              <a:ext cx="2172960" cy="287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носительно прямо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_s3082"/>
            <p:cNvSpPr/>
            <p:nvPr/>
          </p:nvSpPr>
          <p:spPr>
            <a:xfrm>
              <a:off x="5543640" y="2361240"/>
              <a:ext cx="2172960" cy="287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носительно плоск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5" name="Object 44"/>
          <p:cNvGraphicFramePr/>
          <p:nvPr/>
        </p:nvGraphicFramePr>
        <p:xfrm>
          <a:off x="1222200" y="3220920"/>
          <a:ext cx="14400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3220920"/>
                    <a:ext cx="14400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46"/>
          <p:cNvGraphicFramePr/>
          <p:nvPr/>
        </p:nvGraphicFramePr>
        <p:xfrm>
          <a:off x="3672000" y="3152880"/>
          <a:ext cx="146664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2000" y="3152880"/>
                    <a:ext cx="146664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48"/>
          <p:cNvGraphicFramePr/>
          <p:nvPr/>
        </p:nvGraphicFramePr>
        <p:xfrm>
          <a:off x="5913360" y="3021120"/>
          <a:ext cx="1781280" cy="20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13360" y="3021120"/>
                    <a:ext cx="1781280" cy="20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51"/>
          <p:cNvSpPr/>
          <p:nvPr/>
        </p:nvSpPr>
        <p:spPr>
          <a:xfrm>
            <a:off x="1116000" y="5084640"/>
            <a:ext cx="72723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чка О – центр симметрии прямоугольного параллелепипе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ямая а – ось симметрии прямоугольного параллелепипе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оскость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лоскость симметрии прямоугольного параллелепипе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52"/>
          <p:cNvSpPr/>
          <p:nvPr/>
        </p:nvSpPr>
        <p:spPr>
          <a:xfrm>
            <a:off x="8317080" y="638172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10800" y="7419"/>
                </a:moveTo>
                <a:lnTo>
                  <a:pt x="13376" y="10030"/>
                </a:lnTo>
                <a:lnTo>
                  <a:pt x="13376" y="8289"/>
                </a:lnTo>
                <a:lnTo>
                  <a:pt x="15152" y="8289"/>
                </a:lnTo>
                <a:lnTo>
                  <a:pt x="15152" y="11806"/>
                </a:lnTo>
                <a:lnTo>
                  <a:pt x="17763" y="14382"/>
                </a:lnTo>
                <a:lnTo>
                  <a:pt x="16109" y="14382"/>
                </a:lnTo>
                <a:lnTo>
                  <a:pt x="16109" y="21571"/>
                </a:lnTo>
                <a:lnTo>
                  <a:pt x="5491" y="21571"/>
                </a:lnTo>
                <a:lnTo>
                  <a:pt x="5491" y="14382"/>
                </a:lnTo>
                <a:lnTo>
                  <a:pt x="3837" y="14382"/>
                </a:lnTo>
                <a:close/>
              </a:path>
              <a:path fill="darkenLess" w="21600" h="28764">
                <a:moveTo>
                  <a:pt x="13376" y="10030"/>
                </a:moveTo>
                <a:lnTo>
                  <a:pt x="13376" y="8289"/>
                </a:lnTo>
                <a:lnTo>
                  <a:pt x="15152" y="8289"/>
                </a:lnTo>
                <a:lnTo>
                  <a:pt x="15152" y="11806"/>
                </a:lnTo>
                <a:close/>
              </a:path>
              <a:path fill="darkenLess" w="21600" h="28764">
                <a:moveTo>
                  <a:pt x="9877" y="17881"/>
                </a:moveTo>
                <a:lnTo>
                  <a:pt x="11723" y="17881"/>
                </a:lnTo>
                <a:lnTo>
                  <a:pt x="11723" y="21571"/>
                </a:lnTo>
                <a:lnTo>
                  <a:pt x="16109" y="21571"/>
                </a:lnTo>
                <a:lnTo>
                  <a:pt x="16109" y="14382"/>
                </a:lnTo>
                <a:lnTo>
                  <a:pt x="5491" y="14382"/>
                </a:lnTo>
                <a:lnTo>
                  <a:pt x="5491" y="21571"/>
                </a:lnTo>
                <a:lnTo>
                  <a:pt x="9877" y="2157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53">
            <a:hlinkClick r:id="" action="ppaction://hlinkshowjump?jump=previousslide"/>
          </p:cNvPr>
          <p:cNvSpPr/>
          <p:nvPr/>
        </p:nvSpPr>
        <p:spPr>
          <a:xfrm>
            <a:off x="8101080" y="638172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" w="21600" h="36012">
                <a:moveTo>
                  <a:pt x="3794" y="18006"/>
                </a:moveTo>
                <a:lnTo>
                  <a:pt x="17806" y="11000"/>
                </a:lnTo>
                <a:lnTo>
                  <a:pt x="17806" y="2501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54">
            <a:hlinkClick r:id="" action="ppaction://hlinkshowjump?jump=nextslide"/>
          </p:cNvPr>
          <p:cNvSpPr/>
          <p:nvPr/>
        </p:nvSpPr>
        <p:spPr>
          <a:xfrm>
            <a:off x="8532720" y="638172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" w="21600" h="36012">
                <a:moveTo>
                  <a:pt x="3794" y="11000"/>
                </a:moveTo>
                <a:lnTo>
                  <a:pt x="17806" y="18006"/>
                </a:lnTo>
                <a:lnTo>
                  <a:pt x="3794" y="2501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4"/>
          <p:cNvGrpSpPr/>
          <p:nvPr/>
        </p:nvGrpSpPr>
        <p:grpSpPr>
          <a:xfrm>
            <a:off x="963720" y="420840"/>
            <a:ext cx="7235640" cy="1352520"/>
            <a:chOff x="963720" y="420840"/>
            <a:chExt cx="7235640" cy="1352520"/>
          </a:xfrm>
        </p:grpSpPr>
        <p:pic>
          <p:nvPicPr>
            <p:cNvPr id="13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63720" y="420840"/>
              <a:ext cx="72356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116000" y="500040"/>
              <a:ext cx="698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лько неотступно следуя законам геометрии, архитекторы древности могли создать свои шедевры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Прямоугольник 5"/>
          <p:cNvGrpSpPr/>
          <p:nvPr/>
        </p:nvGrpSpPr>
        <p:grpSpPr>
          <a:xfrm>
            <a:off x="1127160" y="1785960"/>
            <a:ext cx="6980040" cy="1353960"/>
            <a:chOff x="1127160" y="1785960"/>
            <a:chExt cx="6980040" cy="1353960"/>
          </a:xfrm>
        </p:grpSpPr>
        <p:pic>
          <p:nvPicPr>
            <p:cNvPr id="136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127160" y="1785960"/>
              <a:ext cx="69800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276200" y="1868400"/>
              <a:ext cx="662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ирамиды Хеопса – немой трактат по геометрии, а греческая архитектура – внешнее выражение геометрии Евклида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Прямоугольник 6"/>
          <p:cNvGrpSpPr/>
          <p:nvPr/>
        </p:nvGrpSpPr>
        <p:grpSpPr>
          <a:xfrm>
            <a:off x="1579680" y="3157560"/>
            <a:ext cx="6083280" cy="1353960"/>
            <a:chOff x="1579680" y="3157560"/>
            <a:chExt cx="6083280" cy="1353960"/>
          </a:xfrm>
        </p:grpSpPr>
        <p:pic>
          <p:nvPicPr>
            <p:cNvPr id="139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579680" y="3157560"/>
              <a:ext cx="608328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727280" y="3236760"/>
              <a:ext cx="57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шли века, но роль геометрии не изменилась. Она по-прежнему остается грамматикой архитекто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Прямоугольник 7"/>
          <p:cNvSpPr/>
          <p:nvPr/>
        </p:nvSpPr>
        <p:spPr>
          <a:xfrm>
            <a:off x="3059280" y="4710240"/>
            <a:ext cx="54003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слова принадлежат французскому архитектор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 Корбюзье (1887-1965)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му из наиболее значимых архитектор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XX век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http://sthelenblog.ru/wp-content/uploads/2016/03/photo_lc_001-1024x708.jpg"/>
          <p:cNvPicPr/>
          <p:nvPr/>
        </p:nvPicPr>
        <p:blipFill>
          <a:blip r:embed="rId4"/>
          <a:stretch/>
        </p:blipFill>
        <p:spPr>
          <a:xfrm>
            <a:off x="684360" y="4653000"/>
            <a:ext cx="2232000" cy="1542960"/>
          </a:xfrm>
          <a:prstGeom prst="rect">
            <a:avLst/>
          </a:prstGeom>
          <a:ln w="0">
            <a:noFill/>
          </a:ln>
        </p:spPr>
      </p:pic>
      <p:grpSp>
        <p:nvGrpSpPr>
          <p:cNvPr id="143" name="Стрелка вправо с вырезом 9"/>
          <p:cNvGrpSpPr/>
          <p:nvPr/>
        </p:nvGrpSpPr>
        <p:grpSpPr>
          <a:xfrm>
            <a:off x="4724280" y="5913360"/>
            <a:ext cx="476280" cy="322200"/>
            <a:chOff x="4724280" y="5913360"/>
            <a:chExt cx="476280" cy="322200"/>
          </a:xfrm>
        </p:grpSpPr>
        <p:pic>
          <p:nvPicPr>
            <p:cNvPr id="144" name="Стрелка вправо с вырезом 9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724280" y="5913360"/>
              <a:ext cx="4762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842000" y="6004080"/>
              <a:ext cx="25236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Стрелка вправо с вырезом 10"/>
          <p:cNvGrpSpPr/>
          <p:nvPr/>
        </p:nvGrpSpPr>
        <p:grpSpPr>
          <a:xfrm>
            <a:off x="3790800" y="5913360"/>
            <a:ext cx="476280" cy="322200"/>
            <a:chOff x="3790800" y="5913360"/>
            <a:chExt cx="476280" cy="322200"/>
          </a:xfrm>
        </p:grpSpPr>
        <p:pic>
          <p:nvPicPr>
            <p:cNvPr id="147" name="Стрелка вправо с вырезом 10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790800" y="5913360"/>
              <a:ext cx="4762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05280" y="6004080"/>
              <a:ext cx="25236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Овал 11"/>
          <p:cNvGrpSpPr/>
          <p:nvPr/>
        </p:nvGrpSpPr>
        <p:grpSpPr>
          <a:xfrm>
            <a:off x="4151160" y="5711760"/>
            <a:ext cx="695520" cy="596880"/>
            <a:chOff x="4151160" y="5711760"/>
            <a:chExt cx="695520" cy="596880"/>
          </a:xfrm>
        </p:grpSpPr>
        <p:pic>
          <p:nvPicPr>
            <p:cNvPr id="150" name="Овал 11" descr=""/>
            <p:cNvPicPr/>
            <p:nvPr/>
          </p:nvPicPr>
          <p:blipFill>
            <a:blip r:embed="rId7"/>
            <a:stretch/>
          </p:blipFill>
          <p:spPr>
            <a:xfrm>
              <a:off x="4151160" y="5711760"/>
              <a:ext cx="6955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346640" y="586908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8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215640" cy="360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72">
                <a:moveTo>
                  <a:pt x="0" y="0"/>
                </a:moveTo>
                <a:lnTo>
                  <a:pt x="21600" y="0"/>
                </a:lnTo>
                <a:lnTo>
                  <a:pt x="21600" y="36072"/>
                </a:lnTo>
                <a:lnTo>
                  <a:pt x="0" y="36072"/>
                </a:lnTo>
                <a:close/>
              </a:path>
              <a:path fill="lightenLess" w="21600" h="36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72">
                <a:moveTo>
                  <a:pt x="21600" y="0"/>
                </a:moveTo>
                <a:lnTo>
                  <a:pt x="21600" y="36072"/>
                </a:lnTo>
                <a:lnTo>
                  <a:pt x="20200" y="34672"/>
                </a:lnTo>
                <a:lnTo>
                  <a:pt x="20200" y="1400"/>
                </a:lnTo>
                <a:close/>
              </a:path>
              <a:path fill="darkenLess" w="21600" h="36072">
                <a:moveTo>
                  <a:pt x="21600" y="36072"/>
                </a:moveTo>
                <a:lnTo>
                  <a:pt x="0" y="36072"/>
                </a:lnTo>
                <a:lnTo>
                  <a:pt x="1400" y="34672"/>
                </a:lnTo>
                <a:lnTo>
                  <a:pt x="20200" y="34672"/>
                </a:lnTo>
                <a:close/>
              </a:path>
              <a:path fill="lighten" w="21600" h="36072">
                <a:moveTo>
                  <a:pt x="0" y="36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72"/>
                </a:lnTo>
                <a:close/>
              </a:path>
              <a:path fill="darken" w="21600" h="36072">
                <a:moveTo>
                  <a:pt x="3794" y="18036"/>
                </a:moveTo>
                <a:lnTo>
                  <a:pt x="17806" y="11030"/>
                </a:lnTo>
                <a:lnTo>
                  <a:pt x="17806" y="2504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9">
            <a:hlinkClick r:id="" action="ppaction://hlinkshowjump?jump=nextslide"/>
          </p:cNvPr>
          <p:cNvSpPr/>
          <p:nvPr/>
        </p:nvSpPr>
        <p:spPr>
          <a:xfrm>
            <a:off x="8532720" y="638172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" w="21600" h="36012">
                <a:moveTo>
                  <a:pt x="3794" y="11000"/>
                </a:moveTo>
                <a:lnTo>
                  <a:pt x="17806" y="18006"/>
                </a:lnTo>
                <a:lnTo>
                  <a:pt x="3794" y="2501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Прямоугольник 9"/>
          <p:cNvGrpSpPr/>
          <p:nvPr/>
        </p:nvGrpSpPr>
        <p:grpSpPr>
          <a:xfrm>
            <a:off x="433440" y="1060560"/>
            <a:ext cx="6265800" cy="689040"/>
            <a:chOff x="433440" y="1060560"/>
            <a:chExt cx="6265800" cy="689040"/>
          </a:xfrm>
        </p:grpSpPr>
        <p:pic>
          <p:nvPicPr>
            <p:cNvPr id="155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433440" y="1060560"/>
              <a:ext cx="62658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22800" y="1197000"/>
              <a:ext cx="5955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История правильных многограннико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Прямоугольник 10"/>
          <p:cNvGrpSpPr/>
          <p:nvPr/>
        </p:nvGrpSpPr>
        <p:grpSpPr>
          <a:xfrm>
            <a:off x="433440" y="1852560"/>
            <a:ext cx="4626000" cy="689040"/>
            <a:chOff x="433440" y="1852560"/>
            <a:chExt cx="4626000" cy="689040"/>
          </a:xfrm>
        </p:grpSpPr>
        <p:pic>
          <p:nvPicPr>
            <p:cNvPr id="158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33440" y="1852560"/>
              <a:ext cx="4626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32880" y="1989000"/>
              <a:ext cx="4266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  <a:hlinkClick r:id="rId4" action="ppaction://hlinksldjump"/>
                </a:rPr>
                <a:t>Симметрия в пространств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Прямоугольник 11"/>
          <p:cNvGrpSpPr/>
          <p:nvPr/>
        </p:nvGrpSpPr>
        <p:grpSpPr>
          <a:xfrm>
            <a:off x="433440" y="2670120"/>
            <a:ext cx="6186600" cy="689040"/>
            <a:chOff x="433440" y="2670120"/>
            <a:chExt cx="6186600" cy="689040"/>
          </a:xfrm>
        </p:grpSpPr>
        <p:pic>
          <p:nvPicPr>
            <p:cNvPr id="161" name="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433440" y="2670120"/>
              <a:ext cx="61866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37560" y="2805120"/>
              <a:ext cx="58636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  <a:hlinkClick r:id="rId6" action="ppaction://hlinksldjump"/>
                </a:rPr>
                <a:t>Понятие правильного многогранник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Прямоугольник 12"/>
          <p:cNvGrpSpPr/>
          <p:nvPr/>
        </p:nvGrpSpPr>
        <p:grpSpPr>
          <a:xfrm>
            <a:off x="433440" y="3438360"/>
            <a:ext cx="8296200" cy="689040"/>
            <a:chOff x="433440" y="3438360"/>
            <a:chExt cx="8296200" cy="689040"/>
          </a:xfrm>
        </p:grpSpPr>
        <p:pic>
          <p:nvPicPr>
            <p:cNvPr id="164" name="Прямоугольник 12" descr=""/>
            <p:cNvPicPr/>
            <p:nvPr/>
          </p:nvPicPr>
          <p:blipFill>
            <a:blip r:embed="rId7"/>
            <a:stretch/>
          </p:blipFill>
          <p:spPr>
            <a:xfrm>
              <a:off x="433440" y="3438360"/>
              <a:ext cx="82962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11280" y="3573360"/>
              <a:ext cx="806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  <a:hlinkClick r:id="rId8" action="ppaction://hlinksldjump"/>
                </a:rPr>
                <a:t>Элементы симметрии правильных многограннико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Прямоугольник 13"/>
          <p:cNvGrpSpPr/>
          <p:nvPr/>
        </p:nvGrpSpPr>
        <p:grpSpPr>
          <a:xfrm>
            <a:off x="433440" y="4230720"/>
            <a:ext cx="5126040" cy="689040"/>
            <a:chOff x="433440" y="4230720"/>
            <a:chExt cx="5126040" cy="689040"/>
          </a:xfrm>
        </p:grpSpPr>
        <p:pic>
          <p:nvPicPr>
            <p:cNvPr id="167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433440" y="4230720"/>
              <a:ext cx="5126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30360" y="4365720"/>
              <a:ext cx="4795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  <a:hlinkClick r:id="rId10" action="ppaction://hlinksldjump"/>
                </a:rPr>
                <a:t>Двойственные многогранник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Прямоугольник 14"/>
          <p:cNvGrpSpPr/>
          <p:nvPr/>
        </p:nvGrpSpPr>
        <p:grpSpPr>
          <a:xfrm>
            <a:off x="433440" y="5065560"/>
            <a:ext cx="3930480" cy="689040"/>
            <a:chOff x="433440" y="5065560"/>
            <a:chExt cx="3930480" cy="689040"/>
          </a:xfrm>
        </p:grpSpPr>
        <p:pic>
          <p:nvPicPr>
            <p:cNvPr id="170" name="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33440" y="5065560"/>
              <a:ext cx="39304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34320" y="5157720"/>
              <a:ext cx="357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  <a:hlinkClick r:id="rId12" action="ppaction://hlinksldjump"/>
                </a:rPr>
                <a:t>Практические зад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2" name="Прямоугольник 17" descr=""/>
          <p:cNvPicPr/>
          <p:nvPr/>
        </p:nvPicPr>
        <p:blipFill>
          <a:blip r:embed="rId13"/>
          <a:stretch/>
        </p:blipFill>
        <p:spPr>
          <a:xfrm>
            <a:off x="1938240" y="0"/>
            <a:ext cx="4889520" cy="1116000"/>
          </a:xfrm>
          <a:prstGeom prst="rect">
            <a:avLst/>
          </a:prstGeom>
          <a:ln w="0">
            <a:noFill/>
          </a:ln>
        </p:spPr>
      </p:pic>
      <p:grpSp>
        <p:nvGrpSpPr>
          <p:cNvPr id="173" name="Стрелка вправо с вырезом 18"/>
          <p:cNvGrpSpPr/>
          <p:nvPr/>
        </p:nvGrpSpPr>
        <p:grpSpPr>
          <a:xfrm>
            <a:off x="4724280" y="5913360"/>
            <a:ext cx="476280" cy="322200"/>
            <a:chOff x="4724280" y="5913360"/>
            <a:chExt cx="476280" cy="322200"/>
          </a:xfrm>
        </p:grpSpPr>
        <p:pic>
          <p:nvPicPr>
            <p:cNvPr id="174" name="Стрелка вправо с вырезом 18" descr="">
              <a:hlinkClick r:id="" action="ppaction://hlinkshowjump?jump=nextslide"/>
            </p:cNvPr>
            <p:cNvPicPr/>
            <p:nvPr/>
          </p:nvPicPr>
          <p:blipFill>
            <a:blip r:embed="rId14"/>
            <a:stretch/>
          </p:blipFill>
          <p:spPr>
            <a:xfrm>
              <a:off x="4724280" y="5913360"/>
              <a:ext cx="4762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842000" y="6004080"/>
              <a:ext cx="25236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Стрелка вправо с вырезом 19"/>
          <p:cNvGrpSpPr/>
          <p:nvPr/>
        </p:nvGrpSpPr>
        <p:grpSpPr>
          <a:xfrm>
            <a:off x="4224240" y="5913360"/>
            <a:ext cx="476280" cy="322200"/>
            <a:chOff x="4224240" y="5913360"/>
            <a:chExt cx="476280" cy="322200"/>
          </a:xfrm>
        </p:grpSpPr>
        <p:pic>
          <p:nvPicPr>
            <p:cNvPr id="177" name="Стрелка вправо с вырезом 19" descr="">
              <a:hlinkClick r:id="" action="ppaction://hlinkshowjump?jump=previousslide"/>
            </p:cNvPr>
            <p:cNvPicPr/>
            <p:nvPr/>
          </p:nvPicPr>
          <p:blipFill>
            <a:blip r:embed="rId15"/>
            <a:stretch/>
          </p:blipFill>
          <p:spPr>
            <a:xfrm>
              <a:off x="4224240" y="5913360"/>
              <a:ext cx="4762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338720" y="6004080"/>
              <a:ext cx="25092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Прямоугольник 10" descr=""/>
          <p:cNvPicPr/>
          <p:nvPr/>
        </p:nvPicPr>
        <p:blipFill>
          <a:blip r:embed="rId1"/>
          <a:stretch/>
        </p:blipFill>
        <p:spPr>
          <a:xfrm>
            <a:off x="1852560" y="36360"/>
            <a:ext cx="5614920" cy="1347840"/>
          </a:xfrm>
          <a:prstGeom prst="rect">
            <a:avLst/>
          </a:prstGeom>
          <a:ln w="0">
            <a:noFill/>
          </a:ln>
        </p:spPr>
      </p:pic>
      <p:grpSp>
        <p:nvGrpSpPr>
          <p:cNvPr id="180" name="Прямоугольник 12"/>
          <p:cNvGrpSpPr/>
          <p:nvPr/>
        </p:nvGrpSpPr>
        <p:grpSpPr>
          <a:xfrm>
            <a:off x="1127160" y="1352520"/>
            <a:ext cx="6883200" cy="1214640"/>
            <a:chOff x="1127160" y="1352520"/>
            <a:chExt cx="6883200" cy="1214640"/>
          </a:xfrm>
        </p:grpSpPr>
        <p:pic>
          <p:nvPicPr>
            <p:cNvPr id="181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1127160" y="1352520"/>
              <a:ext cx="68832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187280" y="1415880"/>
              <a:ext cx="6769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ильные многогранники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траэдр, октаэдр, куб, икосаэдр и додекаэдр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ыли открыты пифагорейцами (последователи Пифагора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Прямоугольник 13"/>
          <p:cNvGrpSpPr/>
          <p:nvPr/>
        </p:nvGrpSpPr>
        <p:grpSpPr>
          <a:xfrm>
            <a:off x="1932120" y="2498760"/>
            <a:ext cx="5145120" cy="1152360"/>
            <a:chOff x="1932120" y="2498760"/>
            <a:chExt cx="5145120" cy="1152360"/>
          </a:xfrm>
        </p:grpSpPr>
        <p:pic>
          <p:nvPicPr>
            <p:cNvPr id="184" name="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1932120" y="2498760"/>
              <a:ext cx="51451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050920" y="2565360"/>
              <a:ext cx="496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гласно их философии первые четыре многогранника олицетворяли четыре «стихии»: огонь, воздух, землю и воду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Прямоугольник 14"/>
          <p:cNvGrpSpPr/>
          <p:nvPr/>
        </p:nvGrpSpPr>
        <p:grpSpPr>
          <a:xfrm>
            <a:off x="2004840" y="3584520"/>
            <a:ext cx="5042160" cy="1152720"/>
            <a:chOff x="2004840" y="3584520"/>
            <a:chExt cx="5042160" cy="1152720"/>
          </a:xfrm>
        </p:grpSpPr>
        <p:pic>
          <p:nvPicPr>
            <p:cNvPr id="187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2004840" y="3584520"/>
              <a:ext cx="50421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124000" y="3645000"/>
              <a:ext cx="4824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виду отсутствия пятой стихии пятый многогранник – додекаэдр – пифагорейцы держали в секрете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Прямоугольник 15"/>
          <p:cNvGrpSpPr/>
          <p:nvPr/>
        </p:nvGrpSpPr>
        <p:grpSpPr>
          <a:xfrm>
            <a:off x="2438280" y="4664160"/>
            <a:ext cx="4206960" cy="1150920"/>
            <a:chOff x="2438280" y="4664160"/>
            <a:chExt cx="4206960" cy="1150920"/>
          </a:xfrm>
        </p:grpSpPr>
        <p:pic>
          <p:nvPicPr>
            <p:cNvPr id="190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2438280" y="4664160"/>
              <a:ext cx="4206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556000" y="4724280"/>
              <a:ext cx="396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роение правильных многогранников считалось верхом греческой мудрости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Стрелка вправо с вырезом 16"/>
          <p:cNvGrpSpPr/>
          <p:nvPr/>
        </p:nvGrpSpPr>
        <p:grpSpPr>
          <a:xfrm>
            <a:off x="4724280" y="6059520"/>
            <a:ext cx="476280" cy="322200"/>
            <a:chOff x="4724280" y="6059520"/>
            <a:chExt cx="476280" cy="322200"/>
          </a:xfrm>
        </p:grpSpPr>
        <p:pic>
          <p:nvPicPr>
            <p:cNvPr id="193" name="Стрелка вправо с вырезом 1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4724280" y="6059520"/>
              <a:ext cx="4762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842000" y="6146640"/>
              <a:ext cx="2523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Стрелка вправо с вырезом 17"/>
          <p:cNvGrpSpPr/>
          <p:nvPr/>
        </p:nvGrpSpPr>
        <p:grpSpPr>
          <a:xfrm>
            <a:off x="3790800" y="6059520"/>
            <a:ext cx="476280" cy="322200"/>
            <a:chOff x="3790800" y="6059520"/>
            <a:chExt cx="476280" cy="322200"/>
          </a:xfrm>
        </p:grpSpPr>
        <p:pic>
          <p:nvPicPr>
            <p:cNvPr id="196" name="Стрелка вправо с вырезом 17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3790800" y="6059520"/>
              <a:ext cx="4762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905280" y="6146640"/>
              <a:ext cx="2523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Овал 18"/>
          <p:cNvGrpSpPr/>
          <p:nvPr/>
        </p:nvGrpSpPr>
        <p:grpSpPr>
          <a:xfrm>
            <a:off x="4151160" y="5857920"/>
            <a:ext cx="695520" cy="598320"/>
            <a:chOff x="4151160" y="5857920"/>
            <a:chExt cx="695520" cy="598320"/>
          </a:xfrm>
        </p:grpSpPr>
        <p:pic>
          <p:nvPicPr>
            <p:cNvPr id="199" name="Овал 18" descr=""/>
            <p:cNvPicPr/>
            <p:nvPr/>
          </p:nvPicPr>
          <p:blipFill>
            <a:blip r:embed="rId8"/>
            <a:stretch/>
          </p:blipFill>
          <p:spPr>
            <a:xfrm>
              <a:off x="4151160" y="5857920"/>
              <a:ext cx="6955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346640" y="601200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33"/>
          <p:cNvSpPr/>
          <p:nvPr/>
        </p:nvSpPr>
        <p:spPr>
          <a:xfrm>
            <a:off x="1187280" y="5084640"/>
            <a:ext cx="2376720" cy="129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оугольник 31"/>
          <p:cNvSpPr/>
          <p:nvPr/>
        </p:nvSpPr>
        <p:spPr>
          <a:xfrm>
            <a:off x="2195640" y="2924280"/>
            <a:ext cx="1584360" cy="20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30"/>
          <p:cNvSpPr/>
          <p:nvPr/>
        </p:nvSpPr>
        <p:spPr>
          <a:xfrm>
            <a:off x="468360" y="2924280"/>
            <a:ext cx="1582560" cy="20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731880" y="4367160"/>
            <a:ext cx="11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дух, октаэд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29"/>
          <p:cNvSpPr/>
          <p:nvPr/>
        </p:nvSpPr>
        <p:spPr>
          <a:xfrm>
            <a:off x="2268360" y="765000"/>
            <a:ext cx="1582920" cy="20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28"/>
          <p:cNvSpPr/>
          <p:nvPr/>
        </p:nvSpPr>
        <p:spPr>
          <a:xfrm>
            <a:off x="468360" y="765000"/>
            <a:ext cx="1582560" cy="20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Rectangle 3"/>
          <p:cNvGrpSpPr/>
          <p:nvPr/>
        </p:nvGrpSpPr>
        <p:grpSpPr>
          <a:xfrm>
            <a:off x="3889440" y="2719440"/>
            <a:ext cx="4565520" cy="852480"/>
            <a:chOff x="3889440" y="2719440"/>
            <a:chExt cx="4565520" cy="852480"/>
          </a:xfrm>
        </p:grpSpPr>
        <p:pic>
          <p:nvPicPr>
            <p:cNvPr id="208" name="Rectangle 3" descr=""/>
            <p:cNvPicPr/>
            <p:nvPr/>
          </p:nvPicPr>
          <p:blipFill>
            <a:blip r:embed="rId1"/>
            <a:stretch/>
          </p:blipFill>
          <p:spPr>
            <a:xfrm>
              <a:off x="3889440" y="2719440"/>
              <a:ext cx="45655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997440" y="2781360"/>
              <a:ext cx="439236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косаэдр – имеет двадцать граней, икоси»-двадца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Группа 12"/>
          <p:cNvGrpSpPr/>
          <p:nvPr/>
        </p:nvGrpSpPr>
        <p:grpSpPr>
          <a:xfrm>
            <a:off x="539640" y="836640"/>
            <a:ext cx="1440000" cy="1938960"/>
            <a:chOff x="539640" y="836640"/>
            <a:chExt cx="1440000" cy="1938960"/>
          </a:xfrm>
        </p:grpSpPr>
        <p:pic>
          <p:nvPicPr>
            <p:cNvPr id="211" name="Picture 12" descr="http://urrealist.com/wp-content/uploads/2016/09/tetrahedron.jpg"/>
            <p:cNvPicPr/>
            <p:nvPr/>
          </p:nvPicPr>
          <p:blipFill>
            <a:blip r:embed="rId2"/>
            <a:stretch/>
          </p:blipFill>
          <p:spPr>
            <a:xfrm>
              <a:off x="539640" y="836640"/>
              <a:ext cx="1440000" cy="12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8"/>
            <p:cNvSpPr/>
            <p:nvPr/>
          </p:nvSpPr>
          <p:spPr>
            <a:xfrm>
              <a:off x="611640" y="2133000"/>
              <a:ext cx="129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гонь, тетраэд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Picture 8" descr="http://i.imgur.com/JQ9pES0.jpg"/>
          <p:cNvPicPr/>
          <p:nvPr/>
        </p:nvPicPr>
        <p:blipFill>
          <a:blip r:embed="rId3"/>
          <a:stretch/>
        </p:blipFill>
        <p:spPr>
          <a:xfrm>
            <a:off x="539640" y="2997360"/>
            <a:ext cx="1440000" cy="1439640"/>
          </a:xfrm>
          <a:prstGeom prst="rect">
            <a:avLst/>
          </a:prstGeom>
          <a:ln w="0">
            <a:noFill/>
          </a:ln>
        </p:spPr>
      </p:pic>
      <p:grpSp>
        <p:nvGrpSpPr>
          <p:cNvPr id="214" name="Группа 13"/>
          <p:cNvGrpSpPr/>
          <p:nvPr/>
        </p:nvGrpSpPr>
        <p:grpSpPr>
          <a:xfrm>
            <a:off x="2195640" y="836640"/>
            <a:ext cx="1728720" cy="1923480"/>
            <a:chOff x="2195640" y="836640"/>
            <a:chExt cx="1728720" cy="1923480"/>
          </a:xfrm>
        </p:grpSpPr>
        <p:pic>
          <p:nvPicPr>
            <p:cNvPr id="215" name="Picture 6" descr="http://voeto.ru/nuda/formula-ejlera-dlya-prostogo-mnogogrannika/4.jpg"/>
            <p:cNvPicPr/>
            <p:nvPr/>
          </p:nvPicPr>
          <p:blipFill>
            <a:blip r:embed="rId4"/>
            <a:stretch/>
          </p:blipFill>
          <p:spPr>
            <a:xfrm>
              <a:off x="2411640" y="836640"/>
              <a:ext cx="1267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10"/>
            <p:cNvSpPr/>
            <p:nvPr/>
          </p:nvSpPr>
          <p:spPr>
            <a:xfrm>
              <a:off x="2195640" y="211752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емля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гексаэдр (куб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Picture 10" descr="http://www.help-rus-student.ru/pictures/29/347_1.jpg"/>
          <p:cNvPicPr/>
          <p:nvPr/>
        </p:nvPicPr>
        <p:blipFill>
          <a:blip r:embed="rId5"/>
          <a:stretch/>
        </p:blipFill>
        <p:spPr>
          <a:xfrm>
            <a:off x="2333520" y="3068640"/>
            <a:ext cx="1371600" cy="14144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1"/>
          <p:cNvSpPr/>
          <p:nvPr/>
        </p:nvSpPr>
        <p:spPr>
          <a:xfrm>
            <a:off x="2340000" y="4365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д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косаэд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оугольник 16"/>
          <p:cNvSpPr/>
          <p:nvPr/>
        </p:nvSpPr>
        <p:spPr>
          <a:xfrm>
            <a:off x="4140360" y="692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чему правильные многогранники получили такие име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Прямоугольник 17"/>
          <p:cNvGrpSpPr/>
          <p:nvPr/>
        </p:nvGrpSpPr>
        <p:grpSpPr>
          <a:xfrm>
            <a:off x="3889440" y="1279440"/>
            <a:ext cx="5022720" cy="781200"/>
            <a:chOff x="3889440" y="1279440"/>
            <a:chExt cx="5022720" cy="781200"/>
          </a:xfrm>
        </p:grpSpPr>
        <p:pic>
          <p:nvPicPr>
            <p:cNvPr id="221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3889440" y="1279440"/>
              <a:ext cx="502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98880" y="1341360"/>
              <a:ext cx="48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траэдр имеет четыре грани, в переводе с греческого «тетра» - четыре, «эдрон» - грань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Прямоугольник 18"/>
          <p:cNvGrpSpPr/>
          <p:nvPr/>
        </p:nvGrpSpPr>
        <p:grpSpPr>
          <a:xfrm>
            <a:off x="3895560" y="2000160"/>
            <a:ext cx="4986360" cy="779400"/>
            <a:chOff x="3895560" y="2000160"/>
            <a:chExt cx="4986360" cy="779400"/>
          </a:xfrm>
        </p:grpSpPr>
        <p:pic>
          <p:nvPicPr>
            <p:cNvPr id="224" name="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3895560" y="2000160"/>
              <a:ext cx="49863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000680" y="2060640"/>
              <a:ext cx="48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ексаэдр (куб) имеет шесть граней, «гекса» - ше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Прямоугольник 19"/>
          <p:cNvGrpSpPr/>
          <p:nvPr/>
        </p:nvGrpSpPr>
        <p:grpSpPr>
          <a:xfrm>
            <a:off x="3889440" y="3943440"/>
            <a:ext cx="4565520" cy="780840"/>
            <a:chOff x="3889440" y="3943440"/>
            <a:chExt cx="4565520" cy="780840"/>
          </a:xfrm>
        </p:grpSpPr>
        <p:pic>
          <p:nvPicPr>
            <p:cNvPr id="227" name="Прямоугольник 19" descr=""/>
            <p:cNvPicPr/>
            <p:nvPr/>
          </p:nvPicPr>
          <p:blipFill>
            <a:blip r:embed="rId8"/>
            <a:stretch/>
          </p:blipFill>
          <p:spPr>
            <a:xfrm>
              <a:off x="3889440" y="3943440"/>
              <a:ext cx="456552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98880" y="4006800"/>
              <a:ext cx="438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декаэдр – двенадцатигранник, «додека» - двенадца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Прямоугольник 20"/>
          <p:cNvGrpSpPr/>
          <p:nvPr/>
        </p:nvGrpSpPr>
        <p:grpSpPr>
          <a:xfrm>
            <a:off x="3895560" y="3511440"/>
            <a:ext cx="4546800" cy="506520"/>
            <a:chOff x="3895560" y="3511440"/>
            <a:chExt cx="4546800" cy="506520"/>
          </a:xfrm>
        </p:grpSpPr>
        <p:pic>
          <p:nvPicPr>
            <p:cNvPr id="230" name="Прямоугольник 20" descr=""/>
            <p:cNvPicPr/>
            <p:nvPr/>
          </p:nvPicPr>
          <p:blipFill>
            <a:blip r:embed="rId9"/>
            <a:stretch/>
          </p:blipFill>
          <p:spPr>
            <a:xfrm>
              <a:off x="3895560" y="3511440"/>
              <a:ext cx="45468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000680" y="3573360"/>
              <a:ext cx="43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ктаэдр – восьмигранник, «окто» - восем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" name="Прямоугольник 22" descr=""/>
          <p:cNvPicPr/>
          <p:nvPr/>
        </p:nvPicPr>
        <p:blipFill>
          <a:blip r:embed="rId10"/>
          <a:stretch/>
        </p:blipFill>
        <p:spPr>
          <a:xfrm>
            <a:off x="1322280" y="139680"/>
            <a:ext cx="6784920" cy="603360"/>
          </a:xfrm>
          <a:prstGeom prst="rect">
            <a:avLst/>
          </a:prstGeom>
          <a:ln w="0">
            <a:noFill/>
          </a:ln>
        </p:spPr>
      </p:pic>
      <p:grpSp>
        <p:nvGrpSpPr>
          <p:cNvPr id="233" name="Группа 32"/>
          <p:cNvGrpSpPr/>
          <p:nvPr/>
        </p:nvGrpSpPr>
        <p:grpSpPr>
          <a:xfrm>
            <a:off x="1332000" y="5173560"/>
            <a:ext cx="2062080" cy="1362240"/>
            <a:chOff x="1332000" y="5173560"/>
            <a:chExt cx="2062080" cy="1362240"/>
          </a:xfrm>
        </p:grpSpPr>
        <p:pic>
          <p:nvPicPr>
            <p:cNvPr id="234" name="Picture 14" descr="http://yumuz.ru/uploads/images/d/d/k/ddkajdr.jpg"/>
            <p:cNvPicPr/>
            <p:nvPr/>
          </p:nvPicPr>
          <p:blipFill>
            <a:blip r:embed="rId11"/>
            <a:stretch/>
          </p:blipFill>
          <p:spPr>
            <a:xfrm>
              <a:off x="1332000" y="5173560"/>
              <a:ext cx="115164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Прямоугольник 26"/>
            <p:cNvSpPr/>
            <p:nvPr/>
          </p:nvSpPr>
          <p:spPr>
            <a:xfrm>
              <a:off x="2242440" y="5893200"/>
              <a:ext cx="115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декаэд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Стрелка вправо с вырезом 34"/>
          <p:cNvGrpSpPr/>
          <p:nvPr/>
        </p:nvGrpSpPr>
        <p:grpSpPr>
          <a:xfrm>
            <a:off x="4724280" y="5913360"/>
            <a:ext cx="476280" cy="322200"/>
            <a:chOff x="4724280" y="5913360"/>
            <a:chExt cx="476280" cy="322200"/>
          </a:xfrm>
        </p:grpSpPr>
        <p:pic>
          <p:nvPicPr>
            <p:cNvPr id="237" name="Стрелка вправо с вырезом 34" descr="">
              <a:hlinkClick r:id="" action="ppaction://hlinkshowjump?jump=nextslide"/>
            </p:cNvPr>
            <p:cNvPicPr/>
            <p:nvPr/>
          </p:nvPicPr>
          <p:blipFill>
            <a:blip r:embed="rId12"/>
            <a:stretch/>
          </p:blipFill>
          <p:spPr>
            <a:xfrm>
              <a:off x="4724280" y="5913360"/>
              <a:ext cx="4762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842000" y="6004080"/>
              <a:ext cx="25236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Стрелка вправо с вырезом 35"/>
          <p:cNvGrpSpPr/>
          <p:nvPr/>
        </p:nvGrpSpPr>
        <p:grpSpPr>
          <a:xfrm>
            <a:off x="3790800" y="5913360"/>
            <a:ext cx="476280" cy="322200"/>
            <a:chOff x="3790800" y="5913360"/>
            <a:chExt cx="476280" cy="322200"/>
          </a:xfrm>
        </p:grpSpPr>
        <p:pic>
          <p:nvPicPr>
            <p:cNvPr id="240" name="Стрелка вправо с вырезом 35" descr="">
              <a:hlinkClick r:id="" action="ppaction://hlinkshowjump?jump=previousslide"/>
            </p:cNvPr>
            <p:cNvPicPr/>
            <p:nvPr/>
          </p:nvPicPr>
          <p:blipFill>
            <a:blip r:embed="rId13"/>
            <a:stretch/>
          </p:blipFill>
          <p:spPr>
            <a:xfrm>
              <a:off x="3790800" y="5913360"/>
              <a:ext cx="4762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905280" y="6004080"/>
              <a:ext cx="25236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Овал 36"/>
          <p:cNvGrpSpPr/>
          <p:nvPr/>
        </p:nvGrpSpPr>
        <p:grpSpPr>
          <a:xfrm>
            <a:off x="4151160" y="5711760"/>
            <a:ext cx="695520" cy="596880"/>
            <a:chOff x="4151160" y="5711760"/>
            <a:chExt cx="695520" cy="596880"/>
          </a:xfrm>
        </p:grpSpPr>
        <p:pic>
          <p:nvPicPr>
            <p:cNvPr id="243" name="Овал 36" descr=""/>
            <p:cNvPicPr/>
            <p:nvPr/>
          </p:nvPicPr>
          <p:blipFill>
            <a:blip r:embed="rId14"/>
            <a:stretch/>
          </p:blipFill>
          <p:spPr>
            <a:xfrm>
              <a:off x="4151160" y="5711760"/>
              <a:ext cx="6955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346640" y="586908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Прямоугольник 9" descr=""/>
          <p:cNvPicPr/>
          <p:nvPr/>
        </p:nvPicPr>
        <p:blipFill>
          <a:blip r:embed="rId1"/>
          <a:stretch/>
        </p:blipFill>
        <p:spPr>
          <a:xfrm>
            <a:off x="1322280" y="139680"/>
            <a:ext cx="6784920" cy="603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http://fb.ru/misc/i/gallery/12054/580331.jpg"/>
          <p:cNvPicPr/>
          <p:nvPr/>
        </p:nvPicPr>
        <p:blipFill>
          <a:blip r:embed="rId2"/>
          <a:stretch/>
        </p:blipFill>
        <p:spPr>
          <a:xfrm>
            <a:off x="611280" y="2166840"/>
            <a:ext cx="2808360" cy="3699000"/>
          </a:xfrm>
          <a:prstGeom prst="rect">
            <a:avLst/>
          </a:prstGeom>
          <a:ln w="0">
            <a:noFill/>
          </a:ln>
        </p:spPr>
      </p:pic>
      <p:grpSp>
        <p:nvGrpSpPr>
          <p:cNvPr id="247" name="Прямоугольник 11"/>
          <p:cNvGrpSpPr/>
          <p:nvPr/>
        </p:nvGrpSpPr>
        <p:grpSpPr>
          <a:xfrm>
            <a:off x="646200" y="701640"/>
            <a:ext cx="8302680" cy="1335240"/>
            <a:chOff x="646200" y="701640"/>
            <a:chExt cx="8302680" cy="1335240"/>
          </a:xfrm>
        </p:grpSpPr>
        <p:pic>
          <p:nvPicPr>
            <p:cNvPr id="248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646200" y="701640"/>
              <a:ext cx="830268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5640" y="765000"/>
              <a:ext cx="813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ликий ученый Пифагор родился около 570 г. до н.э. в Древней Греции на острове Самос, поэтому его называют Пифагором Самосским. По многим свидетельствам, родившийся мальчик был очень красив, а вскоре проявил свои незаурядные способност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Прямоугольник 12"/>
          <p:cNvGrpSpPr/>
          <p:nvPr/>
        </p:nvGrpSpPr>
        <p:grpSpPr>
          <a:xfrm>
            <a:off x="3438360" y="2236680"/>
            <a:ext cx="5376960" cy="1487520"/>
            <a:chOff x="3438360" y="2236680"/>
            <a:chExt cx="5376960" cy="1487520"/>
          </a:xfrm>
        </p:grpSpPr>
        <p:pic>
          <p:nvPicPr>
            <p:cNvPr id="251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438360" y="2236680"/>
              <a:ext cx="537696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541680" y="2281320"/>
              <a:ext cx="51339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молодости для изучения наук жрецов Пифагор путешествовал по Египту, жил также в Вавилоне, где в течение 12 лет изучать астрологию и астрономию у халдейских жрецов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Прямоугольник 13"/>
          <p:cNvGrpSpPr/>
          <p:nvPr/>
        </p:nvGrpSpPr>
        <p:grpSpPr>
          <a:xfrm>
            <a:off x="3456000" y="3906720"/>
            <a:ext cx="5396040" cy="1609920"/>
            <a:chOff x="3456000" y="3906720"/>
            <a:chExt cx="5396040" cy="1609920"/>
          </a:xfrm>
        </p:grpSpPr>
        <p:pic>
          <p:nvPicPr>
            <p:cNvPr id="254" name="Прямоугольник 13" descr=""/>
            <p:cNvPicPr/>
            <p:nvPr/>
          </p:nvPicPr>
          <p:blipFill>
            <a:blip r:embed="rId5"/>
            <a:stretch/>
          </p:blipFill>
          <p:spPr>
            <a:xfrm>
              <a:off x="3456000" y="3906720"/>
              <a:ext cx="539604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564000" y="3967200"/>
              <a:ext cx="5184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ле Вавилона, побыв некоторое время в своем отечестве, Пифагор переселился в южную Италию, а потом в Сицилию и организовал там пифагорейскую школу, которая внесла ценный вклад в развитие математики и астрономии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TextBox 14"/>
          <p:cNvSpPr/>
          <p:nvPr/>
        </p:nvSpPr>
        <p:spPr>
          <a:xfrm>
            <a:off x="1198080" y="580716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фаг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70-490 г.г. до н.э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Стрелка вправо с вырезом 15"/>
          <p:cNvGrpSpPr/>
          <p:nvPr/>
        </p:nvGrpSpPr>
        <p:grpSpPr>
          <a:xfrm>
            <a:off x="4724280" y="5913360"/>
            <a:ext cx="476280" cy="322200"/>
            <a:chOff x="4724280" y="5913360"/>
            <a:chExt cx="476280" cy="322200"/>
          </a:xfrm>
        </p:grpSpPr>
        <p:pic>
          <p:nvPicPr>
            <p:cNvPr id="258" name="Стрелка вправо с вырезом 15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4724280" y="5913360"/>
              <a:ext cx="4762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842000" y="6004080"/>
              <a:ext cx="25236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Стрелка вправо с вырезом 16"/>
          <p:cNvGrpSpPr/>
          <p:nvPr/>
        </p:nvGrpSpPr>
        <p:grpSpPr>
          <a:xfrm>
            <a:off x="3790800" y="5913360"/>
            <a:ext cx="476280" cy="322200"/>
            <a:chOff x="3790800" y="5913360"/>
            <a:chExt cx="476280" cy="322200"/>
          </a:xfrm>
        </p:grpSpPr>
        <p:pic>
          <p:nvPicPr>
            <p:cNvPr id="261" name="Стрелка вправо с вырезом 16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3790800" y="5913360"/>
              <a:ext cx="4762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905280" y="6004080"/>
              <a:ext cx="25236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Овал 19"/>
          <p:cNvGrpSpPr/>
          <p:nvPr/>
        </p:nvGrpSpPr>
        <p:grpSpPr>
          <a:xfrm>
            <a:off x="4151160" y="5711760"/>
            <a:ext cx="695520" cy="596880"/>
            <a:chOff x="4151160" y="5711760"/>
            <a:chExt cx="695520" cy="596880"/>
          </a:xfrm>
        </p:grpSpPr>
        <p:pic>
          <p:nvPicPr>
            <p:cNvPr id="264" name="Овал 19" descr=""/>
            <p:cNvPicPr/>
            <p:nvPr/>
          </p:nvPicPr>
          <p:blipFill>
            <a:blip r:embed="rId8"/>
            <a:stretch/>
          </p:blipFill>
          <p:spPr>
            <a:xfrm>
              <a:off x="4151160" y="5711760"/>
              <a:ext cx="6955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346640" y="586908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324000" y="2565360"/>
            <a:ext cx="82296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ифагор и его ученики много трудились над тем, чтобы придать геометрии научный характер. Кроме знаменитой теоремы, носящей его имя, Пифагору приписывается еще ряд замечательных открытий, в том числе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1. Теорема о сумме внутренних углов треугольни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2. Задача о покрытии, т.е. о делении плоскости на правильные многоугольники (равносторонние треугольники, квадраты и правильные шестиугольник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3. Геометрические способы решения квадратных уравнен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4. Правила решать задачу: «По данным двум фигурам построить третью, которая была бы равна одной из данных и подобна другой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ибольшую славу Пифагору принесла открытая им «теорема Пифагора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Прямоугольник 2" descr=""/>
          <p:cNvPicPr/>
          <p:nvPr/>
        </p:nvPicPr>
        <p:blipFill>
          <a:blip r:embed="rId1"/>
          <a:stretch/>
        </p:blipFill>
        <p:spPr>
          <a:xfrm>
            <a:off x="1322280" y="139680"/>
            <a:ext cx="6784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правильных многогран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ликие художники Возрождения Леонардо да Винчи и Альбрехт Дюрер занимались изучением свойств правильных и полуправильных многогранников, изображали их на своих полотна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еонардо да Винчи (1452-1519) – ученый, художник и скульптор говорил: «Пусть никто, не будучи математиком, не дерзнет читать мои труды». Он изучал симметрию правильных многоугольников, отчетливо сознавал все возможности, которые несет в себе симметр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 этом говорят его рисунки, сделанные для проектирования зд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5605560" y="1828800"/>
          <a:ext cx="212256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560" y="1828800"/>
                    <a:ext cx="212256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5627520" y="4056120"/>
          <a:ext cx="2079720" cy="207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7520" y="4056120"/>
                    <a:ext cx="207972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AutoShape 8"/>
          <p:cNvSpPr/>
          <p:nvPr/>
        </p:nvSpPr>
        <p:spPr>
          <a:xfrm>
            <a:off x="8317080" y="638172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10800" y="7419"/>
                </a:moveTo>
                <a:lnTo>
                  <a:pt x="13376" y="10030"/>
                </a:lnTo>
                <a:lnTo>
                  <a:pt x="13376" y="8289"/>
                </a:lnTo>
                <a:lnTo>
                  <a:pt x="15152" y="8289"/>
                </a:lnTo>
                <a:lnTo>
                  <a:pt x="15152" y="11806"/>
                </a:lnTo>
                <a:lnTo>
                  <a:pt x="17763" y="14382"/>
                </a:lnTo>
                <a:lnTo>
                  <a:pt x="16109" y="14382"/>
                </a:lnTo>
                <a:lnTo>
                  <a:pt x="16109" y="21571"/>
                </a:lnTo>
                <a:lnTo>
                  <a:pt x="5491" y="21571"/>
                </a:lnTo>
                <a:lnTo>
                  <a:pt x="5491" y="14382"/>
                </a:lnTo>
                <a:lnTo>
                  <a:pt x="3837" y="14382"/>
                </a:lnTo>
                <a:close/>
              </a:path>
              <a:path fill="darkenLess" w="21600" h="28764">
                <a:moveTo>
                  <a:pt x="13376" y="10030"/>
                </a:moveTo>
                <a:lnTo>
                  <a:pt x="13376" y="8289"/>
                </a:lnTo>
                <a:lnTo>
                  <a:pt x="15152" y="8289"/>
                </a:lnTo>
                <a:lnTo>
                  <a:pt x="15152" y="11806"/>
                </a:lnTo>
                <a:close/>
              </a:path>
              <a:path fill="darkenLess" w="21600" h="28764">
                <a:moveTo>
                  <a:pt x="9877" y="17881"/>
                </a:moveTo>
                <a:lnTo>
                  <a:pt x="11723" y="17881"/>
                </a:lnTo>
                <a:lnTo>
                  <a:pt x="11723" y="21571"/>
                </a:lnTo>
                <a:lnTo>
                  <a:pt x="16109" y="21571"/>
                </a:lnTo>
                <a:lnTo>
                  <a:pt x="16109" y="14382"/>
                </a:lnTo>
                <a:lnTo>
                  <a:pt x="5491" y="14382"/>
                </a:lnTo>
                <a:lnTo>
                  <a:pt x="5491" y="21571"/>
                </a:lnTo>
                <a:lnTo>
                  <a:pt x="9877" y="2157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">
            <a:hlinkClick r:id="" action="ppaction://hlinkshowjump?jump=previousslide"/>
          </p:cNvPr>
          <p:cNvSpPr/>
          <p:nvPr/>
        </p:nvSpPr>
        <p:spPr>
          <a:xfrm>
            <a:off x="8101080" y="638172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" w="21600" h="36012">
                <a:moveTo>
                  <a:pt x="3794" y="18006"/>
                </a:moveTo>
                <a:lnTo>
                  <a:pt x="17806" y="11000"/>
                </a:lnTo>
                <a:lnTo>
                  <a:pt x="17806" y="2501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10">
            <a:hlinkClick r:id="" action="ppaction://hlinkshowjump?jump=nextslide"/>
          </p:cNvPr>
          <p:cNvSpPr/>
          <p:nvPr/>
        </p:nvSpPr>
        <p:spPr>
          <a:xfrm>
            <a:off x="8532720" y="638172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" w="21600" h="36012">
                <a:moveTo>
                  <a:pt x="3794" y="11000"/>
                </a:moveTo>
                <a:lnTo>
                  <a:pt x="17806" y="18006"/>
                </a:lnTo>
                <a:lnTo>
                  <a:pt x="3794" y="2501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правильных многогран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временная теория многогранников берет свое начало с работ Леонардо Эйлера (1707-1783). Долгое время  (с 1727 по 1741 год и с 1766 года до конца жизни) жил и работал в России, был действительным членом Петербургской академии наук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752 году Эйлером была доказана ставшая знаменитой теореме о числе граней, вершин и ребер правильного многогранни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орема Эйлера. </a:t>
            </a:r>
            <a:r>
              <a:rPr b="1" i="1" lang="ru-RU" sz="1600" spc="-1" strike="noStrike">
                <a:solidFill>
                  <a:srgbClr val="eeece1"/>
                </a:solidFill>
                <a:latin typeface="Calibri"/>
              </a:rPr>
              <a:t>Для любого выпуклого многогранника справедливо соотношение Г+В-Р=2, где Г – число граней, В – число вершин, Р – число ребер данного многогранни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Object 8"/>
          <p:cNvGraphicFramePr/>
          <p:nvPr/>
        </p:nvGraphicFramePr>
        <p:xfrm>
          <a:off x="5810400" y="2008080"/>
          <a:ext cx="171432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0" y="2008080"/>
                    <a:ext cx="17143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0"/>
          <p:cNvGraphicFramePr/>
          <p:nvPr/>
        </p:nvGraphicFramePr>
        <p:xfrm>
          <a:off x="4716360" y="2708280"/>
          <a:ext cx="380376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708280"/>
                    <a:ext cx="380376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AutoShape 12"/>
          <p:cNvSpPr/>
          <p:nvPr/>
        </p:nvSpPr>
        <p:spPr>
          <a:xfrm>
            <a:off x="8317080" y="638172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10800" y="7419"/>
                </a:moveTo>
                <a:lnTo>
                  <a:pt x="13376" y="10030"/>
                </a:lnTo>
                <a:lnTo>
                  <a:pt x="13376" y="8289"/>
                </a:lnTo>
                <a:lnTo>
                  <a:pt x="15152" y="8289"/>
                </a:lnTo>
                <a:lnTo>
                  <a:pt x="15152" y="11806"/>
                </a:lnTo>
                <a:lnTo>
                  <a:pt x="17763" y="14382"/>
                </a:lnTo>
                <a:lnTo>
                  <a:pt x="16109" y="14382"/>
                </a:lnTo>
                <a:lnTo>
                  <a:pt x="16109" y="21571"/>
                </a:lnTo>
                <a:lnTo>
                  <a:pt x="5491" y="21571"/>
                </a:lnTo>
                <a:lnTo>
                  <a:pt x="5491" y="14382"/>
                </a:lnTo>
                <a:lnTo>
                  <a:pt x="3837" y="14382"/>
                </a:lnTo>
                <a:close/>
              </a:path>
              <a:path fill="darkenLess" w="21600" h="28764">
                <a:moveTo>
                  <a:pt x="13376" y="10030"/>
                </a:moveTo>
                <a:lnTo>
                  <a:pt x="13376" y="8289"/>
                </a:lnTo>
                <a:lnTo>
                  <a:pt x="15152" y="8289"/>
                </a:lnTo>
                <a:lnTo>
                  <a:pt x="15152" y="11806"/>
                </a:lnTo>
                <a:close/>
              </a:path>
              <a:path fill="darkenLess" w="21600" h="28764">
                <a:moveTo>
                  <a:pt x="9877" y="17881"/>
                </a:moveTo>
                <a:lnTo>
                  <a:pt x="11723" y="17881"/>
                </a:lnTo>
                <a:lnTo>
                  <a:pt x="11723" y="21571"/>
                </a:lnTo>
                <a:lnTo>
                  <a:pt x="16109" y="21571"/>
                </a:lnTo>
                <a:lnTo>
                  <a:pt x="16109" y="14382"/>
                </a:lnTo>
                <a:lnTo>
                  <a:pt x="5491" y="14382"/>
                </a:lnTo>
                <a:lnTo>
                  <a:pt x="5491" y="21571"/>
                </a:lnTo>
                <a:lnTo>
                  <a:pt x="9877" y="2157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3">
            <a:hlinkClick r:id="" action="ppaction://hlinkshowjump?jump=previousslide"/>
          </p:cNvPr>
          <p:cNvSpPr/>
          <p:nvPr/>
        </p:nvSpPr>
        <p:spPr>
          <a:xfrm>
            <a:off x="8101080" y="638172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" w="21600" h="36012">
                <a:moveTo>
                  <a:pt x="3794" y="18006"/>
                </a:moveTo>
                <a:lnTo>
                  <a:pt x="17806" y="11000"/>
                </a:lnTo>
                <a:lnTo>
                  <a:pt x="17806" y="2501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14">
            <a:hlinkClick r:id="" action="ppaction://hlinkshowjump?jump=nextslide"/>
          </p:cNvPr>
          <p:cNvSpPr/>
          <p:nvPr/>
        </p:nvSpPr>
        <p:spPr>
          <a:xfrm>
            <a:off x="8532720" y="638172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" w="21600" h="36012">
                <a:moveTo>
                  <a:pt x="3794" y="11000"/>
                </a:moveTo>
                <a:lnTo>
                  <a:pt x="17806" y="18006"/>
                </a:lnTo>
                <a:lnTo>
                  <a:pt x="3794" y="2501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08:43Z</dcterms:created>
  <dc:creator>Teacher</dc:creator>
  <dc:description/>
  <dc:language>en-US</dc:language>
  <cp:lastModifiedBy>User</cp:lastModifiedBy>
  <dcterms:modified xsi:type="dcterms:W3CDTF">2022-11-13T19:57:20Z</dcterms:modified>
  <cp:revision>37</cp:revision>
  <dc:subject/>
  <dc:title>История правильных многогранников</dc:title>
</cp:coreProperties>
</file>