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0.gif" ContentType="image/gif"/>
  <Override PartName="/ppt/media/image49.jpeg" ContentType="image/jpeg"/>
  <Override PartName="/ppt/media/image48.jpeg" ContentType="image/jpeg"/>
  <Override PartName="/ppt/media/image9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1.png" ContentType="image/png"/>
  <Override PartName="/ppt/media/image54.png" ContentType="image/png"/>
  <Override PartName="/ppt/media/image14.jpeg" ContentType="image/jpeg"/>
  <Override PartName="/ppt/media/image45.jpeg" ContentType="image/jpeg"/>
  <Override PartName="/ppt/media/image66.jpeg" ContentType="image/jpeg"/>
  <Override PartName="/ppt/media/image16.wmf" ContentType="image/x-wmf"/>
  <Override PartName="/ppt/media/image15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2.png" ContentType="image/png"/>
  <Override PartName="/ppt/media/image25.jpeg" ContentType="image/jpeg"/>
  <Override PartName="/ppt/media/image69.png" ContentType="image/png"/>
  <Override PartName="/ppt/media/image67.jpeg" ContentType="image/jpeg"/>
  <Override PartName="/ppt/media/image18.jpeg" ContentType="image/jpeg"/>
  <Override PartName="/ppt/media/image22.gif" ContentType="image/gif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1.jpeg" ContentType="image/jpeg"/>
  <Override PartName="/ppt/media/image4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2.wmf" ContentType="image/x-wmf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41.png" ContentType="image/png"/>
  <Override PartName="/ppt/media/image17.gif" ContentType="image/gif"/>
  <Override PartName="/ppt/media/image23.jpeg" ContentType="image/jpeg"/>
  <Override PartName="/ppt/media/image42.wmf" ContentType="image/x-wmf"/>
  <Override PartName="/ppt/media/image43.jpeg" ContentType="image/jpeg"/>
  <Override PartName="/ppt/media/image46.jpeg" ContentType="image/jpeg"/>
  <Override PartName="/ppt/media/image68.png" ContentType="image/png"/>
  <Override PartName="/ppt/media/image4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1DFE-DC77-4AE1-9088-5C6C3C18E8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11F9-241E-4A36-AB2D-557F24BED1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5927-252B-4924-954E-44FD2F55BA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CD9-7496-44B3-A371-E1D8DCED7A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FCB5-4896-4D15-97E0-97390EF8B1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6DCF-8004-438E-AD53-5D04E131E0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0FDC-0EC7-4B7B-B520-9270AD0333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5C3-0FAC-4FC7-A353-A316D1B9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5EA-CBD7-40DC-AE30-B1FBD0C7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878-5F0E-4B91-BBE3-8D03B7EE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B1B-24C7-4F87-B96A-33186270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F53C-269E-49E6-BE5D-32A1B888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5989-EA20-4FDA-9822-4D3857A0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E447-DBC2-4BAD-9C5B-FFF4B374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E8D0-9B2C-4AAC-9936-60A527DE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BC66-E277-4931-A20D-D7A0065F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3A69-7B4B-4F60-BA33-50B7B9BD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D716-70EB-47C5-8163-801C61D0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887-20D6-41B2-A474-A03BC6A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695C-7EF5-4AC4-88DC-D4550BB4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32B9-8F63-40B4-B2DA-EE48470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9E57-55C0-457C-9A96-D531B426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20C2-04AB-404A-BA90-D3AD8ECB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88D2-16AF-457E-BA93-33AF00D3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6BC9-9B90-440B-816B-2699AD38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7077-CBCF-4BDD-904D-CAF5D0C3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7AE6-9C32-4235-8986-289604FF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E080-9AE4-46CA-97F5-5633C08E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99F55-B27B-4586-85FA-55D7A33E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878-F134-4B34-BE0B-EB4D434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BE1D-C0D2-4975-B3A0-18910D18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66B0-0C67-4D8B-8758-33168B3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778B-1F39-4579-9F5B-7136605D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D9A8-F934-492D-8373-363C57EE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CE81-666D-4A9F-8009-7B6D787E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990F-D942-4C09-A7CC-68842C4A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FD60-47F4-4A65-8C7B-B52149DE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4C55-F8A8-476C-B114-A020E387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43C37-F3F1-4C14-A7AA-F7ECA290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6DA4-1DF9-4D80-8591-5E3D48AF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773-CB45-4F9C-BC6E-31D62AFF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8A054-2F5E-4FA9-94FC-67F1951E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3998-65E8-47D6-87CF-11E7355F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92A1-48F5-4F48-9D2D-9F6A81C7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8834-89EE-4DAF-B0CF-9E8B945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7E96-FB44-4371-840E-68584001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336A-4BD3-49C6-B6C2-5D065AFC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98375-045F-41D6-895F-CF23DD90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B1B6-BD24-4BF6-8446-55EDCA20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CC70E-4985-477B-9086-C8721043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2D76B-E4A3-4552-898D-14E14CA1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8A9-4866-46CC-AEA5-650F8334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215D2-00DD-4B06-A7F8-BA819780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2EAA-E7FE-4D90-AAE5-91292BA2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987F2-801D-4069-87C3-CDD549CD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F34E-BA94-430A-A5F5-3D8D5350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DD0A-BE4D-4BF7-962F-6E640CA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F3AD-AC3B-4A18-97CC-FBA0B0D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42D2-FEB6-4EC4-A62A-995BF66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3D600-26DC-4281-8823-0BA73BD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3F14D-DB3F-4057-9505-21B9F01B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2E8D4-E42E-4FB8-9EF5-36E4EDA5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9F0-2C5F-4F22-97A0-E88B858E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5923-1087-4AEB-A70B-546CE6E5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50BC2-68EB-452B-8C66-5586AFE1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13C0-C6D9-41E1-A9E4-1AC6B46B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01E5-4F55-41BB-A725-619AE3EA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B4F1-CFE7-4F32-A5BC-99CDED6E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8579A-0218-4028-9A57-CC5D278F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43E5-7EE9-499B-8935-9A0445A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61B3-74AE-40D7-9B46-1F93C3BC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DABC3-D1CC-471D-95AB-CAC1B27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9D284-0E87-4F10-99D2-86F2433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4DE-B724-45C2-BE75-E4AB909E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F885E-580B-45FD-A36C-C726181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6F0FB-30AC-46B7-86F7-60391248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F881-FE58-4EB6-AF38-336D7A98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802-DE4C-47D6-B237-3189CA1B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A4A-DA35-4EA8-93D0-E90500E9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96EA-B280-4085-9C42-CCCB608D19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C8A8-56C6-441F-8451-0FBD855FFD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08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FBB-789B-4AC7-BF9E-C79F3870B1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2D1B-D4AE-4D4D-845B-A74C313C1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1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DEA3-CC8A-4688-87EC-84867EC288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6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ACC6-5DB7-4F3D-B71C-E70B713E59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wmf"/><Relationship Id="rId3" Type="http://schemas.openxmlformats.org/officeDocument/2006/relationships/image" Target="../media/image42.wmf"/><Relationship Id="rId4" Type="http://schemas.openxmlformats.org/officeDocument/2006/relationships/image" Target="../media/image42.wmf"/><Relationship Id="rId5" Type="http://schemas.openxmlformats.org/officeDocument/2006/relationships/image" Target="../media/image42.wmf"/><Relationship Id="rId6" Type="http://schemas.openxmlformats.org/officeDocument/2006/relationships/image" Target="../media/image42.wmf"/><Relationship Id="rId7" Type="http://schemas.openxmlformats.org/officeDocument/2006/relationships/image" Target="../media/image42.wmf"/><Relationship Id="rId8" Type="http://schemas.openxmlformats.org/officeDocument/2006/relationships/image" Target="../media/image42.wmf"/><Relationship Id="rId9" Type="http://schemas.openxmlformats.org/officeDocument/2006/relationships/image" Target="../media/image42.wmf"/><Relationship Id="rId10" Type="http://schemas.openxmlformats.org/officeDocument/2006/relationships/image" Target="../media/image42.wmf"/><Relationship Id="rId11" Type="http://schemas.openxmlformats.org/officeDocument/2006/relationships/image" Target="../media/image43.jpeg"/><Relationship Id="rId12" Type="http://schemas.openxmlformats.org/officeDocument/2006/relationships/image" Target="../media/image44.pn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image" Target="../media/image47.jpeg"/><Relationship Id="rId16" Type="http://schemas.openxmlformats.org/officeDocument/2006/relationships/image" Target="../media/image48.jpeg"/><Relationship Id="rId17" Type="http://schemas.openxmlformats.org/officeDocument/2006/relationships/image" Target="../media/image49.jpeg"/><Relationship Id="rId18" Type="http://schemas.openxmlformats.org/officeDocument/2006/relationships/image" Target="../media/image50.jpeg"/><Relationship Id="rId19" Type="http://schemas.openxmlformats.org/officeDocument/2006/relationships/image" Target="../media/image51.jpeg"/><Relationship Id="rId20" Type="http://schemas.openxmlformats.org/officeDocument/2006/relationships/image" Target="../media/image52.png"/><Relationship Id="rId21" Type="http://schemas.openxmlformats.org/officeDocument/2006/relationships/image" Target="../media/image53.jpeg"/><Relationship Id="rId22" Type="http://schemas.openxmlformats.org/officeDocument/2006/relationships/image" Target="../media/image54.png"/><Relationship Id="rId23" Type="http://schemas.openxmlformats.org/officeDocument/2006/relationships/slideLayout" Target="../slideLayouts/slideLayout25.xml"/><Relationship Id="rId2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back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WordArt 20" descr=""/>
          <p:cNvPicPr/>
          <p:nvPr/>
        </p:nvPicPr>
        <p:blipFill>
          <a:blip r:embed="rId2"/>
          <a:stretch/>
        </p:blipFill>
        <p:spPr>
          <a:xfrm>
            <a:off x="1274760" y="847800"/>
            <a:ext cx="7149960" cy="10602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2"/>
          <p:cNvSpPr/>
          <p:nvPr/>
        </p:nvSpPr>
        <p:spPr>
          <a:xfrm>
            <a:off x="428760" y="538812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Жительница пгт. Излучинск Муленкова Ирина Анатольевна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702720" y="216360"/>
            <a:ext cx="78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РАЙ В КОТОРОМ   Я ЖИВУ, КРАЙ   КОТОРЫЙ  Я ЛЮБЛЮ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3" descr="3HEARTS"/>
          <p:cNvPicPr/>
          <p:nvPr/>
        </p:nvPicPr>
        <p:blipFill>
          <a:blip r:embed="rId3"/>
          <a:stretch/>
        </p:blipFill>
        <p:spPr>
          <a:xfrm>
            <a:off x="2428920" y="2143080"/>
            <a:ext cx="1079280" cy="7412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Ирина\Desktop\МУЛЯ\все фото\я\IMG_2380.JPG"/>
          <p:cNvPicPr/>
          <p:nvPr/>
        </p:nvPicPr>
        <p:blipFill>
          <a:blip r:embed="rId4"/>
          <a:stretch/>
        </p:blipFill>
        <p:spPr>
          <a:xfrm>
            <a:off x="6300720" y="2060640"/>
            <a:ext cx="2374920" cy="345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C:\Users\Ирина\Desktop\МУЛЯ\все фото\я\IMG_2374.JPG"/>
          <p:cNvPicPr/>
          <p:nvPr/>
        </p:nvPicPr>
        <p:blipFill>
          <a:blip r:embed="rId5"/>
          <a:stretch/>
        </p:blipFill>
        <p:spPr>
          <a:xfrm>
            <a:off x="468360" y="2205000"/>
            <a:ext cx="2208240" cy="3311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C:\Users\Ирина\Desktop\МУЛЯ\все фото\3 класс\100_4767.JPG"/>
          <p:cNvPicPr/>
          <p:nvPr/>
        </p:nvPicPr>
        <p:blipFill>
          <a:blip r:embed="rId6"/>
          <a:stretch/>
        </p:blipFill>
        <p:spPr>
          <a:xfrm>
            <a:off x="3203640" y="2060640"/>
            <a:ext cx="2592360" cy="3425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Изображение 563"/>
          <p:cNvPicPr/>
          <p:nvPr/>
        </p:nvPicPr>
        <p:blipFill>
          <a:blip r:embed="rId1"/>
          <a:stretch/>
        </p:blipFill>
        <p:spPr>
          <a:xfrm>
            <a:off x="4786200" y="500040"/>
            <a:ext cx="3934080" cy="2951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Изображение 058"/>
          <p:cNvPicPr/>
          <p:nvPr/>
        </p:nvPicPr>
        <p:blipFill>
          <a:blip r:embed="rId2"/>
          <a:stretch/>
        </p:blipFill>
        <p:spPr>
          <a:xfrm>
            <a:off x="642960" y="3286080"/>
            <a:ext cx="3929040" cy="3102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IMG_1392"/>
          <p:cNvPicPr/>
          <p:nvPr/>
        </p:nvPicPr>
        <p:blipFill>
          <a:blip r:embed="rId3"/>
          <a:stretch/>
        </p:blipFill>
        <p:spPr>
          <a:xfrm>
            <a:off x="642960" y="56196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C:\Users\Ирина\Desktop\МУЛЯ\фото класса\100_4322.JPG"/>
          <p:cNvPicPr/>
          <p:nvPr/>
        </p:nvPicPr>
        <p:blipFill>
          <a:blip r:embed="rId4"/>
          <a:stretch/>
        </p:blipFill>
        <p:spPr>
          <a:xfrm>
            <a:off x="4857840" y="3622680"/>
            <a:ext cx="3857400" cy="284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Зима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C:\Users\Voland\Desktop\100_3319.JPG"/>
          <p:cNvPicPr/>
          <p:nvPr/>
        </p:nvPicPr>
        <p:blipFill>
          <a:blip r:embed="rId2"/>
          <a:stretch/>
        </p:blipFill>
        <p:spPr>
          <a:xfrm>
            <a:off x="357120" y="857160"/>
            <a:ext cx="4105440" cy="5596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G:\муля\Гарантийное письмо209.jpg"/>
          <p:cNvPicPr/>
          <p:nvPr/>
        </p:nvPicPr>
        <p:blipFill>
          <a:blip r:embed="rId3"/>
          <a:stretch/>
        </p:blipFill>
        <p:spPr>
          <a:xfrm>
            <a:off x="4786200" y="785880"/>
            <a:ext cx="4100760" cy="56433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488520" y="216360"/>
            <a:ext cx="83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РАЙ В КОТОРОМ   Я ЖИВУ, КРАЙ   КОТОРЫЙ  ПРОСЛАВЛЯЮ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Я - патриот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362" name="Picture 2" descr="F:\Отличники 073.jpg"/>
          <p:cNvPicPr/>
          <p:nvPr/>
        </p:nvPicPr>
        <p:blipFill>
          <a:blip r:embed="rId1"/>
          <a:stretch/>
        </p:blipFill>
        <p:spPr>
          <a:xfrm>
            <a:off x="785880" y="1330200"/>
            <a:ext cx="7358040" cy="552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Зима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C:\Documents and Settings\Admin\Мои документы\Мои рисунки\Гранты_сертификаты\Муленкова\Диплом Муленкова.jpg"/>
          <p:cNvPicPr/>
          <p:nvPr/>
        </p:nvPicPr>
        <p:blipFill>
          <a:blip r:embed="rId2"/>
          <a:stretch/>
        </p:blipFill>
        <p:spPr>
          <a:xfrm>
            <a:off x="2571840" y="642960"/>
            <a:ext cx="3571920" cy="50385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6"/>
          <p:cNvSpPr/>
          <p:nvPr/>
        </p:nvSpPr>
        <p:spPr>
          <a:xfrm>
            <a:off x="785880" y="5929200"/>
            <a:ext cx="7786800" cy="9288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«Человека узнают не по речам, а по делам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Чувашская послов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488520" y="216360"/>
            <a:ext cx="83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РАЙ В КОТОРОМ   Я ЖИВУ, КРАЙ   КОТОРЫЙ  ПРОСЛАВЛЯЮ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03a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Зима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"/>
          <p:cNvSpPr/>
          <p:nvPr/>
        </p:nvSpPr>
        <p:spPr>
          <a:xfrm>
            <a:off x="417240" y="287640"/>
            <a:ext cx="83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РАЙ В КОТОРОМ   Я ЖИВУ, КРАЙ   КОТОРЫЙ  ПРОСЛАВЛЯЮ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Рисунок 9" descr="G:\муля\Гарантийное письмо196.jpg"/>
          <p:cNvPicPr/>
          <p:nvPr/>
        </p:nvPicPr>
        <p:blipFill>
          <a:blip r:embed="rId2"/>
          <a:srcRect l="1759" t="2321" r="5767" b="0"/>
          <a:stretch/>
        </p:blipFill>
        <p:spPr>
          <a:xfrm>
            <a:off x="4572000" y="1071720"/>
            <a:ext cx="4071960" cy="5500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N:\познание и тв-во 2009-10\познание и творчество сертифиат.jpg"/>
          <p:cNvPicPr/>
          <p:nvPr/>
        </p:nvPicPr>
        <p:blipFill>
          <a:blip r:embed="rId3"/>
          <a:stretch/>
        </p:blipFill>
        <p:spPr>
          <a:xfrm>
            <a:off x="539640" y="1052640"/>
            <a:ext cx="3902040" cy="5573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E:\Губернатор и первая учительница.jpg"/>
          <p:cNvPicPr/>
          <p:nvPr/>
        </p:nvPicPr>
        <p:blipFill>
          <a:blip r:embed="rId1"/>
          <a:stretch/>
        </p:blipFill>
        <p:spPr>
          <a:xfrm>
            <a:off x="468360" y="476280"/>
            <a:ext cx="8001000" cy="512604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"/>
          <p:cNvSpPr/>
          <p:nvPr/>
        </p:nvSpPr>
        <p:spPr>
          <a:xfrm>
            <a:off x="285840" y="553392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1 сентября 2011г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Первый раз, в первый клас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1000080" y="21420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рок «Люблю тебя, мой край родной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E:\1 А класс.jpg"/>
          <p:cNvPicPr/>
          <p:nvPr/>
        </p:nvPicPr>
        <p:blipFill>
          <a:blip r:embed="rId1"/>
          <a:stretch/>
        </p:blipFill>
        <p:spPr>
          <a:xfrm>
            <a:off x="1857240" y="785880"/>
            <a:ext cx="5000760" cy="33400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"/>
          <p:cNvSpPr/>
          <p:nvPr/>
        </p:nvSpPr>
        <p:spPr>
          <a:xfrm>
            <a:off x="285840" y="4071960"/>
            <a:ext cx="84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бернатор Ханты-Мансийского автономного округа – Югры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талья Владимировна Комаро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глава администрации Нижневартовского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рис Александрович Салома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Picture 2" descr="эмблема нижневартовского р-на"/>
          <p:cNvPicPr/>
          <p:nvPr/>
        </p:nvPicPr>
        <p:blipFill>
          <a:blip r:embed="rId2"/>
          <a:stretch/>
        </p:blipFill>
        <p:spPr>
          <a:xfrm>
            <a:off x="500040" y="1428840"/>
            <a:ext cx="1236600" cy="1668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флаг нижневартовского"/>
          <p:cNvPicPr/>
          <p:nvPr/>
        </p:nvPicPr>
        <p:blipFill>
          <a:blip r:embed="rId3"/>
          <a:stretch/>
        </p:blipFill>
        <p:spPr>
          <a:xfrm>
            <a:off x="7072200" y="1571760"/>
            <a:ext cx="1538280" cy="10461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"/>
          <p:cNvSpPr/>
          <p:nvPr/>
        </p:nvSpPr>
        <p:spPr>
          <a:xfrm>
            <a:off x="417240" y="359280"/>
            <a:ext cx="83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РАЙ В КОТОРОМ   Я ЖИВУ, КРАЙ   КОТОРЫЙ  ПРОСЛАВЛЯЮ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back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"/>
          <p:cNvSpPr/>
          <p:nvPr/>
        </p:nvSpPr>
        <p:spPr>
          <a:xfrm>
            <a:off x="417240" y="287640"/>
            <a:ext cx="83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РАЙ В КОТОРОМ   Я ЖИВУ, КРАЙ   КОТОРЫЙ  ПРОСЛАВЛЯЮ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Picture 4" descr="NA02125_"/>
          <p:cNvPicPr/>
          <p:nvPr/>
        </p:nvPicPr>
        <p:blipFill>
          <a:blip r:embed="rId2"/>
          <a:stretch/>
        </p:blipFill>
        <p:spPr>
          <a:xfrm rot="600000">
            <a:off x="1765440" y="8920080"/>
            <a:ext cx="495000" cy="577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NA02125_"/>
          <p:cNvPicPr/>
          <p:nvPr/>
        </p:nvPicPr>
        <p:blipFill>
          <a:blip r:embed="rId3"/>
          <a:stretch/>
        </p:blipFill>
        <p:spPr>
          <a:xfrm rot="21180000">
            <a:off x="2974680" y="8780400"/>
            <a:ext cx="495360" cy="579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NA02125_"/>
          <p:cNvPicPr/>
          <p:nvPr/>
        </p:nvPicPr>
        <p:blipFill>
          <a:blip r:embed="rId4"/>
          <a:stretch/>
        </p:blipFill>
        <p:spPr>
          <a:xfrm rot="300000">
            <a:off x="5429160" y="9083160"/>
            <a:ext cx="495360" cy="5781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NA02125_"/>
          <p:cNvPicPr/>
          <p:nvPr/>
        </p:nvPicPr>
        <p:blipFill>
          <a:blip r:embed="rId5"/>
          <a:stretch/>
        </p:blipFill>
        <p:spPr>
          <a:xfrm rot="600000">
            <a:off x="4378320" y="8615520"/>
            <a:ext cx="495360" cy="577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NA02125_"/>
          <p:cNvPicPr/>
          <p:nvPr/>
        </p:nvPicPr>
        <p:blipFill>
          <a:blip r:embed="rId6"/>
          <a:stretch/>
        </p:blipFill>
        <p:spPr>
          <a:xfrm rot="21240000">
            <a:off x="6075360" y="7676640"/>
            <a:ext cx="493560" cy="57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NA02125_"/>
          <p:cNvPicPr/>
          <p:nvPr/>
        </p:nvPicPr>
        <p:blipFill>
          <a:blip r:embed="rId7"/>
          <a:stretch/>
        </p:blipFill>
        <p:spPr>
          <a:xfrm rot="21240000">
            <a:off x="6184800" y="4781160"/>
            <a:ext cx="495360" cy="577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8" descr="NA02125_"/>
          <p:cNvPicPr/>
          <p:nvPr/>
        </p:nvPicPr>
        <p:blipFill>
          <a:blip r:embed="rId8"/>
          <a:stretch/>
        </p:blipFill>
        <p:spPr>
          <a:xfrm rot="480000">
            <a:off x="1141200" y="4792320"/>
            <a:ext cx="493560" cy="5778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9" descr="NA02125_"/>
          <p:cNvPicPr/>
          <p:nvPr/>
        </p:nvPicPr>
        <p:blipFill>
          <a:blip r:embed="rId9"/>
          <a:stretch/>
        </p:blipFill>
        <p:spPr>
          <a:xfrm rot="600000">
            <a:off x="1312920" y="5835600"/>
            <a:ext cx="495360" cy="577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0" descr="NA02125_"/>
          <p:cNvPicPr/>
          <p:nvPr/>
        </p:nvPicPr>
        <p:blipFill>
          <a:blip r:embed="rId10"/>
          <a:stretch/>
        </p:blipFill>
        <p:spPr>
          <a:xfrm rot="21120000">
            <a:off x="1215720" y="7412040"/>
            <a:ext cx="495360" cy="5778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2"/>
          <p:cNvSpPr/>
          <p:nvPr/>
        </p:nvSpPr>
        <p:spPr>
          <a:xfrm>
            <a:off x="2048040" y="6648480"/>
            <a:ext cx="37702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3" descr=""/>
          <p:cNvPicPr/>
          <p:nvPr/>
        </p:nvPicPr>
        <p:blipFill>
          <a:blip r:embed="rId11"/>
          <a:stretch/>
        </p:blipFill>
        <p:spPr>
          <a:xfrm>
            <a:off x="2571840" y="857160"/>
            <a:ext cx="3122640" cy="45244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5" descr=""/>
          <p:cNvPicPr/>
          <p:nvPr/>
        </p:nvPicPr>
        <p:blipFill>
          <a:blip r:embed="rId12"/>
          <a:stretch/>
        </p:blipFill>
        <p:spPr>
          <a:xfrm rot="20800800">
            <a:off x="1052280" y="896400"/>
            <a:ext cx="1877760" cy="2530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6" descr="Грамота красная01"/>
          <p:cNvPicPr/>
          <p:nvPr/>
        </p:nvPicPr>
        <p:blipFill>
          <a:blip r:embed="rId13"/>
          <a:stretch/>
        </p:blipFill>
        <p:spPr>
          <a:xfrm>
            <a:off x="2928960" y="4286160"/>
            <a:ext cx="2039760" cy="2571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"/>
          <p:cNvPicPr/>
          <p:nvPr/>
        </p:nvPicPr>
        <p:blipFill>
          <a:blip r:embed="rId14"/>
          <a:stretch/>
        </p:blipFill>
        <p:spPr>
          <a:xfrm rot="1093200">
            <a:off x="7021080" y="787320"/>
            <a:ext cx="1779840" cy="2481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N:\познание и тв-во 2009-10\свидетельство познание и твочество муленкова.jpg"/>
          <p:cNvPicPr/>
          <p:nvPr/>
        </p:nvPicPr>
        <p:blipFill>
          <a:blip r:embed="rId15"/>
          <a:stretch/>
        </p:blipFill>
        <p:spPr>
          <a:xfrm rot="976200">
            <a:off x="6426000" y="3054240"/>
            <a:ext cx="2700000" cy="1893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9" descr="Диплом зеленый"/>
          <p:cNvPicPr/>
          <p:nvPr/>
        </p:nvPicPr>
        <p:blipFill>
          <a:blip r:embed="rId16"/>
          <a:stretch/>
        </p:blipFill>
        <p:spPr>
          <a:xfrm rot="929400">
            <a:off x="5763960" y="907920"/>
            <a:ext cx="1749240" cy="2205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0" descr="Сертификат на премию"/>
          <p:cNvPicPr/>
          <p:nvPr/>
        </p:nvPicPr>
        <p:blipFill>
          <a:blip r:embed="rId17"/>
          <a:stretch/>
        </p:blipFill>
        <p:spPr>
          <a:xfrm rot="793800">
            <a:off x="4902120" y="2927520"/>
            <a:ext cx="1957320" cy="2458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18"/>
          <a:stretch/>
        </p:blipFill>
        <p:spPr>
          <a:xfrm rot="835800">
            <a:off x="5694120" y="4249440"/>
            <a:ext cx="1841400" cy="2422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G:\сканирование0005.jpg"/>
          <p:cNvPicPr/>
          <p:nvPr/>
        </p:nvPicPr>
        <p:blipFill>
          <a:blip r:embed="rId19"/>
          <a:stretch/>
        </p:blipFill>
        <p:spPr>
          <a:xfrm rot="939000">
            <a:off x="7036920" y="4130640"/>
            <a:ext cx="1798920" cy="2532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8" descr=""/>
          <p:cNvPicPr/>
          <p:nvPr/>
        </p:nvPicPr>
        <p:blipFill>
          <a:blip r:embed="rId20"/>
          <a:stretch/>
        </p:blipFill>
        <p:spPr>
          <a:xfrm rot="20869800">
            <a:off x="232920" y="4316400"/>
            <a:ext cx="1646280" cy="239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G:\муля\Гарантийное письмо203.jpg"/>
          <p:cNvPicPr/>
          <p:nvPr/>
        </p:nvPicPr>
        <p:blipFill>
          <a:blip r:embed="rId21"/>
          <a:stretch/>
        </p:blipFill>
        <p:spPr>
          <a:xfrm rot="20565000">
            <a:off x="317160" y="2254320"/>
            <a:ext cx="2085840" cy="2457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7" descr=""/>
          <p:cNvPicPr/>
          <p:nvPr/>
        </p:nvPicPr>
        <p:blipFill>
          <a:blip r:embed="rId22"/>
          <a:stretch/>
        </p:blipFill>
        <p:spPr>
          <a:xfrm rot="20821800">
            <a:off x="1328400" y="3817440"/>
            <a:ext cx="1839960" cy="250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Я танцую и пою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08" name="Picture 2" descr="C:\Users\Ирина\Desktop\МУЛЯ\все фото\я\IMG_4565.jpg"/>
          <p:cNvPicPr/>
          <p:nvPr/>
        </p:nvPicPr>
        <p:blipFill>
          <a:blip r:embed="rId1"/>
          <a:stretch/>
        </p:blipFill>
        <p:spPr>
          <a:xfrm>
            <a:off x="539640" y="1197000"/>
            <a:ext cx="3816360" cy="2575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Users\Ирина\Desktop\МУЛЯ\все фото\я\getImage6.jpg"/>
          <p:cNvPicPr/>
          <p:nvPr/>
        </p:nvPicPr>
        <p:blipFill>
          <a:blip r:embed="rId2"/>
          <a:stretch/>
        </p:blipFill>
        <p:spPr>
          <a:xfrm>
            <a:off x="4716360" y="1197000"/>
            <a:ext cx="3888000" cy="259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Users\Ирина\Desktop\МУЛЯ\все фото\я\getImage4.jpg"/>
          <p:cNvPicPr/>
          <p:nvPr/>
        </p:nvPicPr>
        <p:blipFill>
          <a:blip r:embed="rId3"/>
          <a:stretch/>
        </p:blipFill>
        <p:spPr>
          <a:xfrm>
            <a:off x="539640" y="4005360"/>
            <a:ext cx="3888000" cy="244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Ирина\Desktop\МУЛЯ\все фото\я\getImage.jpg"/>
          <p:cNvPicPr/>
          <p:nvPr/>
        </p:nvPicPr>
        <p:blipFill>
          <a:blip r:embed="rId4"/>
          <a:stretch/>
        </p:blipFill>
        <p:spPr>
          <a:xfrm>
            <a:off x="4689360" y="4038480"/>
            <a:ext cx="39150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Users\Ирина\Desktop\МУЛЯ\все фото\фестиваль\IMG_9353(2).JPG"/>
          <p:cNvPicPr/>
          <p:nvPr/>
        </p:nvPicPr>
        <p:blipFill>
          <a:blip r:embed="rId1"/>
          <a:srcRect l="0" t="0" r="-4429" b="0"/>
          <a:stretch/>
        </p:blipFill>
        <p:spPr>
          <a:xfrm>
            <a:off x="250920" y="260280"/>
            <a:ext cx="3241440" cy="626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Ирина\Desktop\МУЛЯ\все фото\фестиваль\IMG_9482(2).JPG"/>
          <p:cNvPicPr/>
          <p:nvPr/>
        </p:nvPicPr>
        <p:blipFill>
          <a:blip r:embed="rId2"/>
          <a:srcRect l="18239" t="0" r="0" b="6256"/>
          <a:stretch/>
        </p:blipFill>
        <p:spPr>
          <a:xfrm>
            <a:off x="3780000" y="333360"/>
            <a:ext cx="4519440" cy="2879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C:\Users\Ирина\Desktop\МУЛЯ\все фото\фестиваль\getImage.jpg"/>
          <p:cNvPicPr/>
          <p:nvPr/>
        </p:nvPicPr>
        <p:blipFill>
          <a:blip r:embed="rId3"/>
          <a:srcRect l="0" t="16061" r="1465" b="0"/>
          <a:stretch/>
        </p:blipFill>
        <p:spPr>
          <a:xfrm>
            <a:off x="3851280" y="4005360"/>
            <a:ext cx="4465800" cy="244944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3659400" y="3357720"/>
            <a:ext cx="49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стиваль трудовых коллектив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ac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57280" y="57168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6 июля 1968 года </a:t>
            </a:r>
            <a:br>
              <a:rPr sz="4400"/>
            </a:br>
            <a:r>
              <a:rPr b="0" i="1" lang="ru-RU" sz="3200" spc="-1" strike="noStrike">
                <a:solidFill>
                  <a:srgbClr val="000099"/>
                </a:solidFill>
                <a:latin typeface="Times New Roman"/>
              </a:rPr>
              <a:t>г. Чарджоу Туркменистан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2778120" cy="3351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2"/>
          <a:stretch/>
        </p:blipFill>
        <p:spPr>
          <a:xfrm>
            <a:off x="5715000" y="2000160"/>
            <a:ext cx="2708280" cy="382608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6"/>
          <p:cNvSpPr/>
          <p:nvPr/>
        </p:nvSpPr>
        <p:spPr>
          <a:xfrm>
            <a:off x="571680" y="3929040"/>
            <a:ext cx="52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-то есть город тихий, как со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ылью тягучей по грудь занесе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медленной речке вода, как стекл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-то есть город в котором светло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ше далекое детство там прошло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C:\Users\Ирина\Desktop\МУЛЯ\все фото\Фото ХМАО выставка\100_4979.JPG"/>
          <p:cNvPicPr/>
          <p:nvPr/>
        </p:nvPicPr>
        <p:blipFill>
          <a:blip r:embed="rId1"/>
          <a:stretch/>
        </p:blipFill>
        <p:spPr>
          <a:xfrm>
            <a:off x="4932360" y="1341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Users\Ирина\Desktop\МУЛЯ\все фото\Фото ХМАО выставка\100_5005.JPG"/>
          <p:cNvPicPr/>
          <p:nvPr/>
        </p:nvPicPr>
        <p:blipFill>
          <a:blip r:embed="rId2"/>
          <a:stretch/>
        </p:blipFill>
        <p:spPr>
          <a:xfrm>
            <a:off x="539640" y="4292640"/>
            <a:ext cx="3673440" cy="2158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Users\Ирина\Desktop\МУЛЯ\все фото\Фото ХМАО выставка\100_5034.JPG"/>
          <p:cNvPicPr/>
          <p:nvPr/>
        </p:nvPicPr>
        <p:blipFill>
          <a:blip r:embed="rId3"/>
          <a:stretch/>
        </p:blipFill>
        <p:spPr>
          <a:xfrm>
            <a:off x="4932360" y="429264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Users\Ирина\Desktop\МУЛЯ\все фото\Фото ХМАО выставка\DSC01321.JPG"/>
          <p:cNvPicPr/>
          <p:nvPr/>
        </p:nvPicPr>
        <p:blipFill>
          <a:blip r:embed="rId4"/>
          <a:stretch/>
        </p:blipFill>
        <p:spPr>
          <a:xfrm>
            <a:off x="539640" y="1484280"/>
            <a:ext cx="3672000" cy="2594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15"/>
          <p:cNvSpPr/>
          <p:nvPr/>
        </p:nvSpPr>
        <p:spPr>
          <a:xfrm>
            <a:off x="61128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ганизатор выстав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Образование Югры 2013.Непрерывное образование»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-22.11.2013г, г.Ханты-Мансийс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C:\Users\Public\Pictures\Излучинск\DSC_0062.jpg"/>
          <p:cNvPicPr/>
          <p:nvPr/>
        </p:nvPicPr>
        <p:blipFill>
          <a:blip r:embed="rId1"/>
          <a:srcRect l="1134" t="13635" r="1134" b="196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Ирина\Desktop\МУЛЯ\все фото\фото я баня люда\100_4608.JPG"/>
          <p:cNvPicPr/>
          <p:nvPr/>
        </p:nvPicPr>
        <p:blipFill>
          <a:blip r:embed="rId2"/>
          <a:stretch/>
        </p:blipFill>
        <p:spPr>
          <a:xfrm>
            <a:off x="4857840" y="1500120"/>
            <a:ext cx="3840120" cy="51199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1" descr=""/>
          <p:cNvPicPr/>
          <p:nvPr/>
        </p:nvPicPr>
        <p:blipFill>
          <a:blip r:embed="rId3"/>
          <a:stretch/>
        </p:blipFill>
        <p:spPr>
          <a:xfrm>
            <a:off x="353880" y="4737240"/>
            <a:ext cx="4583160" cy="169380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15" descr=""/>
          <p:cNvPicPr/>
          <p:nvPr/>
        </p:nvPicPr>
        <p:blipFill>
          <a:blip r:embed="rId4"/>
          <a:stretch/>
        </p:blipFill>
        <p:spPr>
          <a:xfrm>
            <a:off x="-317520" y="133200"/>
            <a:ext cx="9809280" cy="1159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0292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s1"/>
          <p:cNvPicPr/>
          <p:nvPr/>
        </p:nvPicPr>
        <p:blipFill>
          <a:blip r:embed="rId2"/>
          <a:stretch/>
        </p:blipFill>
        <p:spPr>
          <a:xfrm>
            <a:off x="7308720" y="189000"/>
            <a:ext cx="1629000" cy="16668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324000" y="-458640"/>
            <a:ext cx="808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Times New Roman"/>
              </a:rPr>
              <a:t>Тобольский педагогический институт им. Д.И.Менделеева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8425080" cy="55962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2"/>
          <p:cNvSpPr/>
          <p:nvPr/>
        </p:nvSpPr>
        <p:spPr>
          <a:xfrm>
            <a:off x="928800" y="592920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900"/>
                </a:solidFill>
                <a:latin typeface="Times New Roman"/>
              </a:rPr>
              <a:t>Я  - 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back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7120" y="1500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5900"/>
                </a:solidFill>
                <a:latin typeface="Arial"/>
              </a:rPr>
              <a:t>МБОУ «Излучинская общеобразовательная средняя школа №1 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7" descr="Школа №1"/>
          <p:cNvPicPr/>
          <p:nvPr/>
        </p:nvPicPr>
        <p:blipFill>
          <a:blip r:embed="rId2"/>
          <a:stretch/>
        </p:blipFill>
        <p:spPr>
          <a:xfrm>
            <a:off x="4214880" y="2857680"/>
            <a:ext cx="4352760" cy="31334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1" descr="Рисунок1"/>
          <p:cNvPicPr/>
          <p:nvPr/>
        </p:nvPicPr>
        <p:blipFill>
          <a:blip r:embed="rId3"/>
          <a:stretch/>
        </p:blipFill>
        <p:spPr>
          <a:xfrm>
            <a:off x="8670960" y="0"/>
            <a:ext cx="47304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339840" y="342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 ЛЮБОВЬЮ К НИЖНЕВАРТОВСКОМУ РАЙОН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214200" y="357192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ижневартовский район -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ердцу милый и родной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еверянам дорог он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нежной лютою зимо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зёрный и болотный край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 летом комариный ра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F:\Новая папка\эмблема нижневартовского р-на.jpg"/>
          <p:cNvPicPr/>
          <p:nvPr/>
        </p:nvPicPr>
        <p:blipFill>
          <a:blip r:embed="rId4"/>
          <a:stretch/>
        </p:blipFill>
        <p:spPr>
          <a:xfrm>
            <a:off x="7000920" y="142920"/>
            <a:ext cx="1244520" cy="1790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285840"/>
            <a:ext cx="86248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Первая в моей жизни школьная линейка 1990г.</a:t>
            </a:r>
            <a:r>
              <a:rPr b="1" lang="ru-RU" sz="4000" spc="-1" strike="noStrike">
                <a:solidFill>
                  <a:srgbClr val="fffdd1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24720" cy="542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j0344195"/>
          <p:cNvPicPr/>
          <p:nvPr/>
        </p:nvPicPr>
        <p:blipFill>
          <a:blip r:embed="rId2"/>
          <a:stretch/>
        </p:blipFill>
        <p:spPr>
          <a:xfrm>
            <a:off x="7164360" y="5259240"/>
            <a:ext cx="1781280" cy="1598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128"/>
          <p:cNvPicPr/>
          <p:nvPr/>
        </p:nvPicPr>
        <p:blipFill>
          <a:blip r:embed="rId3"/>
          <a:stretch/>
        </p:blipFill>
        <p:spPr>
          <a:xfrm>
            <a:off x="7885080" y="0"/>
            <a:ext cx="977760" cy="10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Самый первый выпуск 1991г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7085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picture"/>
          <p:cNvPicPr/>
          <p:nvPr/>
        </p:nvPicPr>
        <p:blipFill>
          <a:blip r:embed="rId1"/>
          <a:stretch/>
        </p:blipFill>
        <p:spPr>
          <a:xfrm>
            <a:off x="571680" y="1214280"/>
            <a:ext cx="8215200" cy="5214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ервая учительница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345" name="Picture 8" descr="writingonbook"/>
          <p:cNvPicPr/>
          <p:nvPr/>
        </p:nvPicPr>
        <p:blipFill>
          <a:blip r:embed="rId2"/>
          <a:stretch/>
        </p:blipFill>
        <p:spPr>
          <a:xfrm>
            <a:off x="7500960" y="0"/>
            <a:ext cx="1355760" cy="1271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D:\Ирка-\Воспитание в классе\Фото 4 кл 2\4 класс 045.jpg"/>
          <p:cNvPicPr/>
          <p:nvPr/>
        </p:nvPicPr>
        <p:blipFill>
          <a:blip r:embed="rId3"/>
          <a:stretch/>
        </p:blipFill>
        <p:spPr>
          <a:xfrm>
            <a:off x="5500800" y="1857240"/>
            <a:ext cx="3357360" cy="482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Школьная жизнь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348" name="Picture 6" descr="42r6"/>
          <p:cNvPicPr/>
          <p:nvPr/>
        </p:nvPicPr>
        <p:blipFill>
          <a:blip r:embed="rId1"/>
          <a:stretch/>
        </p:blipFill>
        <p:spPr>
          <a:xfrm>
            <a:off x="7164360" y="0"/>
            <a:ext cx="1728720" cy="1427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Изображение 197"/>
          <p:cNvPicPr/>
          <p:nvPr/>
        </p:nvPicPr>
        <p:blipFill>
          <a:blip r:embed="rId2"/>
          <a:stretch/>
        </p:blipFill>
        <p:spPr>
          <a:xfrm>
            <a:off x="642960" y="1285920"/>
            <a:ext cx="3643200" cy="2462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D:\Ирка-\Воспитание в классе\Фото 4 кл 2\4 класс 054.jpg"/>
          <p:cNvPicPr/>
          <p:nvPr/>
        </p:nvPicPr>
        <p:blipFill>
          <a:blip r:embed="rId3"/>
          <a:stretch/>
        </p:blipFill>
        <p:spPr>
          <a:xfrm>
            <a:off x="4643280" y="1357200"/>
            <a:ext cx="3929400" cy="2500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D:\Ирка-\Воспитание в классе\Фото 4 кл 2\100_3275.JPG"/>
          <p:cNvPicPr/>
          <p:nvPr/>
        </p:nvPicPr>
        <p:blipFill>
          <a:blip r:embed="rId4"/>
          <a:srcRect l="0" t="0" r="1394" b="22308"/>
          <a:stretch/>
        </p:blipFill>
        <p:spPr>
          <a:xfrm>
            <a:off x="500040" y="4143240"/>
            <a:ext cx="3868920" cy="2500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Users\Ирина\Desktop\МУЛЯ\фото1 А\100_4002.JPG"/>
          <p:cNvPicPr/>
          <p:nvPr/>
        </p:nvPicPr>
        <p:blipFill>
          <a:blip r:embed="rId5"/>
          <a:stretch/>
        </p:blipFill>
        <p:spPr>
          <a:xfrm>
            <a:off x="4786200" y="4071960"/>
            <a:ext cx="3786480" cy="2585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1:29:01Z</dcterms:created>
  <dc:creator>student</dc:creator>
  <dc:description/>
  <dc:language>en-US</dc:language>
  <cp:lastModifiedBy>Ирина</cp:lastModifiedBy>
  <dcterms:modified xsi:type="dcterms:W3CDTF">2022-11-13T08:21:24Z</dcterms:modified>
  <cp:revision>83</cp:revision>
  <dc:subject/>
  <dc:title>четырнадцатый</dc:title>
</cp:coreProperties>
</file>