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021C-5A3C-4323-B3AE-5D825D09E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831C-28D4-4E27-BE37-DD184F2910D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1F72-6769-4174-A551-7510C52FD9D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5C41-71AB-4CCB-BDE4-C30B102B920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330-BC65-4046-986A-8BBB833A84A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5299-E3E1-4BD6-A611-EDBC6AC3C8F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C14-8FD7-49A0-94B1-88E154155AE9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2888-D487-4C62-B71C-876A2E6672A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22AE-A8D1-4532-9305-731BA992FAE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Консультация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003c"/>
                </a:solidFill>
                <a:latin typeface="Arial Black"/>
              </a:rPr>
              <a:t>«Организация предметной среды для познавательно-исследовательской деятельности в детском саду в соответствии с ФГОС ДО»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003c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77003c"/>
                </a:solidFill>
                <a:latin typeface="Arial Black"/>
              </a:rPr>
              <a:t>Подготовила воспитатель:   </a:t>
            </a:r>
            <a:r>
              <a:rPr b="0" lang="ru-RU" sz="2400" spc="-1" strike="noStrike">
                <a:solidFill>
                  <a:srgbClr val="77003c"/>
                </a:solidFill>
                <a:latin typeface="Arial Black"/>
              </a:rPr>
              <a:t>Буранбаева М.В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«Предметно развивающая среда – это система материальных объектов деятельности ребёнка, содержание его духовного и физического развития, это единство социальных и предметных средств».</a:t>
            </a:r>
            <a:br>
              <a:rPr sz="2800"/>
            </a:br>
            <a:r>
              <a:rPr b="1" lang="ru-RU" sz="20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С. Л. Новоселова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30400" y="8262720"/>
            <a:ext cx="509112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0808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7" descr="http://vyshe-radugi.ru/images/0717/poch.jpg"/>
          <p:cNvPicPr/>
          <p:nvPr/>
        </p:nvPicPr>
        <p:blipFill>
          <a:blip r:embed="rId1"/>
          <a:stretch/>
        </p:blipFill>
        <p:spPr>
          <a:xfrm>
            <a:off x="3733920" y="4724280"/>
            <a:ext cx="4192560" cy="1981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457200" y="31989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7edc"/>
                </a:solidFill>
                <a:latin typeface="Times New Roman"/>
                <a:ea typeface="Times New Roman"/>
              </a:rPr>
              <a:t>Основная задача ОУ: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457200" y="3886200"/>
            <a:ext cx="7162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оддержать и развить в ребенке интерес к исследованиям, открытиям, создать необходимые для этого условия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дачи уголка экспериментирования: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1401840"/>
            <a:ext cx="6934320" cy="35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00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0077"/>
                </a:solidFill>
                <a:latin typeface="Times New Roman"/>
                <a:ea typeface="Times New Roman"/>
              </a:rPr>
              <a:t>развитие первичных естественнонаучных представлений,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00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0077"/>
                </a:solidFill>
                <a:latin typeface="Times New Roman"/>
                <a:ea typeface="Times New Roman"/>
              </a:rPr>
              <a:t>наблюдательности, любознательности, активности, мыслительных операций (анализ, сравнение, обобщение, классификация, наблюдение);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00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0077"/>
                </a:solidFill>
                <a:latin typeface="Times New Roman"/>
                <a:ea typeface="Times New Roman"/>
              </a:rPr>
              <a:t>формирование умений комплексно обследовать предмет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4" name="Picture 2" descr="http://xn--55-6kc5atg4b1a.xn--p1ai/upload/medialibrary/e93/e93c83a942f157cc8a1cf103a90d8439.png"/>
          <p:cNvPicPr/>
          <p:nvPr/>
        </p:nvPicPr>
        <p:blipFill>
          <a:blip r:embed="rId2"/>
          <a:stretch/>
        </p:blipFill>
        <p:spPr>
          <a:xfrm>
            <a:off x="5716440" y="3860640"/>
            <a:ext cx="32259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держание исследований предполагает формирование следующих представлений: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0769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800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О мире животных и растений:</a:t>
            </a:r>
            <a:r>
              <a:rPr b="1" lang="ru-RU" sz="1800" spc="-1" strike="noStrike">
                <a:solidFill>
                  <a:srgbClr val="ff5cad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22900c"/>
                </a:solidFill>
                <a:latin typeface="Times New Roman"/>
                <a:ea typeface="Times New Roman"/>
              </a:rPr>
              <a:t>как звери живут зимой, летом; овощи, фрукты и т.д.; условия, необходимые для их роста и развития (свет, влага, тепло)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800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О материалах:</a:t>
            </a:r>
            <a:r>
              <a:rPr b="1" lang="ru-RU" sz="1800" spc="-1" strike="noStrike">
                <a:solidFill>
                  <a:srgbClr val="ff5cad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22900c"/>
                </a:solidFill>
                <a:latin typeface="Times New Roman"/>
                <a:ea typeface="Times New Roman"/>
              </a:rPr>
              <a:t>глина, бумага, ткань, дерево, металл, пластмасса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800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О человеке:</a:t>
            </a:r>
            <a:r>
              <a:rPr b="1" lang="ru-RU" sz="1800" spc="-1" strike="noStrike">
                <a:solidFill>
                  <a:srgbClr val="ff5cad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22900c"/>
                </a:solidFill>
                <a:latin typeface="Times New Roman"/>
                <a:ea typeface="Times New Roman"/>
              </a:rPr>
              <a:t>мои помощники – глаза, нос, уши, рот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800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О природных явлениях:</a:t>
            </a:r>
            <a:r>
              <a:rPr b="1" lang="ru-RU" sz="1800" spc="-1" strike="noStrike">
                <a:solidFill>
                  <a:srgbClr val="ff5cad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22900c"/>
                </a:solidFill>
                <a:latin typeface="Times New Roman"/>
                <a:ea typeface="Times New Roman"/>
              </a:rPr>
              <a:t>времена года, явления погоды, объекты живой и неживой природы – вода, лёд, снег и т.д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800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О предметном мире:</a:t>
            </a:r>
            <a:r>
              <a:rPr b="1" lang="ru-RU" sz="1800" spc="-1" strike="noStrike">
                <a:solidFill>
                  <a:srgbClr val="ff5cad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22900c"/>
                </a:solidFill>
                <a:latin typeface="Times New Roman"/>
                <a:ea typeface="Times New Roman"/>
              </a:rPr>
              <a:t>посуда, мебель, игрушки, обувь, транспорт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800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О геометрических эталонах: </a:t>
            </a:r>
            <a:r>
              <a:rPr b="1" lang="ru-RU" sz="1800" spc="-1" strike="noStrike">
                <a:solidFill>
                  <a:srgbClr val="22900c"/>
                </a:solidFill>
                <a:latin typeface="Times New Roman"/>
                <a:ea typeface="Times New Roman"/>
              </a:rPr>
              <a:t>круг, прямоугольник, призма, ромб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7" name="Picture 5" descr="http://mdou1balakovo.ucoz.ru/_tbkp/konkurs_ehk1.jpg"/>
          <p:cNvPicPr/>
          <p:nvPr/>
        </p:nvPicPr>
        <p:blipFill>
          <a:blip r:embed="rId2"/>
          <a:stretch/>
        </p:blipFill>
        <p:spPr>
          <a:xfrm>
            <a:off x="2719440" y="3938760"/>
            <a:ext cx="4314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6640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 уголке экспериментальной деятельности должны быть выделены: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629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сто для постоянной выставки, где размещают музей (например, "Часы бывают разные:", "Изделия из камня"), различные коллекции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экспонаты, редкие предметы (раковины, камни, кристаллы, перья и т. п.)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сто для хранения материалов (природного, «бросового»)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сто для проведения опытов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сто для неструктурированных материалов (песок, вода, опилки, стружка, пенопласт и др.)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     Различные коллекции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0" name="Picture 2" descr="http://900igr.net/up/datai/54481/0022-006-.jpg"/>
          <p:cNvPicPr/>
          <p:nvPr/>
        </p:nvPicPr>
        <p:blipFill>
          <a:blip r:embed="rId2"/>
          <a:stretch/>
        </p:blipFill>
        <p:spPr>
          <a:xfrm>
            <a:off x="1901880" y="4687920"/>
            <a:ext cx="305424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wptmp.ru/assets/gugthumb-kum-511x897.jpg"/>
          <p:cNvPicPr/>
          <p:nvPr/>
        </p:nvPicPr>
        <p:blipFill>
          <a:blip r:embed="rId3"/>
          <a:stretch/>
        </p:blipFill>
        <p:spPr>
          <a:xfrm>
            <a:off x="5157720" y="4627440"/>
            <a:ext cx="38894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8006b"/>
                </a:solidFill>
                <a:uFillTx/>
                <a:latin typeface="Times New Roman"/>
                <a:ea typeface="Times New Roman"/>
              </a:rPr>
              <a:t>Содержание уголка экспериментирования: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09320" y="837720"/>
            <a:ext cx="63248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атериалы, находящиеся в Уголке экспериментирования, распределяются по разделам</a:t>
            </a:r>
            <a:r>
              <a:rPr b="0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«Песок и вода», «Звук», «Магниты», «Бумага», «Свет», «Стекло»</a:t>
            </a:r>
            <a:r>
              <a:rPr b="0" lang="ru-RU" sz="24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оторые расположены в доступном для свободного экспериментирования месте и в достаточном количестве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4" name="Picture 4" descr="https://i1.wp.com/maam.ru/upload/blogs/detsad-1392544098.jpg"/>
          <p:cNvPicPr/>
          <p:nvPr/>
        </p:nvPicPr>
        <p:blipFill>
          <a:blip r:embed="rId2"/>
          <a:stretch/>
        </p:blipFill>
        <p:spPr>
          <a:xfrm>
            <a:off x="3859200" y="3733920"/>
            <a:ext cx="3989520" cy="2819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7edc"/>
                </a:solidFill>
                <a:latin typeface="Times New Roman"/>
                <a:ea typeface="Times New Roman"/>
              </a:rPr>
              <a:t>В уголке экспериментирования необходимо иметь: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d8006b"/>
                </a:solidFill>
                <a:uFillTx/>
                <a:latin typeface="Times New Roman"/>
                <a:ea typeface="Times New Roman"/>
              </a:rPr>
              <a:t>Основное оборудование: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иборы – помощники: увеличительные стекла, весы, песочные часы, компас, магниты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Разнообразные сосуды из различных материалов (пластмасса, стекло, металл) разного объема и формы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иродный материал: камешки, глина, песок, ракушки, птичьи перья, шишки, спил и листья деревьев, мох, семена и т. д.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тилизованный материал: проволока, кусочки кожи, меха, ткани, пластмассы, дерева, пробки и т. д. 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ехнические материалы: гайки, скрепки, болты, гвозди, винтики, шурупы, детали конструктора и т. д. 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Разные виды бумаги: обычная, картон, наждачная, копировальная и др.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расители: пищевые и непищевые (гуашь, акварельные краски и др.)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едицинские материалы: пипетки, колбы, деревянные палочки, шприцы (без игл, мерные ложки, резиновые груши и др.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очие материалы: зеркала, воздушные шары, масло, мука, соль, сахар, цветные и прозрачные стекла, пилка для ногтей, сито, воронки, свечи и др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7edc"/>
                </a:solidFill>
                <a:latin typeface="Times New Roman"/>
                <a:ea typeface="Times New Roman"/>
              </a:rPr>
              <a:t>В уголке экспериментирования необходимо иметь: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d8006b"/>
                </a:solidFill>
                <a:uFillTx/>
                <a:latin typeface="Times New Roman"/>
                <a:ea typeface="Times New Roman"/>
              </a:rPr>
              <a:t>Дополнительное оборудование: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етские халаты, клеенчатые фартуки, полотенца, контейнеры для хранения сыпучих и мелких предметов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арточки – схемы проведения экспериментов оформляют на плотной бумаге и ламинируют;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 каждом разделе на видном месте вывешивается правила работы с материалом.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ини-стенд «О чём хочу узнать завтра»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Личные блокноты детей для фиксации результатом опытов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ерсонажи, наделённые определёнными чертами (н-р, «Почемучка») от имени которого моделируется проблемная ситуация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ниги познавательного характера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ематические альбомы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атериал, находящийся в Уголке экспериментирования, должен соответствовать среднему уровню развития ребенка. Необходимо также иметь материалы и оборудование для проведения более сложных экспериментов, рассчитанных на одаренных детей и детей с высоким уровнем развития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6b"/>
                </a:solidFill>
                <a:latin typeface="Times New Roman"/>
                <a:ea typeface="Times New Roman"/>
              </a:rPr>
              <a:t>Карточки – схемы проведения экспериментов оформляют на плотной бумаге и ламинируют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610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Из всего можно сделать вывод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 что для детей дошкольного возраста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экспериментирование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 наравне с игрой является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ведущим видом деятельности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1" name="Picture 2" descr="https://i2.wp.com/maam.ru/upload/blogs/detsad-1392544606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00600" cy="3602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сад</cp:lastModifiedBy>
  <dcterms:modified xsi:type="dcterms:W3CDTF">2022-11-13T09:08:31Z</dcterms:modified>
  <cp:revision>171</cp:revision>
  <dc:subject/>
  <dc:title>Name of presentation</dc:title>
</cp:coreProperties>
</file>