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EC9-3461-4C17-A9B3-11F9B422EF74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B81-8630-4969-AB59-397DAD9F3E79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8C7-ADA9-45F4-B15D-4F73324F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DDA-AFBF-4F53-ADB0-DC871A1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747-2DC2-464C-A34A-A6767291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8DC-0597-41DC-AC0E-8B0182BE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8C96-8FA8-4086-84D3-0DF6559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6A1-2D46-4D01-BEA8-A234D097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D55-25FE-4B14-A10E-676D4379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71A-743D-4977-A12E-D28D7AC7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5E1-0A87-4510-8845-BD1BB05E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2B81-56BB-40AE-AC8D-F6EF746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ED27-9710-4661-827F-D1208EC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8EB-40C2-4F08-BFF7-E3370A94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947-27C2-42C3-BFAB-723FCF9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239-1C89-442B-B588-E730978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60B-E8C0-4534-B4CD-DEC4955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DF0-532F-4836-BE88-6E0D463E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419A-9134-4489-AFDF-29CF588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9491-8E6D-4BD6-955C-2AF1E76A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37C9-8FE3-43F6-8DA1-2B2DB3F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C7D7-CC1B-4372-B470-4CFEA83A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5533-7F03-4B64-B548-4F06DCCA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6470-73FE-47EA-825F-98AD473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851-619D-499C-B55A-0669D60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3FC3-622B-49AC-9EE8-CBB1916F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ED88-271E-49E7-AEF8-0A3949F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1736-23AF-4300-97FD-B14DDD1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2465-1A22-4062-B73E-D2E3035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AD7B-D7C5-483F-B416-1394A4B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D454-D003-4599-B600-5C15B70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551B-940B-4627-976B-A3E06DFB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B4FD-3CC9-4F3A-B2A8-4EAC726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E937-9915-419E-9EB2-1CCA92DA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3FE4-615C-4D54-8669-977561F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4F3-591A-49EC-8663-884381A2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C79E-333F-400B-A253-0CA3A87F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1661-CF15-46B8-BF56-F2D0015B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7A6B-15F4-45B8-91C5-31BD322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0DB9-4AF9-4197-97DE-D325F4F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89AE-C635-45AD-B817-BAE0E66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AA8A-2FDD-41EA-95DD-B810AFD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F941-D989-4B63-AB08-DFAA6B9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F1A3-8D2C-4C64-B516-0F0CFF3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2A2A-C834-4672-B9CB-6ACA2E0C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3B4-E195-431E-85BB-27362ED9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5F3-79D6-482A-A453-AFA18B13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B8D-240A-438E-86C2-33A8A50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EAD-B503-4131-8796-DF200A2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601-3687-4637-9AF5-8A00A8D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7D5-1456-4B83-B4D7-14F746428399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D21-8BD2-48EC-ADFE-8C48081908A2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457-4ABA-417B-A499-375A1F7B092F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D6E-745F-4C1B-932F-BE4519D22D50}" type="slidenum">
              <a:rPr b="1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2028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7840" y="1904760"/>
            <a:ext cx="7705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34" descr=""/>
          <p:cNvPicPr/>
          <p:nvPr/>
        </p:nvPicPr>
        <p:blipFill>
          <a:blip r:embed="rId1"/>
          <a:stretch/>
        </p:blipFill>
        <p:spPr>
          <a:xfrm>
            <a:off x="108000" y="5126040"/>
            <a:ext cx="4387680" cy="1773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1150920" y="1905120"/>
            <a:ext cx="570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5e0b"/>
                </a:solidFill>
                <a:latin typeface="Times New Roman"/>
                <a:ea typeface="Times New Roman"/>
              </a:rPr>
              <a:t>Презентация основной адаптированной программы для детей с ЗПР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3744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2292480"/>
          <a:ext cx="7451640" cy="21445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42244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ельны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из пояснительной записки и целевых ориенти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общее содержание программ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режим дня, особенности развивающей сред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grpSp>
        <p:nvGrpSpPr>
          <p:cNvPr id="242" name="Group 4818"/>
          <p:cNvGrpSpPr/>
          <p:nvPr/>
        </p:nvGrpSpPr>
        <p:grpSpPr>
          <a:xfrm>
            <a:off x="0" y="4437000"/>
            <a:ext cx="7451640" cy="1944720"/>
            <a:chOff x="0" y="4437000"/>
            <a:chExt cx="7451640" cy="1944720"/>
          </a:xfrm>
        </p:grpSpPr>
        <p:sp>
          <p:nvSpPr>
            <p:cNvPr id="243" name="Shape 770"/>
            <p:cNvSpPr/>
            <p:nvPr/>
          </p:nvSpPr>
          <p:spPr>
            <a:xfrm>
              <a:off x="0" y="4437000"/>
              <a:ext cx="7451640" cy="360"/>
            </a:xfrm>
            <a:custGeom>
              <a:avLst/>
              <a:gdLst/>
              <a:ahLst/>
              <a:rect l="l" t="t" r="r" b="b"/>
              <a:pathLst>
                <a:path w="8930640" h="0">
                  <a:moveTo>
                    <a:pt x="0" y="0"/>
                  </a:moveTo>
                  <a:lnTo>
                    <a:pt x="8930640" y="0"/>
                  </a:lnTo>
                </a:path>
              </a:pathLst>
            </a:custGeom>
            <a:noFill/>
            <a:ln w="30600">
              <a:solidFill>
                <a:srgbClr val="d344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44" name="Picture 771" descr=""/>
            <p:cNvPicPr/>
            <p:nvPr/>
          </p:nvPicPr>
          <p:blipFill>
            <a:blip r:embed="rId2"/>
            <a:stretch/>
          </p:blipFill>
          <p:spPr>
            <a:xfrm>
              <a:off x="6068160" y="4726440"/>
              <a:ext cx="930600" cy="165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15560"/>
            <a:ext cx="6348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собенности осуществления образовательного процесса: области, выделенные в содержании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108360" y="1915920"/>
            <a:ext cx="7993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бразовательных отношений: дети, родители (законные представители), педагогические работники ДОУ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 в ДОУ осуществляется  на русском языке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строится на адекватных возрасту формах работы с детьми, при этом основной формой и ведущим видом деятельности является игра.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ый образовательный процесс включает в себя реализацию задач пяти образовательных областей: социально-коммуникативное, познавательное, речевое, художественно-эстетическое и физическое развитие воспитанников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just">
              <a:lnSpc>
                <a:spcPct val="112000"/>
              </a:lnSpc>
              <a:spcBef>
                <a:spcPts val="1001"/>
              </a:spcBef>
              <a:spcAft>
                <a:spcPts val="62"/>
              </a:spcAft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 содержание образовательных областей зависит от возрастных и индивидуальных особенностей воспитанников и может реализовываться в разнообразных видах деятельности.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8360" y="620640"/>
          <a:ext cx="7416720" cy="5834160"/>
        </p:xfrm>
        <a:graphic>
          <a:graphicData uri="http://schemas.openxmlformats.org/drawingml/2006/table">
            <a:tbl>
              <a:tblPr/>
              <a:tblGrid>
                <a:gridCol w="1846080"/>
                <a:gridCol w="1495440"/>
                <a:gridCol w="4075200"/>
              </a:tblGrid>
              <a:tr h="379440">
                <a:tc gridSpan="3">
                  <a:txBody>
                    <a:bodyPr lIns="59400" rIns="0" tIns="27000" bIns="0" anchor="ctr">
                      <a:noAutofit/>
                    </a:bodyPr>
                    <a:p>
                      <a:pPr marL="235080" indent="-2350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ьные программы коррекционного обучения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5720"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>
                        <a:lnSpc>
                          <a:spcPct val="11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одготовка к школе детей с ЗПР»  под ред. С.Г. Шевченко. – М.: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ьная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сс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в группах компенсирующей направленности для детей с ЗПР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рганизации коррекционно-развивающего воспитания и обучения старших дошкольников с ЗПР, построена на основе преемственных связей между дошкольным и начальным звеньями системы непрерывного образования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29000"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>
                        <a:lnSpc>
                          <a:spcPct val="98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грамма логопедической работы по преодолению ФФН у детей» Т.Б.Филичев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В.Чиркин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грамма логопедической работы по преодолению ОНР у детей» Т.Б.Филичев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В.Чиркин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-23508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.В.Туманов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4680" algn="ctr">
                        <a:lnSpc>
                          <a:spcPct val="99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учителя-логопеда в группе компенсирующе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35080" indent="468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и для детей с нарушениями реч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59400" rIns="0" tIns="27000" bIns="0" anchor="t">
                      <a:noAutofit/>
                    </a:bodyPr>
                    <a:p>
                      <a:pPr marL="235080" indent="-235080"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ой программы является работа, направленная на осознание детьми взаимосвязи между содержательной, смысловой стороной речи и средствами ее выражения на основе усвоения основных языковых единиц: текста, предложения, слова. В содержании программ учтены общие и специфические особенности психического развития дошкольников, формы организации ранней коррекции отклонений речевого развития, цели и задачи дифференцированного и интегрированного обучения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Условия для организации специального коррекционно-развивающего воспитания и обучения детей с ЗПР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1628280"/>
            <a:ext cx="69868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учреждении психолого-медико-педагогического сопровождения детей с ОВЗ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с учетом индивидуальных возрастных, психофизиологических, личностных особенностей и возможностей детей, обеспечивающего коррекцию нарушений умственного, речевого и эмоционального развития и стимулирование, обогащение, развития ребенка во всех видах детской деятельности (познавательно-исследовательской, игровой, художественно-эстетической, трудовой, коммуникативной)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технологий, характеризующихся эмоционально-игровой окрашенностью, прикладной направленностью (тактильно-действенным обследованием, экспериментированием, трансформацией) и ценностной значимостью для ребенка того, что он делает, познает, с чем играет и взаимодействует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 (активное включение родителей в жизнь учреждения, просвещение родителей, объяснение цели и задач воспитания и подготовки к школе детей с ЗПР)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йный характер в организации жизнедеятельности детей;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ечебно-оздоровительной работы, создающей благоприятную базу для организации занятий, игр, других видов деятельности детей.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Характеристика взаимодействия педагогического коллектива с семьями детей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280" y="2781000"/>
            <a:ext cx="770436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31840" y="1341360"/>
          <a:ext cx="8300880" cy="4464000"/>
        </p:xfrm>
        <a:graphic>
          <a:graphicData uri="http://schemas.openxmlformats.org/drawingml/2006/table">
            <a:tbl>
              <a:tblPr/>
              <a:tblGrid>
                <a:gridCol w="2766960"/>
                <a:gridCol w="5533920"/>
              </a:tblGrid>
              <a:tr h="94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я развития и образования дет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е и инновационные формы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ств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след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е специалистов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журнал для родите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занят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довая информ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рания  - встреч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празд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  развлеч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ыста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6348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даптированная образовательная программа (далее Программа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560" y="1125360"/>
            <a:ext cx="8343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разовательная программа, адаптированная для обучения воспитанников с ограниченными возможностями здоровья (задержка психического развития) с учетом особенностей их психофизического развития, индивидуальных возможностей и  обеспечивающая коррекцию нарушений развития и социальную адаптацию указанных лиц (№273 –ФЗ гл.1 ст.28), разрабатываемая, утверждаемая и реализуема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 с  Федеральным  государственным образовательным стандартом дошкольного образ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новной общеобразовательной программы ДО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ётом примерной общеобразовательной программы дошкольного образования «ОТ РОЖДЕНИЯ ДО ШКОЛЫ» (пилотный вариант) / под ред. Н. Е. Вераксы, Т. С. Комаровой, М. А. Васильевой. — М.: МОЗАИКА СИНТЕЗ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рограмм для специальных дошкольных учреждений «Подготовка к школе детей с задержкой психического развития» (под редакцией Шевченко С.Г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«Программы логопедической работы по преодолению ОНР у детей»   (Филичевой Т.Б.,  Тумановой, Т.В.,  Чиркиной Г.Б.,   2010 г.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Нормативно-правовая база: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560" y="1267920"/>
            <a:ext cx="7273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 «Наша новая школа»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 декабря 2012 г. № 273-ФЗ «Об образовании в Российской Федерации»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ое положение о дошкольном образовательном учреждении (утверждено Постановлением Правительства Российской Федерации от 12.09.2008г. №666)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 Государственного бюджетного дошкольного образовательного учреждения детский сад №6 комбинированного вида Колпинского района Санкт-Петербурга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школьного образования (приказ № 1155 Минобрнауки РФ от 17.10.13 г, действует с 01.01.2014 г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 мая 2013 года №26 «Об утверждении САНПИН» 2.4.3049-13)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30 августа 2013 года №1014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68360" y="907920"/>
            <a:ext cx="69120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Цели и задачи реализации основной адаптированной программы дошкольного образования в соответствии с ФГОС дошкольного образов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о-развивающей работ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го проживания ребенком с задержкой психического развития дошкольного  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основ базовой культуры личност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сихических и физических качеств в соответствии с возрастными и   индивидуальными особенностям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адапта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4000" y="5794200"/>
          <a:ext cx="8205480" cy="731880"/>
        </p:xfrm>
        <a:graphic>
          <a:graphicData uri="http://schemas.openxmlformats.org/drawingml/2006/table">
            <a:tbl>
              <a:tblPr/>
              <a:tblGrid>
                <a:gridCol w="2735280"/>
                <a:gridCol w="2734920"/>
                <a:gridCol w="2735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3168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341360"/>
            <a:ext cx="7991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комплекса  коррекционно-развивающей  работы 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, эмоциональном благополучии и своевременном всестороннем развитии каждого ребен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атмосферы гуманного и доброжелательного отношения ко всем воспитанникам, что позволяет растить их общительными, добрыми, любознательными, инициативными, стремящимися к самостоятельности и творчеств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использование разнообразных видов детской деятельности, их интеграция в целях повышения эффективности воспитательно-образователь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организация (креативность) воспитательно-образователь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 использования образовательного материала, позволяющая развивать творчество в соответствии с интересами и наклонностями каждого ребен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етского сада и семь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в работе детского сада и начальной школы преемственности, исключающей умственные и физические перегрузки в содержании образования детей дошкольного возраста с ЗПР, обеспечивающей отсутствие давления предметного обуч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48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Виды детской деятельности для реализации задач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700280"/>
            <a:ext cx="73454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, включая сюжетно-ролевую игру, игру с правилами и другие виды игр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(общение и взаимодействие со взрослыми и сверстника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сследовательская (исследования объектов окружающего мира и экспериментирования с ни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художественной литературы и фольклора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 и элементарный бытовой труд (в помещении и на улице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из разного материала, включая конструкторы, модули, бумагу, природный и иной материал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(рисование, лепка, аппликация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(восприятие и понимание смысла музыкальных произведений, пение, музыкально-ритмические движения, игры на детских музыкальных инструментах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 (овладение основными движениями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нципы и подходы к формированию адаптированной образовательной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929960"/>
            <a:ext cx="69152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проживание ребенк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ПР всех этапов детства, обогащение (амплификация) детского развит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й деятельности на основе индивидуальных особенностей каждого ребенка с ЗПР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и сотрудничество детей и взрослых, признание ребенка с ЗПР полноценным участником (субъектом) образовательных отношени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нициативы детей с ЗПР в различных видах деятельност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детского сада с семь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детей с ЗПР к социокультурным нормам, традициям семьи, общества и государств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интересов и познавательных действий ребёнка с ЗПР в различных видах деятельност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ая адекватность дошкольного образова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этнокультурной ситуации развития ребёнка с ЗПР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еждисциплинарного подход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6348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собенности развития детей с задержкой психического развития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0520" y="981000"/>
            <a:ext cx="7377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 неустойчивое, рассеянное, плохо концентрируемое, кратковременное. Снижается при умственной и физической нагрузк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прочность запоминания, кратковременность. Таким детям требуется постоянное подкрепление, повторени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недостаточная сформированность таких мыслительных процессов как синтез, анализ, сравнение, обобщени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спытывают трудности в выделении главных, существенных признаков предметов и явлений, а второстепенные признаки замечают быстрее, иногда «застревают» на это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ольшинства детей с задержкой психического развития имеет место повышенная утомляемость, истощаемость, что проявляется в снижении работоспособности, в быстром выключении из деятельности. Наблюдаются колебания внимания, вялость, а у некоторых наоборот – возбудимость, суетливость. Всё это сказывается на снижении обучаемости ребенк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 незрелость сочетается с негрубыми нарушениями познавательной деятельности, речи, повышенной истощаемостью и пресыщаемостью активности внимания. У детей ослаблен контроль и регуляция деятельнос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ечи при задержке психического развития носят системный характер (недоразвитие звуковой и смысловой сторон речи: нарушен лексико-грамматический строй речи, фонематический слух и фонематическое восприятие, недостатки звукопроизношения, проблемы в формировании связной речи) и входят в структуру дефекта. Дети имеют ограниченный словарный запас, плохо понимают содержание рассказа со скрытым смысло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40920"/>
            <a:ext cx="634860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907920"/>
            <a:ext cx="7561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434880" y="140508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39:58Z</dcterms:created>
  <dc:creator>Admin</dc:creator>
  <dc:description/>
  <dc:language>en-US</dc:language>
  <cp:lastModifiedBy>Леночка</cp:lastModifiedBy>
  <dcterms:modified xsi:type="dcterms:W3CDTF">2022-11-12T23:16:02Z</dcterms:modified>
  <cp:revision>68</cp:revision>
  <dc:subject/>
  <dc:title>Слайд 1</dc:title>
</cp:coreProperties>
</file>