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984-070C-4692-84FB-2D41C5C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AEF-08DD-4093-9EA4-DA6A8AD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01B-D272-4D91-898A-C38108D8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33A-487F-4A9B-ABEA-84005C90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4AD-FE31-43E6-8FCC-05E636FE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0256-261B-4789-B967-6FDA7D7B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5CA2-B769-4351-8F95-CF3EE6F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AB0C-8264-46F8-AB6D-FC45F73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263B-B401-4FF4-BB4F-8EED4B9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6679-BCCA-491C-8486-380FA96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6C25-7236-4060-9BF0-9B68521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6EC-75AB-42A0-B900-C5AAA97A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62E-4114-4329-94E9-C59A0DB2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0A0F-FFDA-4659-8561-D486F57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7844-AD72-4BD2-A518-34610D96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268-2177-4C8C-A797-3CD9940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61C1-67C1-49CC-8FFC-6C5E2516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C4E-169F-4F96-8F60-E49ABDA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45A-942A-4402-AF82-77FEFF8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E0A-5D21-450F-95C4-80E1616C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2FD-81E1-42EC-825E-7B5CDFB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C52-35C9-4C78-8BF9-2C031A1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3A3-3858-4A8A-BF6D-E249F3A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829-8DF3-4AE3-9D09-762CAC94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45E-D980-4D4E-90F6-3785A20ECE1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757-704F-4A29-B50A-C62921B5A25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35804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324000" y="981000"/>
          <a:ext cx="7920000" cy="5268960"/>
        </p:xfrm>
        <a:graphic>
          <a:graphicData uri="http://schemas.openxmlformats.org/drawingml/2006/table">
            <a:tbl>
              <a:tblPr/>
              <a:tblGrid>
                <a:gridCol w="3954240"/>
                <a:gridCol w="396576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задача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152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ответствует возрастным возможностям младших школьник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ет возрастным возможностям младших школьников ,проектные задачи в начальной школе есть шаг к проектной деятельности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ек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нет определённых заданий, материалов, проектировщики сами определяют весь набор необходимых средст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ектная задач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роектировщикам предлагаются все необходимые средства и материалы в  виде набора (системы) заданий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может быть индивидуальным, групповы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задача носит групповой характер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реализации проекта не задается порядок  действий, с помощью которых будет достигнут результат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реализации проектной задачи задается порядок действий с помощью которых будет достигнут результат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-360"/>
            <a:ext cx="8229600" cy="6126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283179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j0440428"/>
          <p:cNvPicPr/>
          <p:nvPr/>
        </p:nvPicPr>
        <p:blipFill>
          <a:blip r:embed="rId3"/>
          <a:stretch/>
        </p:blipFill>
        <p:spPr>
          <a:xfrm>
            <a:off x="0" y="1989000"/>
            <a:ext cx="3051000" cy="3213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276720" y="1700280"/>
            <a:ext cx="550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1)Познакомьтесь с содержанием басен Крылова и Эзоп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2)Сравните басни. Что общего в этих произведениях и в чем различие между ними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3) Найдите строчки, которые можно считать моралью изучаемой басн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4) Ответьте на вопрос: кого же винит лисица, говоря, что виноград зелен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5) Может быть, вы вспомните случай из собственной жизни, когда вы сами винили обстоятельства, а не самого себя. Сочините свою басню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6)Проиллюстрируйте сюжет своей басн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333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лан действий и его выполнение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197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нструкционный лист №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-360"/>
            <a:ext cx="8229600" cy="6126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10283179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j0440428"/>
          <p:cNvPicPr/>
          <p:nvPr/>
        </p:nvPicPr>
        <p:blipFill>
          <a:blip r:embed="rId3"/>
          <a:stretch/>
        </p:blipFill>
        <p:spPr>
          <a:xfrm>
            <a:off x="0" y="1989000"/>
            <a:ext cx="3051000" cy="3213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3276720" y="1700280"/>
            <a:ext cx="5506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1)Познакомьтесь с содержанием басен Крылова и Эзоп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2)Сравните басни. Что общего в этих произведениях и в чем различие между ними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3) Найдите строчки, которые можно считать моралью изучаемой басн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4)Объясните смысл выражения «винить обстоятельства»(воспользуйтесь словарём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5)Подберите пословицы ,которые можно использовать в качестве вывода к басне «Лисица и виноград»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6)Инсценировка басн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3333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лан действий и его выполнение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12682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нструкционный лист №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-360"/>
            <a:ext cx="8229600" cy="612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10283179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j0440428"/>
          <p:cNvPicPr/>
          <p:nvPr/>
        </p:nvPicPr>
        <p:blipFill>
          <a:blip r:embed="rId3"/>
          <a:stretch/>
        </p:blipFill>
        <p:spPr>
          <a:xfrm>
            <a:off x="0" y="1989000"/>
            <a:ext cx="3051000" cy="3213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3276720" y="1628640"/>
            <a:ext cx="550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1)Познакомьтесь с содержанием басен Крылова и Эзоп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2)Сравните басни. Что общего в этих произведениях и в чем различие между ними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3) Найдите строчки, которые можно считать моралью изучаемой басн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4)Прочитайте пословицы и поговорки. Какие из них можно использовать в качестве морали к этой басне? Объясните свою точку зрения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5)Из предложенных басен найдите басню с похожим сюжетом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6) Приготовьте презентацию подобранного материала.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333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лан действий и его выполнение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12682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нструкционный лист №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полнение предложенных технологических операций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чност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формирование мотивации учебной деятельности, личной ответственности, развитие познавательных интересов, чувства взаимопомощ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гуля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пособность принимать и сохранять учебную  задачу, планировать ее реализаци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работать по составленному плану с сопоставлением получающегося результата с исходным замысло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нимание причин возникающих затруднений и поиск способов выхода из ситуа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ознаватель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учащиеся учатся искать информацию, овладевают действием моделиров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ение сравнивать данные, находить отлич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учащиеся учатся строить сообщения в устной форм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едполагать, какая информация нужн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тбирать необходимые словари, энциклопедии, справочники, электронные диск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поставлять  и отбирать информацию, полученную из  различных источников: словарей, энциклопедий, справочников, электронных   дисков,   сети  Интерне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 структурирование знани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оформлять свои мысли в устной и письменной речи с учётом своих учебных и жизненных речевых ситуаций, в том числе с применением средств ИК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оммуника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учащиеся приобретают умения организовывать и осуществлять инициативное сотрудничество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учиться договариваться, находить общее решение, уметь аргументировать свое предложение, убеждать и уступать, понимать позицию других люд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чащиеся учатся адекватно использовать речевые средства для решения коммуникативных задач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рганизовывать взаимодействие в группе (распределять роли, договариваться друг с другом и т.д.)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едвидеть (прогнозировать) последствия коллективных решен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 необходимости отстаивать свою точку зрения, аргументируя ее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постановка вопросов. 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Book Antiqua"/>
              </a:rPr>
              <a:t>Исторические корни басни И.А.Крылова</a:t>
            </a:r>
            <a:br>
              <a:rPr sz="2700"/>
            </a:br>
            <a:r>
              <a:rPr b="0" lang="en-US" sz="2700" spc="-1" strike="noStrike">
                <a:solidFill>
                  <a:srgbClr val="006666"/>
                </a:solidFill>
                <a:latin typeface="Book Antiqua"/>
              </a:rPr>
              <a:t> «Лисица и виноград».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 основе проделанной работы  учащиеся выяснили, что сюжет басен совпадает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 протяжении веков облик басни изменился, басня как жанр от Эзопа до Крылова претерпела больше изменения: стала  живописнее, артистичне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редположить, что и текст басни Эзопа «О лисице и винограде» лег в основу басни Крылова. На это указывает сходство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французского писателя Лафонтена, жившего в 17 веке, есть басня на этот сюжет.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29920" indent="-529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Сходств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название, сюже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общий гер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в басне высмеиваются порок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29920" indent="-52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имеет мораль (нет сил добиться успеха, а винят обстоятельства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повествование от лица автор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дготовка и защита готового продукта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чност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ценностно-смысловая ориентация учащихся  и ориентация в социальных ролях и межличностных отношения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гуля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планировать  реализацию готового продукта, контролировать свою деятель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ознаватель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 учатся строить сообщения в устной форме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 структурировать зна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оформлять свои мысли в устной и письменной речи с учётом своих учебных и жизненных речевых ситуаций, в том числе с применением средств ИК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оммуника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—  учатся адекватно использовать речевые средства для решения коммуникативных задач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03320"/>
            <a:ext cx="83628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Анализ результатов выполнения проекта, оценка качества выполнения проекта.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чност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ценностно-смысловая ориентация учащихся  и ориентация в социальных ролях и межличностных отношения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гуля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контролировать и оценивать свои действ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ознаватель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 строить сообщения в устной форм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оммуника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отстаивать свою точку зрения, аргументируя ее. Адекватно использовать речевые средства для решения коммуникативных задач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2547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179280" y="981000"/>
          <a:ext cx="7921800" cy="5688000"/>
        </p:xfrm>
        <a:graphic>
          <a:graphicData uri="http://schemas.openxmlformats.org/drawingml/2006/table">
            <a:tbl>
              <a:tblPr/>
              <a:tblGrid>
                <a:gridCol w="3961080"/>
                <a:gridCol w="3960720"/>
              </a:tblGrid>
              <a:tr h="568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новной педагогической целью проекта становится выявление у школьников способности к переносу известных способов действий в новую для них модельную ситуацию.</a:t>
                      </a:r>
                      <a:endParaRPr b="0" lang="en-US" sz="2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новная педагогическая цель проектной задачи для 1-3 классов при решении проектных задач – способствовать формированию разных способов учебного сотрудничества.</a:t>
                      </a:r>
                      <a:endParaRPr b="0" lang="en-US" sz="2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 4-5 классах - выявление у школьников способности к переносу известных способов действий в новую для них модельную ситуацию.</a:t>
                      </a:r>
                      <a:endParaRPr b="0" lang="en-US" sz="2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Должна быть описана проблемная ситуация, но в ней не должна быть напрямую поставлена задача. Она должна быть поставлена детьми по результатам разбора проблемной ситуаци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Должна содержать в явном или относительно скрытом виде набор (или систему) действий (заданий), которые должны быть выполнены группой дет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личество заданий в проектной задаче – это количество действий, которые необходимо совершить, чтобы задача была реше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Решение проектной задачи означает, во-первых, что создан какой-то реальный «продукт», который можно представить  публично и оценить. Во-вторых – это нематериальный «продукт» – качественное изменение самого ребён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760320" y="162000"/>
            <a:ext cx="76089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-360"/>
            <a:ext cx="8229600" cy="612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10283179[1]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95280" y="2565360"/>
            <a:ext cx="6985080" cy="29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оектная задача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исхождение сюжетной части басни. Эзоп «Лисица и виноград», И. Крылов «Лисица и виноград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6" descr="j0430493"/>
          <p:cNvPicPr/>
          <p:nvPr/>
        </p:nvPicPr>
        <p:blipFill>
          <a:blip r:embed="rId3"/>
          <a:stretch/>
        </p:blipFill>
        <p:spPr>
          <a:xfrm>
            <a:off x="6178680" y="0"/>
            <a:ext cx="2965320" cy="2781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434583"/>
          <p:cNvPicPr/>
          <p:nvPr/>
        </p:nvPicPr>
        <p:blipFill>
          <a:blip r:embed="rId4"/>
          <a:stretch/>
        </p:blipFill>
        <p:spPr>
          <a:xfrm>
            <a:off x="0" y="5079960"/>
            <a:ext cx="241128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2556000" y="5013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итературное чтение 3  клас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332000" y="2997000"/>
            <a:ext cx="73548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993680" y="1890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Постановка проблем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692280"/>
            <a:ext cx="6194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VI веке до н. э.  Эзопом была написана басня «Лисица и виноград» , а в 1808г.н.э. известным баснописцем И.А.Крыловым была написана басня на такую же тему и с таким же названием. Как такое могло произойти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 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1294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b050"/>
                </a:solidFill>
                <a:latin typeface="Verdana"/>
              </a:rPr>
              <a:t>Задача</a:t>
            </a:r>
            <a:br>
              <a:rPr sz="3900"/>
            </a:br>
            <a:r>
              <a:rPr b="0" lang="en-US" sz="3900" spc="-1" strike="noStrike">
                <a:solidFill>
                  <a:srgbClr val="006666"/>
                </a:solidFill>
                <a:latin typeface="Verdana"/>
              </a:rPr>
              <a:t>(дети сами предлагают)</a:t>
            </a:r>
            <a:br>
              <a:rPr sz="3900"/>
            </a:b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ы будем работать над баснями Эзопа и И.А. Крыло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авнивать  и работать над их содержание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Узнать каковы исторические корни басни Крылова «О лисице и винограде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яснить есть ли ещё басни с похожим сюже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1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писание проблемной ситуации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чност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 адекватная мотивация учебной деятельности, включая учебные и познавательные мотивы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гуля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учитывать выделенные учителем ориентиры в новом учебном материале в сотрудничестве с учителе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ормулирование задач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чност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обеспечивают ценностно-смысловую ориентацию учащихся  и ориентацию в социальных ролях и межличностных отношения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егуля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определение целей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ознаватель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учащиеся учатся строить сообщения в устной форм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оммуникативные УУ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учащиеся учатся адекватно использовать речевые средства для решения коммуникативных задач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-360"/>
            <a:ext cx="8229600" cy="6126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10283179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440428"/>
          <p:cNvPicPr/>
          <p:nvPr/>
        </p:nvPicPr>
        <p:blipFill>
          <a:blip r:embed="rId3"/>
          <a:stretch/>
        </p:blipFill>
        <p:spPr>
          <a:xfrm>
            <a:off x="0" y="1989000"/>
            <a:ext cx="3051000" cy="3213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3132000" y="1557360"/>
            <a:ext cx="56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022400"/>
            <a:ext cx="5256000" cy="37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0" tIns="0" bIns="71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орудование урока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ечатки басен Эзопа, Лафонтена и И.Крылова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 Н.А.Чуракова «Литературное чтение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лнительный материал (словари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онные лист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2:12Z</dcterms:created>
  <dc:creator>user</dc:creator>
  <dc:description/>
  <dc:language>en-US</dc:language>
  <cp:lastModifiedBy>user</cp:lastModifiedBy>
  <dcterms:modified xsi:type="dcterms:W3CDTF">2014-03-15T11:54:13Z</dcterms:modified>
  <cp:revision>9</cp:revision>
  <dc:subject/>
  <dc:title>Слайд 1</dc:title>
</cp:coreProperties>
</file>