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DCF2-D95C-4355-A1D5-62089333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908-DBC7-44CF-A447-322DB2F8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B68-4170-4DD8-A1F0-FD1BA63B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D834-98F4-41AE-803B-064E21BF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9A6F-A5AE-4057-AD91-63679D0F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08AF-B7B7-43EC-9E05-91F6352E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1D27-2AE5-4998-A5AA-1899ABE6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A1F8-6EDE-4188-9503-7D40B758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4E90-B1BD-4EF1-8C92-BD3D0406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19D0-B2DA-44A6-9D5E-5DC2A32B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BEB0-FC10-4746-93DE-828AADB5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8DC4-8E45-4612-85C5-F7A74AE0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4C22-6FD7-4479-AC56-19E2A529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C885-85ED-4AC3-BFFF-E3B7A511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CD50-853B-4C46-B0D9-EE700962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0839-B95C-4EEF-AA33-D857E1A7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CDE2-496C-4BEB-B882-D9DA1906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F6037-7445-4F30-8C47-6CB6A2F4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E8A84-7AC6-4427-9615-78462AC2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2C375-298D-496F-B631-1FBF496B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3C1BD-1239-46CB-8DC7-073D8E43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AE53E-3B1D-4E7C-85F1-609AECBF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C8FF-45DE-4664-9A20-C31BADC8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6DE64-1AAA-4C8F-A34A-778D78C7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23360-5AAF-462F-887C-387C200B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4DB98-9833-4962-9AC9-9D30806B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154DA-1ABE-4F39-9BC5-84E313B3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4D83B-9EFE-4F52-A962-796021A4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E6381-1B49-48D3-BD0D-57431925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F9989-B7D8-46A6-92E4-7B083D6C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97B72-8A9C-4900-B198-0306C9BD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64CDF-C1BC-416C-B9A1-0E55701C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A2C78-BFCE-4F8E-8332-7C145CA2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D375-9907-4F25-A12A-534A8DD8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BFB5A-42D4-4E8E-A756-EEAC7665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64B1F-65BA-44E2-8315-FA4E4242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D84BA-1DDF-4DB2-A189-1F0D563B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393BF-B486-46E3-A3E0-097AA50C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5FAB0-821B-4D23-A203-BF4E901E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FE0FD-6698-476F-8ADE-8AAF735F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182B9-168D-43BC-B5DB-6934C8F1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A34B3-944A-4E2E-B5D2-8C51FA93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5B176-AF83-4DD9-8C43-13B9720C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3AC11-AD95-425B-8DC2-E83AE103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103-73A9-420F-B209-8E760590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29044-FA66-44BD-B4DF-EF89E86A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CAB4C-EFE6-4F11-B99E-31CCA267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DE4FD-8717-402D-A9A8-2E974184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435E3-FF3A-4362-A55F-2A9BCC79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B74FA-DF37-4E3C-B3D9-4150AE13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A0970-3621-4D11-AAAC-D8648425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5499A-A85C-4E18-BD1C-C8AA4577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011BC-D5CE-4265-983F-BB172B77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B93C0-2C59-41DB-BA8F-3ADA75D1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BF3C3-FB40-475F-B0DC-8B85588C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E6A-5429-42C9-A044-2179B431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3A513-015B-4FEF-B2F4-8C9E2C86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801D-54C7-434B-A9DA-90A2980A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F93-2ACB-47C8-A878-3CCF2671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566-1BB9-415F-B808-B7CF8CD8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0F06-F8DD-4DD9-99A3-A5D7FEF04A5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10"/>
          <p:cNvSpPr/>
          <p:nvPr/>
        </p:nvSpPr>
        <p:spPr>
          <a:xfrm>
            <a:off x="1571760" y="1071720"/>
            <a:ext cx="6000480" cy="1857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D52A-7FA9-41B3-AB3C-A6F7799BD4B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81B0-FA03-4277-9DEB-18A9236654F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4E6F-D81A-4FE7-8A87-5AB9991105B5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B875-FAA7-4367-A5B5-B02F6E97F34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79280" y="549000"/>
            <a:ext cx="5761080" cy="18716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222221"/>
                </a:solidFill>
                <a:uFillTx/>
                <a:latin typeface="Mistral"/>
              </a:rPr>
              <a:t>ШКОЛЬНАЯ ФОРМА </a:t>
            </a:r>
            <a:r>
              <a:rPr b="0" lang="ru-RU" sz="5400" spc="-1" strike="noStrike">
                <a:solidFill>
                  <a:srgbClr val="000000"/>
                </a:solidFill>
                <a:latin typeface="Mistral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  <p:pic>
        <p:nvPicPr>
          <p:cNvPr id="218" name="Picture 2" descr="C:\Users\oleg\Desktop\52a66cfeb321752a66cfeb325f.jpg"/>
          <p:cNvPicPr/>
          <p:nvPr/>
        </p:nvPicPr>
        <p:blipFill>
          <a:blip r:embed="rId1"/>
          <a:stretch/>
        </p:blipFill>
        <p:spPr>
          <a:xfrm>
            <a:off x="2411280" y="3141720"/>
            <a:ext cx="4135680" cy="3286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oleg\Desktop\15290028.png"/>
          <p:cNvPicPr/>
          <p:nvPr/>
        </p:nvPicPr>
        <p:blipFill>
          <a:blip r:embed="rId2"/>
          <a:stretch/>
        </p:blipFill>
        <p:spPr>
          <a:xfrm>
            <a:off x="-181080" y="406548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Users\oleg\Desktop\gw9R59YC8j.png"/>
          <p:cNvPicPr/>
          <p:nvPr/>
        </p:nvPicPr>
        <p:blipFill>
          <a:blip r:embed="rId3"/>
          <a:stretch/>
        </p:blipFill>
        <p:spPr>
          <a:xfrm>
            <a:off x="6594480" y="4581360"/>
            <a:ext cx="2571840" cy="1543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C:\Users\oleg\Desktop\15297884.png"/>
          <p:cNvPicPr/>
          <p:nvPr/>
        </p:nvPicPr>
        <p:blipFill>
          <a:blip r:embed="rId4"/>
          <a:stretch/>
        </p:blipFill>
        <p:spPr>
          <a:xfrm>
            <a:off x="5500800" y="357120"/>
            <a:ext cx="310356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istral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5" name="Picture 3" descr="C:\Users\oleg\Desktop\15290028.png"/>
          <p:cNvPicPr/>
          <p:nvPr/>
        </p:nvPicPr>
        <p:blipFill>
          <a:blip r:embed="rId1"/>
          <a:stretch/>
        </p:blipFill>
        <p:spPr>
          <a:xfrm>
            <a:off x="0" y="453384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Users\oleg\Desktop\gw9R59YC8j.png"/>
          <p:cNvPicPr/>
          <p:nvPr/>
        </p:nvPicPr>
        <p:blipFill>
          <a:blip r:embed="rId2"/>
          <a:stretch/>
        </p:blipFill>
        <p:spPr>
          <a:xfrm>
            <a:off x="6572160" y="5084640"/>
            <a:ext cx="2571840" cy="1543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C:\Users\oleg\Desktop\52a66cfeb321752a66cfeb325f.jpg"/>
          <p:cNvPicPr/>
          <p:nvPr/>
        </p:nvPicPr>
        <p:blipFill>
          <a:blip r:embed="rId3"/>
          <a:stretch/>
        </p:blipFill>
        <p:spPr>
          <a:xfrm>
            <a:off x="2243160" y="2354400"/>
            <a:ext cx="41353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22221"/>
                </a:solidFill>
                <a:latin typeface="Mistral"/>
              </a:rPr>
              <a:t>ИСТОРИЯ СОЗДАНИЯ</a:t>
            </a:r>
            <a:br>
              <a:rPr sz="4800"/>
            </a:br>
            <a:r>
              <a:rPr b="0" lang="ru-RU" sz="4800" spc="-1" strike="noStrike">
                <a:solidFill>
                  <a:srgbClr val="222221"/>
                </a:solidFill>
                <a:latin typeface="Mistral"/>
              </a:rPr>
              <a:t> ШКОЛЬНОЙ ФОРМЫ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21880" y="4723920"/>
            <a:ext cx="77821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4" name="Picture 4" descr="C:\Users\oleg\Desktop\c88bcb3256b0e373cc95ef74ba27ec2a.jpg"/>
          <p:cNvPicPr/>
          <p:nvPr/>
        </p:nvPicPr>
        <p:blipFill>
          <a:blip r:embed="rId1"/>
          <a:stretch/>
        </p:blipFill>
        <p:spPr>
          <a:xfrm>
            <a:off x="755640" y="2433600"/>
            <a:ext cx="4268880" cy="3571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Users\oleg\Desktop\9df5b0ead88a.jpg"/>
          <p:cNvPicPr/>
          <p:nvPr/>
        </p:nvPicPr>
        <p:blipFill>
          <a:blip r:embed="rId2"/>
          <a:stretch/>
        </p:blipFill>
        <p:spPr>
          <a:xfrm>
            <a:off x="5867280" y="2009880"/>
            <a:ext cx="2529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22240" y="1096920"/>
            <a:ext cx="32004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(1949г.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700520" y="1700280"/>
            <a:ext cx="3200400" cy="31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(1973-1976г.г.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21"/>
                </a:solidFill>
                <a:latin typeface="Mistral"/>
              </a:rPr>
              <a:t>ИСТОРИЯ СОЗДАНИЯ </a:t>
            </a:r>
            <a:br>
              <a:rPr sz="4400"/>
            </a:br>
            <a:r>
              <a:rPr b="0" lang="ru-RU" sz="4400" spc="-1" strike="noStrike">
                <a:solidFill>
                  <a:srgbClr val="222221"/>
                </a:solidFill>
                <a:latin typeface="Mistral"/>
              </a:rPr>
              <a:t>ШКОЛЬНОЙ ФОРМЫ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9" name="Picture 2" descr="C:\Users\oleg\Desktop\sovietschool04.jpg"/>
          <p:cNvPicPr/>
          <p:nvPr/>
        </p:nvPicPr>
        <p:blipFill>
          <a:blip r:embed="rId1"/>
          <a:stretch/>
        </p:blipFill>
        <p:spPr>
          <a:xfrm>
            <a:off x="1332000" y="1557360"/>
            <a:ext cx="2670120" cy="3778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Users\oleg\Desktop\ui-55e03bfc9ac184.00166454.jpeg"/>
          <p:cNvPicPr/>
          <p:nvPr/>
        </p:nvPicPr>
        <p:blipFill>
          <a:blip r:embed="rId2"/>
          <a:stretch/>
        </p:blipFill>
        <p:spPr>
          <a:xfrm>
            <a:off x="4643280" y="2565360"/>
            <a:ext cx="37483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2221"/>
                </a:solidFill>
                <a:latin typeface="Mistral"/>
              </a:rPr>
              <a:t>ИСТОРИЯ СОЗДАНИЯ </a:t>
            </a:r>
            <a:br>
              <a:rPr sz="4000"/>
            </a:br>
            <a:r>
              <a:rPr b="0" lang="ru-RU" sz="4000" spc="-1" strike="noStrike">
                <a:solidFill>
                  <a:srgbClr val="222221"/>
                </a:solidFill>
                <a:latin typeface="Mistral"/>
              </a:rPr>
              <a:t>ШКОЛЬНОЙ ФОРМ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844280"/>
            <a:ext cx="3200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  <a:ea typeface="Tunga"/>
              </a:rPr>
              <a:t>(1985-1987Г.Г.)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700160" y="2349000"/>
            <a:ext cx="3832200" cy="24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тмена школьной формы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1992г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4" name="Picture 2" descr="C:\Users\oleg\Desktop\2012-10-26-shkolniki.jpg"/>
          <p:cNvPicPr/>
          <p:nvPr/>
        </p:nvPicPr>
        <p:blipFill>
          <a:blip r:embed="rId1"/>
          <a:stretch/>
        </p:blipFill>
        <p:spPr>
          <a:xfrm>
            <a:off x="692280" y="2841480"/>
            <a:ext cx="3406680" cy="3775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http://detochki-doma.ru/wp-content/uploads/2015/08/shkolnaya-odezhda-v-90-h1.jpg"/>
          <p:cNvPicPr/>
          <p:nvPr/>
        </p:nvPicPr>
        <p:blipFill>
          <a:blip r:embed="rId2"/>
          <a:stretch/>
        </p:blipFill>
        <p:spPr>
          <a:xfrm>
            <a:off x="4572000" y="3213000"/>
            <a:ext cx="428616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22221"/>
                </a:solidFill>
                <a:latin typeface="Mistral"/>
              </a:rPr>
              <a:t>ШКОЛЬНАЯ ФОРМА ЗА РУБЕЖОМ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25120" y="3860280"/>
            <a:ext cx="79218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    </a:t>
            </a:r>
            <a:endParaRPr b="1" lang="en-US" sz="57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8" name="Picture 3" descr="C:\Users\oleg\Desktop\643488422.jpg"/>
          <p:cNvPicPr/>
          <p:nvPr/>
        </p:nvPicPr>
        <p:blipFill>
          <a:blip r:embed="rId1"/>
          <a:stretch/>
        </p:blipFill>
        <p:spPr>
          <a:xfrm>
            <a:off x="581040" y="1413000"/>
            <a:ext cx="1944720" cy="5065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:\Users\oleg\Desktop\school-uniform-ties.jpg"/>
          <p:cNvPicPr/>
          <p:nvPr/>
        </p:nvPicPr>
        <p:blipFill>
          <a:blip r:embed="rId2"/>
          <a:stretch/>
        </p:blipFill>
        <p:spPr>
          <a:xfrm>
            <a:off x="6948360" y="1700280"/>
            <a:ext cx="1965600" cy="3384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:\Users\oleg\Desktop\i_1261231128_4b2cdc18d5abd.jpg"/>
          <p:cNvPicPr/>
          <p:nvPr/>
        </p:nvPicPr>
        <p:blipFill>
          <a:blip r:embed="rId3"/>
          <a:stretch/>
        </p:blipFill>
        <p:spPr>
          <a:xfrm>
            <a:off x="2843280" y="1700280"/>
            <a:ext cx="37908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2" name="Содержимое 3" descr=""/>
          <p:cNvPicPr/>
          <p:nvPr/>
        </p:nvPicPr>
        <p:blipFill>
          <a:blip r:embed="rId1"/>
          <a:stretch/>
        </p:blipFill>
        <p:spPr>
          <a:xfrm>
            <a:off x="324000" y="814320"/>
            <a:ext cx="833112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7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ВЫБОР ОПТИМАЛЬНОГО ВАРИАНТА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4" name="Picture 8" descr="C:\Users\user\Desktop\532dd71a-f38a-47c3-8f6c-a06fdb4417a5.jpg"/>
          <p:cNvPicPr/>
          <p:nvPr/>
        </p:nvPicPr>
        <p:blipFill>
          <a:blip r:embed="rId1"/>
          <a:stretch/>
        </p:blipFill>
        <p:spPr>
          <a:xfrm>
            <a:off x="4498920" y="1484280"/>
            <a:ext cx="4481640" cy="3360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C:\Users\user\Desktop\a92d0987-bcb9-43ba-b218-73a6f03ef97f.jpg"/>
          <p:cNvPicPr/>
          <p:nvPr/>
        </p:nvPicPr>
        <p:blipFill>
          <a:blip r:embed="rId2"/>
          <a:stretch/>
        </p:blipFill>
        <p:spPr>
          <a:xfrm>
            <a:off x="179280" y="2637000"/>
            <a:ext cx="47484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22221"/>
                </a:solidFill>
                <a:latin typeface="Mistral"/>
              </a:rPr>
              <a:t>ВЫБОР ТКАНИ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Шерстяные, платьевые или костюмные ткани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8" name="Picture 10" descr="https://im0-tub-ru.yandex.net/i?id=186d5039f5a99046902dc76f0b1c17ac-l&amp;n=13"/>
          <p:cNvPicPr/>
          <p:nvPr/>
        </p:nvPicPr>
        <p:blipFill>
          <a:blip r:embed="rId1"/>
          <a:stretch/>
        </p:blipFill>
        <p:spPr>
          <a:xfrm>
            <a:off x="395280" y="1752480"/>
            <a:ext cx="4326120" cy="32450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https://cs5.livemaster.ru/storage/d4/9c/bca9ff44579af9cfad4a85cf5b6z--materialy-dlya-tvorchestva-gabardin-melanzh-kostyumno-plateln.jpg"/>
          <p:cNvPicPr/>
          <p:nvPr/>
        </p:nvPicPr>
        <p:blipFill>
          <a:blip r:embed="rId2"/>
          <a:stretch/>
        </p:blipFill>
        <p:spPr>
          <a:xfrm>
            <a:off x="3995640" y="3087720"/>
            <a:ext cx="45910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22221"/>
                </a:solidFill>
                <a:latin typeface="Mistral"/>
              </a:rPr>
              <a:t>АКСЕССУАРЫ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ГАЛСТУКИ И БРОШИ В ТЕХНИКЕ «КАНЗАШИ»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2" name="Picture 2" descr="C:\Users\user\Desktop\f97a372f-68a0-4500-952c-288a287745a9.jpg"/>
          <p:cNvPicPr/>
          <p:nvPr/>
        </p:nvPicPr>
        <p:blipFill>
          <a:blip r:embed="rId1"/>
          <a:stretch/>
        </p:blipFill>
        <p:spPr>
          <a:xfrm>
            <a:off x="468360" y="1773360"/>
            <a:ext cx="4071960" cy="3054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C:\Users\user\Desktop\654f8ea1-1d92-4e80-92af-46bba084b113.jpg"/>
          <p:cNvPicPr/>
          <p:nvPr/>
        </p:nvPicPr>
        <p:blipFill>
          <a:blip r:embed="rId2"/>
          <a:stretch/>
        </p:blipFill>
        <p:spPr>
          <a:xfrm>
            <a:off x="4284720" y="2716200"/>
            <a:ext cx="459576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03:23:04Z</dcterms:created>
  <dc:creator>Helen</dc:creator>
  <dc:description/>
  <dc:language>en-US</dc:language>
  <cp:lastModifiedBy>user</cp:lastModifiedBy>
  <dcterms:modified xsi:type="dcterms:W3CDTF">2021-05-30T19:28:18Z</dcterms:modified>
  <cp:revision>31</cp:revision>
  <dc:subject/>
  <dc:title>Слайд 1</dc:title>
</cp:coreProperties>
</file>