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EF6-CC72-4C90-9AF1-E0E73923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9D3-CA9E-4585-AB8F-3873971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37B-D36C-49C6-ABE4-0D372607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86B-6059-4F34-A0E8-3CFF5656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01F1-0467-4757-887D-D2B6FC5B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E202-DCB6-4964-803E-9627EAD4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5A5-D924-41F5-AD83-3A475B6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668B-DC4F-4EDE-BFF3-FE5A988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9A98-45CD-471F-8CA8-7AB813CC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7B9B-D407-46FF-B58D-BA6DD79B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58B-A4B9-4017-A9DE-1C1F186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649-E0FF-4DD9-B916-6731C99B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584D-2554-4754-B8CB-85E1897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6C1-E5A4-4066-95C1-098053B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D9D-92D9-4C24-9337-0D139C5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330-BE6D-4651-B760-0F0ADFED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787-D00F-450D-82A3-418FC618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FF3-8D1B-4342-86FA-BD3F9C0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632-A2E6-40AB-8C3C-C7AF8141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14C-B285-4221-A844-EDA0198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27C-E21B-47C3-A377-DBFDA41E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1A1-5ED2-477C-8458-510CED6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122-A5DA-4A7F-9C59-4F4C0F8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3CE-5894-4F7D-9F1B-19D4E9FA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A6D-6CAE-4225-86A6-951C41F2BC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CBB-7FE3-438B-B3E0-6D46582EB2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7640" y="125280"/>
            <a:ext cx="44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CIENC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93372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5013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1" lang="ru-RU" sz="3600" spc="-1" strike="noStrike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3840" y="292428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ИРИНА ИРИНА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Road to Hell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RIS REA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ll I am standing by a riv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the water doesn’t fl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boils with every poison you can think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I’m underneath the street l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the light of joy I kn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red beyond belief way down in the shadow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perverted fear of viol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kes the smile on every fa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common sense is ringing out the bel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ain’t  no technological break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h no, this is the road to hel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all the roads jam up with cred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re is nothing you can d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’s all just bits of paper flying away from y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h look out world, take a good loo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comes down he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must learn this lesson fast and learn it we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ain’t no upwardly mobile freewa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h no, this is the roa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id this is the roa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is the road to hel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Наука - самое важное, самое прекрасное и нужное в жизни челове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он Павлович Чех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14978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The word science comes from the La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cientia, meaning k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ow do we define scie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ccording to Webster's New Dictionar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cienc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knowled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ed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through study or practic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knowled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the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general truths 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Картинка 42 из 26933"/>
          <p:cNvPicPr/>
          <p:nvPr/>
        </p:nvPicPr>
        <p:blipFill>
          <a:blip r:embed="rId1"/>
          <a:stretch/>
        </p:blipFill>
        <p:spPr>
          <a:xfrm>
            <a:off x="1187280" y="476280"/>
            <a:ext cx="6696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50920" y="1767960"/>
            <a:ext cx="46069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4221000"/>
            <a:ext cx="2266920" cy="263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8200" y="128520"/>
            <a:ext cx="5310000" cy="69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MATHEMATICS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MATHEMATIC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PHYSICS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PHISIC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CHEMISTRY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CHEM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BIOLOGY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ENGINEERING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ENGIN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PROGRAMMING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SCIENCE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SCIENT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DISCOVER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y</a:t>
            </a: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DISCOVE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INVENTI</a:t>
            </a:r>
            <a:r>
              <a:rPr b="1" i="1" lang="en-US" sz="2800" spc="-1" strike="noStrike">
                <a:solidFill>
                  <a:srgbClr val="ffcc66"/>
                </a:solidFill>
                <a:latin typeface="Tahoma"/>
              </a:rPr>
              <a:t>on</a:t>
            </a: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INV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ahoma"/>
              </a:rPr>
              <a:t>GENETICS-</a:t>
            </a: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GENETIC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Картинка 7 из 1725"/>
          <p:cNvPicPr/>
          <p:nvPr/>
        </p:nvPicPr>
        <p:blipFill>
          <a:blip r:embed="rId1"/>
          <a:stretch/>
        </p:blipFill>
        <p:spPr>
          <a:xfrm>
            <a:off x="684360" y="198900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3 из 3790"/>
          <p:cNvPicPr/>
          <p:nvPr/>
        </p:nvPicPr>
        <p:blipFill>
          <a:blip r:embed="rId2"/>
          <a:stretch/>
        </p:blipFill>
        <p:spPr>
          <a:xfrm>
            <a:off x="179280" y="115920"/>
            <a:ext cx="1143000" cy="146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1 из 5027"/>
          <p:cNvPicPr/>
          <p:nvPr/>
        </p:nvPicPr>
        <p:blipFill>
          <a:blip r:embed="rId3"/>
          <a:stretch/>
        </p:blipFill>
        <p:spPr>
          <a:xfrm>
            <a:off x="2484360" y="2602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637000"/>
            <a:ext cx="1333440" cy="79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4360" y="3860640"/>
            <a:ext cx="130464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012000" y="54936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17 из 4067"/>
          <p:cNvPicPr/>
          <p:nvPr/>
        </p:nvPicPr>
        <p:blipFill>
          <a:blip r:embed="rId7"/>
          <a:stretch/>
        </p:blipFill>
        <p:spPr>
          <a:xfrm>
            <a:off x="4572000" y="907920"/>
            <a:ext cx="8859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857520" cy="1209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2771640" y="4653000"/>
            <a:ext cx="91440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4211640" y="3716280"/>
            <a:ext cx="1257120" cy="743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6516720" y="4581360"/>
            <a:ext cx="876240" cy="119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7740720" y="404640"/>
            <a:ext cx="714240" cy="97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1 из 1891"/>
          <p:cNvPicPr/>
          <p:nvPr/>
        </p:nvPicPr>
        <p:blipFill>
          <a:blip r:embed="rId13"/>
          <a:stretch/>
        </p:blipFill>
        <p:spPr>
          <a:xfrm>
            <a:off x="7667640" y="2349360"/>
            <a:ext cx="1038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exander Graham  Bell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847-192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Картинка 1 из 22957"/>
          <p:cNvPicPr/>
          <p:nvPr/>
        </p:nvPicPr>
        <p:blipFill>
          <a:blip r:embed="rId1"/>
          <a:stretch/>
        </p:blipFill>
        <p:spPr>
          <a:xfrm>
            <a:off x="2484360" y="1557360"/>
            <a:ext cx="4896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Картинка 4 из 497076"/>
          <p:cNvPicPr/>
          <p:nvPr/>
        </p:nvPicPr>
        <p:blipFill>
          <a:blip r:embed="rId1"/>
          <a:stretch/>
        </p:blipFill>
        <p:spPr>
          <a:xfrm>
            <a:off x="611280" y="333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47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7:09:48Z</dcterms:created>
  <dc:creator>Федо</dc:creator>
  <dc:description/>
  <dc:language>en-US</dc:language>
  <cp:lastModifiedBy>Дмитрий</cp:lastModifiedBy>
  <dcterms:modified xsi:type="dcterms:W3CDTF">2022-11-11T09:17:21Z</dcterms:modified>
  <cp:revision>14</cp:revision>
  <dc:subject/>
  <dc:title>Слайд 1</dc:title>
</cp:coreProperties>
</file>