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431-F7E8-451B-9528-D36B0F56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B1D-BD25-4A28-9557-130E011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FD3-6EA4-4AB0-BA82-4E9A439F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EFD-ACFE-43F5-A604-FE6D29B1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F88-6F12-4747-A5B5-C4B0C2A2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A39-B7E5-4FFE-92B4-04C523C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E33-EC85-47DA-AC1E-56F04331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E34-E251-4D9F-A9A2-A04BD9EE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208-D454-4EAB-80BF-1F2A0BB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1CB-2119-4BCA-B0BD-3BC68AB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98D-C597-466B-A66B-07B09C5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C04-9377-455D-9B9A-AF07309C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FFA-60B8-40D4-B7EA-AE4D78E0C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СЕТЧАТЫЙ ОРНА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Варианты орнамента, выполненные учащимися 4 класса ДХ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3. Разрезать по линии разм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8" descr="PC108474.JPG"/>
          <p:cNvPicPr/>
          <p:nvPr/>
        </p:nvPicPr>
        <p:blipFill>
          <a:blip r:embed="rId1"/>
          <a:stretch/>
        </p:blipFill>
        <p:spPr>
          <a:xfrm>
            <a:off x="785880" y="2071800"/>
            <a:ext cx="5554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4. Развернуть внешними краями во внут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PC108476.JPG"/>
          <p:cNvPicPr/>
          <p:nvPr/>
        </p:nvPicPr>
        <p:blipFill>
          <a:blip r:embed="rId1"/>
          <a:stretch/>
        </p:blipFill>
        <p:spPr>
          <a:xfrm>
            <a:off x="531720" y="2149560"/>
            <a:ext cx="56833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5.Скле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PC108478.JPG"/>
          <p:cNvPicPr/>
          <p:nvPr/>
        </p:nvPicPr>
        <p:blipFill>
          <a:blip r:embed="rId1"/>
          <a:stretch/>
        </p:blipFill>
        <p:spPr>
          <a:xfrm>
            <a:off x="1000080" y="1771560"/>
            <a:ext cx="49420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6.Снова наметить линию разреза и разреза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6" descr="PC108480.JPG"/>
          <p:cNvPicPr/>
          <p:nvPr/>
        </p:nvPicPr>
        <p:blipFill>
          <a:blip r:embed="rId1"/>
          <a:stretch/>
        </p:blipFill>
        <p:spPr>
          <a:xfrm>
            <a:off x="208080" y="1741320"/>
            <a:ext cx="3363840" cy="383076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7" descr="PC108483.JPG"/>
          <p:cNvPicPr/>
          <p:nvPr/>
        </p:nvPicPr>
        <p:blipFill>
          <a:blip r:embed="rId2"/>
          <a:stretch/>
        </p:blipFill>
        <p:spPr>
          <a:xfrm>
            <a:off x="3214800" y="4286160"/>
            <a:ext cx="3220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7. Развернуть внешние края вовнутрь и склеить, на пустом поле дорисовать недостающие эле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4" descr="PC108484.JPG"/>
          <p:cNvPicPr/>
          <p:nvPr/>
        </p:nvPicPr>
        <p:blipFill>
          <a:blip r:embed="rId1"/>
          <a:stretch/>
        </p:blipFill>
        <p:spPr>
          <a:xfrm>
            <a:off x="214200" y="2214720"/>
            <a:ext cx="3114720" cy="447660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5" descr="PC108486.JPG"/>
          <p:cNvPicPr/>
          <p:nvPr/>
        </p:nvPicPr>
        <p:blipFill>
          <a:blip r:embed="rId2"/>
          <a:stretch/>
        </p:blipFill>
        <p:spPr>
          <a:xfrm>
            <a:off x="3286080" y="4187880"/>
            <a:ext cx="33577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Натурные зарисовки растительных мотив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333360" y="1763640"/>
            <a:ext cx="6208560" cy="71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Декоративно переработать зарисовку - линейно и пят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43080" y="3344760"/>
            <a:ext cx="3009600" cy="361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3505320" y="3355920"/>
            <a:ext cx="30099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Выполнить варианты </a:t>
            </a:r>
            <a:br>
              <a:rPr sz="2800"/>
            </a:b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цветового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31920" y="1547640"/>
            <a:ext cx="62514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Один из вариантов эскиза преобразовать в раппор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343080" y="2468520"/>
            <a:ext cx="61722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76280" y="250920"/>
            <a:ext cx="5960880" cy="84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400" y="8215560"/>
            <a:ext cx="60166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Последние цв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14" descr="PC108514.JPG"/>
          <p:cNvPicPr/>
          <p:nvPr/>
        </p:nvPicPr>
        <p:blipFill>
          <a:blip r:embed="rId1"/>
          <a:stretch/>
        </p:blipFill>
        <p:spPr>
          <a:xfrm>
            <a:off x="857160" y="357120"/>
            <a:ext cx="52498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3000" y="178920"/>
            <a:ext cx="617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Орнамент и рап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60280" y="826920"/>
            <a:ext cx="5616720" cy="799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2"/>
          <a:stretch/>
        </p:blipFill>
        <p:spPr>
          <a:xfrm>
            <a:off x="4073400" y="5364000"/>
            <a:ext cx="27846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Этапы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404640" y="1619280"/>
            <a:ext cx="3164040" cy="27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4005360" y="1619280"/>
            <a:ext cx="2290680" cy="315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549360" y="5003640"/>
            <a:ext cx="2523960" cy="352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645000" y="5003640"/>
            <a:ext cx="2573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760" y="7143840"/>
            <a:ext cx="617220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Цветение тра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PC108516.JPG"/>
          <p:cNvPicPr/>
          <p:nvPr/>
        </p:nvPicPr>
        <p:blipFill>
          <a:blip r:embed="rId1"/>
          <a:stretch/>
        </p:blipFill>
        <p:spPr>
          <a:xfrm>
            <a:off x="0" y="919080"/>
            <a:ext cx="6858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Раппорт к орнаменту «Цветение тра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79440" y="2133720"/>
            <a:ext cx="60991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8286840"/>
            <a:ext cx="61722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Осенняя ли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PC108519.JPG"/>
          <p:cNvPicPr/>
          <p:nvPr/>
        </p:nvPicPr>
        <p:blipFill>
          <a:blip r:embed="rId1"/>
          <a:stretch/>
        </p:blipFill>
        <p:spPr>
          <a:xfrm>
            <a:off x="571680" y="214200"/>
            <a:ext cx="5698800" cy="810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СОЗДАЁТСЯ ОРНА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3080" y="2045880"/>
            <a:ext cx="30304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Набросок с н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8" descr="PC108468.JPG"/>
          <p:cNvPicPr/>
          <p:nvPr/>
        </p:nvPicPr>
        <p:blipFill>
          <a:blip r:embed="rId1"/>
          <a:stretch/>
        </p:blipFill>
        <p:spPr>
          <a:xfrm>
            <a:off x="355680" y="3405240"/>
            <a:ext cx="3017880" cy="4238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84080" y="2045880"/>
            <a:ext cx="303084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8ed5"/>
                </a:solidFill>
                <a:latin typeface="Calibri"/>
              </a:rPr>
              <a:t>Декоративная линейная переработ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9" descr="PC108464.JPG"/>
          <p:cNvPicPr/>
          <p:nvPr/>
        </p:nvPicPr>
        <p:blipFill>
          <a:blip r:embed="rId2"/>
          <a:stretch/>
        </p:blipFill>
        <p:spPr>
          <a:xfrm>
            <a:off x="3670200" y="3357720"/>
            <a:ext cx="2845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создаётся орна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3080" y="2045880"/>
            <a:ext cx="30304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Декоративная переработка пят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14" descr="PC108463.JPG"/>
          <p:cNvPicPr/>
          <p:nvPr/>
        </p:nvPicPr>
        <p:blipFill>
          <a:blip r:embed="rId1"/>
          <a:stretch/>
        </p:blipFill>
        <p:spPr>
          <a:xfrm>
            <a:off x="0" y="3220920"/>
            <a:ext cx="3316320" cy="4897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84080" y="2045880"/>
            <a:ext cx="303084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Вариант эскиза в цв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15" descr="PC108465.JPG"/>
          <p:cNvPicPr/>
          <p:nvPr/>
        </p:nvPicPr>
        <p:blipFill>
          <a:blip r:embed="rId2"/>
          <a:stretch/>
        </p:blipFill>
        <p:spPr>
          <a:xfrm>
            <a:off x="3357720" y="3214800"/>
            <a:ext cx="35002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7929360"/>
            <a:ext cx="61722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рапп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1" descr="PC108462.JPG"/>
          <p:cNvPicPr/>
          <p:nvPr/>
        </p:nvPicPr>
        <p:blipFill>
          <a:blip r:embed="rId1"/>
          <a:stretch/>
        </p:blipFill>
        <p:spPr>
          <a:xfrm>
            <a:off x="357120" y="285840"/>
            <a:ext cx="6228000" cy="76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оследовательность создания рапп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046240"/>
            <a:ext cx="303048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1. Создать рисун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84080" y="2045880"/>
            <a:ext cx="303084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2. Наметить линию раз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PC108470.JPG"/>
          <p:cNvPicPr/>
          <p:nvPr/>
        </p:nvPicPr>
        <p:blipFill>
          <a:blip r:embed="rId1"/>
          <a:stretch/>
        </p:blipFill>
        <p:spPr>
          <a:xfrm>
            <a:off x="343080" y="3479760"/>
            <a:ext cx="3030480" cy="410832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3" descr="PC108472.JPG"/>
          <p:cNvPicPr/>
          <p:nvPr/>
        </p:nvPicPr>
        <p:blipFill>
          <a:blip r:embed="rId2"/>
          <a:stretch/>
        </p:blipFill>
        <p:spPr>
          <a:xfrm>
            <a:off x="3484440" y="3452760"/>
            <a:ext cx="30308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Шулакова</dc:creator>
  <dc:description/>
  <dc:language>en-US</dc:language>
  <cp:lastModifiedBy>shulakova.elena.63@mail.ru</cp:lastModifiedBy>
  <dcterms:modified xsi:type="dcterms:W3CDTF">2022-11-13T09:26:54Z</dcterms:modified>
  <cp:revision>11</cp:revision>
  <dc:subject/>
  <dc:title>СЕТЧАТЫЙ ОРНАМЕНТ</dc:title>
</cp:coreProperties>
</file>