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8DE-B0C0-40B8-9085-534A73D6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1DF-A616-402A-96AF-0278595A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380-1287-40A0-B80B-F7CD0E7F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A7E-AA4D-441A-A4E9-52844886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7464-3CC9-4F04-A24B-A0BFD283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7CA6-DEE6-43F0-A31A-1CFF1A23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3A2F-BCCB-408D-984C-AD4631E2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AC4D-B673-4E7B-ACF0-8CE2EE50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3B5B-A7D5-4662-9CC4-DB8EAF7A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54CE-C080-4704-9940-F5263A6B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8D41-7266-4A46-93DC-2AE34416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453-62E7-469E-B724-FA38AB81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3964-BA17-482D-AD25-415692D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A685-3651-4728-9C26-C5C229D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8CD3-4A75-4EF3-990A-9EDCD947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6B07-4E4C-4A0E-9153-F46A7923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6398-B464-4861-AE6D-3D5CEA51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A0AA-BBCF-4776-B9F2-F9AED1C1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C3A8-A327-40BF-982D-A8B98374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28EA-C567-4535-B08B-B746830B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3593-B7A1-4D96-9FC4-6C7F3F30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76C2-6E00-4237-BE38-49F1F8C5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AA7-36AE-4050-9AF0-194AFC97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6770-61D3-45A3-87F1-4A86AF8F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AA631-B483-411F-ACA6-642852F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4BE8-F643-4626-8DB2-536121B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C96D-1EE6-4567-84D0-A14B0A47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2E3E-E03F-4A30-9A74-4595335A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EC66-40F2-47ED-9839-C5F06489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DB24-251E-4410-8373-9FEDC724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1AE9-485E-4E7D-876A-F6053606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7AAA6-9298-4EC6-9C63-2CE855C2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228D-1AF2-4F28-98B7-AC98F090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BA9-8DE7-4C04-ACAD-32F29F58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F68E-8050-4FAD-8901-C2398C20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C86F3-0CB9-477F-85EF-C73F80C4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A4DC-F1BB-4243-ACDB-1A804E95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649F-57C7-4F04-BFFE-FC009680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1F77-C265-4DC6-80B1-F0443889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3C37-905D-45D7-A7EA-411385F6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09FB-3A5A-42F2-8DF3-96EBAE78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0DA2-0F4C-436A-B1B9-CFBBD4DB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79F3D-34C5-4661-ABE4-139F1BDD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D619-9993-4610-B076-A444A3FD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D30-808F-4A5F-8220-CC90009B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53F2D-A89A-47B6-A5FF-662D7073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006A-752B-4B8D-989D-30BF9AAA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6BB7C-6128-44EE-B5BC-79767812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D80A4-05F5-4733-A59B-B1BDA36C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FF938-32AF-4B5C-818C-46FA5C80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71262-E5B7-4674-BFFC-87C38CE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345AE-652E-481F-A373-480B4BBE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B5DE1-41C9-4A00-9F60-1E3B6DDA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9962-99C9-495A-B8EA-53997139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D3469-FA48-4DAA-B01E-9BF4CE1C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39C-D2BC-4335-82C2-B4F79B9E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E3FA-634C-472B-9C96-B215417D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E8486-A3B1-4693-8BED-07CF7623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E93E5-07FD-4F49-9368-0A31E1EA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9D29-FEE3-4BA7-BCEE-9C941B15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71D56-2269-4354-B3EF-0CBCA75C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39752-6744-4E95-B274-D8079659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C201-62DB-4C37-93ED-345447AE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C5EB8-884D-4DD9-846A-C1F437E3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F98F0-B4BB-4A63-A522-EF09D9E9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B34FC-730B-4630-9D78-B0B244EB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0B7-1823-4F0C-9BBB-AD210EBC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C4849-B4A3-489B-9E6B-6E8EFC3E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D1D39-BFD9-4096-8DA8-4D28690E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2EFF8-0948-4AFC-8A81-0EEB8D21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DFD-4B33-4073-86A9-78480EE7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63E-1B06-494C-AEFA-B3117E0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1B88-B763-46E5-8EA5-A6BF01AF5D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DC4B-7B8A-4A70-B778-06D86B57C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5A1E-7768-4639-B1CF-F1DE43F09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1EF8-85C2-4903-9018-D889DF35A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FF1-6C9E-48FA-86D9-17097C98F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8815-0193-4A94-822E-2C24F2334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culture.ru/persons/8195/aleksandr-pushkin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Тематические группы слов. Обозначение родовых и видовых понят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alatino Linotype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Личностные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: формировать ценностное отношение к родному слов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Метапредметные: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ыявлять и характеризовать существенные признаки языковых единиц, языковых я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Предметные: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характеризовать тематические группы слов, родовые и видов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Связаны ли эти слова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Обоснуйте свою точку зр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ризонтальный свиток 5"/>
          <p:cNvSpPr/>
          <p:nvPr/>
        </p:nvSpPr>
        <p:spPr>
          <a:xfrm>
            <a:off x="684360" y="1052640"/>
            <a:ext cx="7775280" cy="5329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Писатель –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человек, который занимается литературным трудом, пишет художественные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Книга -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дин из видов печатной продукции: непериодическое издание, состоящее из сброшюрованных или отдельных бумажных листов (страниц) или тетрадей, на которых нанесена типографским или рукописным способом текстовая и графическая (иллюстрации) информация, имеющее, как правило, твёрдый переплёт.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Тематическая группа – это слова, необходимые для того, чтобы раскрыть одну тему и перечислить сходные по какому-либо признаку предм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1 вариант.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апишите не менее 10 слов, входящих в тематическую группу «Литерату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2 вариант.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апишите не менее 10 слов, входящих в тематическую группу «Русский язы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Составьте связный текст, используя эти слова. Запишите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4365720"/>
            <a:ext cx="8229600" cy="200664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ВИД и РОД – понятия классификации, служащие для выражения отношения между классами: из двух классов тот, что содержит в себе другой, называется </a:t>
            </a: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родом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, а тот, что содержится, — </a:t>
            </a: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идом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404280"/>
            <a:ext cx="4038480" cy="381636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 каждой тематической группе есть одно </a:t>
            </a: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родовое понятие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(обобщающее для класса слов) и множество </a:t>
            </a: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идовых понятий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42920" y="404280"/>
            <a:ext cx="4038840" cy="381636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Помните из окружающего мира или биологии значения слов «вид» и «род»? Эти понятия взяты из логики и выражают объединение какого-либо набора предметов в одну общую группу. Эта общая группа и называется 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родом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, а все включенные в нее предметы – это 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иды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Обратите внимание на выражение «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а именно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». Оно еще не раз поможет вам начать ряд видовых понятий. Например, вы можете сказать: «В наш двор прилетает много разных </a:t>
            </a:r>
            <a:r>
              <a:rPr b="0" i="1" lang="ru-RU" sz="1800" spc="-1" strike="noStrike">
                <a:solidFill>
                  <a:srgbClr val="000000"/>
                </a:solidFill>
                <a:latin typeface="Palatino Linotype"/>
              </a:rPr>
              <a:t>птиц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 (родовое понятие), 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а именно: 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грачи, синицы, воробьи и ласточки (видовые понятия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Содержимое 15" descr="img1_199.png"/>
          <p:cNvPicPr/>
          <p:nvPr/>
        </p:nvPicPr>
        <p:blipFill>
          <a:blip r:embed="rId1"/>
          <a:stretch/>
        </p:blipFill>
        <p:spPr>
          <a:xfrm>
            <a:off x="4859280" y="1557360"/>
            <a:ext cx="4038480" cy="4824360"/>
          </a:xfrm>
          <a:prstGeom prst="rect">
            <a:avLst/>
          </a:prstGeom>
          <a:ln w="0">
            <a:noFill/>
          </a:ln>
        </p:spPr>
      </p:pic>
      <p:sp>
        <p:nvSpPr>
          <p:cNvPr id="263" name="Овал 5"/>
          <p:cNvSpPr/>
          <p:nvPr/>
        </p:nvSpPr>
        <p:spPr>
          <a:xfrm>
            <a:off x="1692360" y="2492280"/>
            <a:ext cx="266364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ример тематической группы «Пти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6"/>
          <p:cNvSpPr/>
          <p:nvPr/>
        </p:nvSpPr>
        <p:spPr>
          <a:xfrm>
            <a:off x="1187280" y="1484280"/>
            <a:ext cx="15130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А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8"/>
          <p:cNvSpPr/>
          <p:nvPr/>
        </p:nvSpPr>
        <p:spPr>
          <a:xfrm>
            <a:off x="250920" y="2708280"/>
            <a:ext cx="1728720" cy="987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9"/>
          <p:cNvSpPr/>
          <p:nvPr/>
        </p:nvSpPr>
        <p:spPr>
          <a:xfrm>
            <a:off x="468360" y="3933720"/>
            <a:ext cx="1800000" cy="98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Г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10"/>
          <p:cNvSpPr/>
          <p:nvPr/>
        </p:nvSpPr>
        <p:spPr>
          <a:xfrm>
            <a:off x="3635280" y="1700280"/>
            <a:ext cx="16574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Дро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11"/>
          <p:cNvSpPr/>
          <p:nvPr/>
        </p:nvSpPr>
        <p:spPr>
          <a:xfrm>
            <a:off x="3780000" y="3860640"/>
            <a:ext cx="1728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Со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12"/>
          <p:cNvSpPr/>
          <p:nvPr/>
        </p:nvSpPr>
        <p:spPr>
          <a:xfrm>
            <a:off x="1908000" y="4581360"/>
            <a:ext cx="2303640" cy="1130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Со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Распределите слова на тематические группы (названия колонок определите самостоятельно). Дополните каждую из групп 1 – 2 примерами. Составьте устный рассказ, используя слова  тематической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920" y="162864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Смы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Ляг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Композ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Аквар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Др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иолонч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Яще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716000" y="1773360"/>
            <a:ext cx="40388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али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Хол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Орке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Три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Гуа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Натураль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Умно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ейз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Салама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Домашнее зада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Выпишите из стихотворения слова тематической группы «Зима». Напишите о своем отношении к этому времени года, составив связный текст из 7 –  8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Palatino Linotype"/>
                <a:hlinkClick r:id="rId1"/>
              </a:rPr>
              <a:t>Александр Пуш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Зимний веч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Буря мглою небо кро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Вихри снежные крут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То, как зверь, она заво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То заплачет, как дит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То по кровле обветшал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Вдруг соломой зашум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То, как путник запоздал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К нам в окошко застуч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Наша ветхая лачуж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И печальна и тем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Что же ты, моя старушк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Приумолкла у окна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Или бури завыванье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Ты, мой друг, утомле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Или дремлешь под жужжанье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Своего веретен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292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Выпьем, добрая подруж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Бедной юности мое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Выпьем с горя; где же кружка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Сердцу будет весел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Спой мне песню, как синиц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Тихо за морем жил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Спой мне песню, как девиц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За водой поутру ш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Буря мглою небо кро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Вихри снежные крут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То, как зверь, она заво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То заплачет, как дит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Выпьем, добрая подруж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Бедной юности мое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Выпьем с горя: где же кружка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Сердцу будет вес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6T14:34:36Z</dcterms:created>
  <dc:creator>yuliyabakuma@hotmail.com</dc:creator>
  <dc:description/>
  <dc:language>en-US</dc:language>
  <cp:lastModifiedBy>yuliyabakuma@hotmail.com</cp:lastModifiedBy>
  <dcterms:modified xsi:type="dcterms:W3CDTF">2022-11-13T07:48:25Z</dcterms:modified>
  <cp:revision>17</cp:revision>
  <dc:subject/>
  <dc:title>Тематические группы слов. Обозначение родовых и видовых понятий.</dc:title>
</cp:coreProperties>
</file>