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8EB-4E53-401D-94F9-6AA28C9C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D3C-5466-4BE5-9B25-BF32A13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CF2-19D8-4E38-A35E-C8370C8B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976-E7A5-4BF5-BE65-C6CA265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DC22-751F-493B-BDC5-91519E6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DE7F-8C7D-444F-8F7C-3E6DE31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764-5206-478B-B160-A91B37C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1451-06BB-47CE-9E2D-84F9712C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A22-21B8-4DC8-BC33-E10E9EF7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736-A086-4A53-899A-924471EE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3E67-7EE0-4766-8E03-856397A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57D-C180-4C68-99C0-E75A78A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1E2-B111-47AD-A138-57D912F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B71-EE04-4B51-9D06-056B631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7079-50BF-4004-8EF1-CF72EE2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BD43-9554-479D-8E00-A288C1D1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F9D-50A8-456B-97F9-43C0C690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58EA-586C-4ED5-89FE-1EC33E0C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F61F-487F-4C2F-9262-86DDE297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3620-1E8C-469D-A1B0-C229A3A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F150-6D37-4788-BBC0-7E14864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549D-F79D-4F94-A511-3BEAFB0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C41-0D7E-433D-8146-732D77E0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7F27-2062-4783-9F5E-FEC60987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99EC-60CC-4BAB-9B26-A7053BE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9B4A-96F5-4779-96DE-EBB42BF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1ECF-4AF8-4BD2-9309-5497FE0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A112-6A30-46B6-87D8-206E8B5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D33E-6D9F-4D0C-BEC5-278338E2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5592-C36C-4EDE-927A-9BF3B6E1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1752-402E-481E-9C62-A1D88ABA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287B-13BD-4C8A-A7F2-7E896C7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D12C-46C2-47A0-837E-E3BE797B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FB4-6B00-45FA-BE0C-B89781D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9363-36CC-4534-9188-39B1684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E1FB-5CD2-47F6-A3AA-5616162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71F9-BDC1-4D21-B944-D25E428F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0781-2C14-4B93-9CC9-88FFC74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2859-ED06-49BC-B6F1-6E50C38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4EF4-D375-4228-B544-D1A4E85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09B5-D2B3-47DA-A78D-BE128F7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B379-FB52-4D94-9089-F9B03E7D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2972-8465-4907-8BAB-F2892A5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CC41-9BE8-40ED-82AD-6EF814BE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9B5-64BA-4E34-8C8D-CCC7476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4169-C43A-417C-8D13-E266EF89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517F-6EFE-4F01-B9E2-F5385C3F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4E26-1BCD-45D0-BF12-1244FA8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364F-2D75-4DE2-8539-C4B1959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0091-E080-40F3-AE5E-1431E6C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C5A6-2023-4158-ACA7-6E7C220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F5F0-D4E0-448A-9DE1-29669E1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4D1D-044B-41DD-B6F2-59815BC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498B5-0C67-4905-88F4-DACFBF7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964D-D3B7-4B4E-8224-4AEE7353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409-4CE7-4024-B755-5E1CC63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2612-851E-4150-A62C-3E32C43E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3B1A-6DD7-4875-843E-0C162D90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59B2-24B7-423D-908D-0E9B67B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D057-B4FA-4A38-A61D-90A6AD2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93F2-68F6-4C93-8D00-DD1AF548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E748-EEAF-449C-B168-89FB2A0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AFA3-EE6B-466C-942F-6300FA0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844D-0979-4416-A3A4-0DC4AA12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88C1-1732-4DD6-A783-50AF91C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950D8-D3A7-4E4C-82DD-34ABFF7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EBD-E5FA-4199-90EF-DE4DADD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9932-3347-49F7-A44B-6C16859B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45D5-74A6-4A4E-AEA5-3B1FCC0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F4FE-EEBB-4AA5-BEB4-0A1C1DDF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8054-F701-4D8B-9413-86EFDDAB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8262-A195-4377-8236-FA8C043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F0DC-94CF-4ABC-BF13-5506B9C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3DBEF-0993-4EA7-AC8E-C5E499A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0A60-D7A9-40B1-B4A0-63BC71A6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745D-4038-44AF-B419-67F4576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FAB24-9CED-4B95-ADBB-A7E3871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C34-CADD-40DD-B6CB-C6B2213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A018-A463-4DA9-BF62-264696A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B30D-D36F-413E-9140-2AA3E34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384A-9204-425D-9451-381FD2D0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81F8A-3509-4EFC-A0E2-FC5B30CD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B9C4-8068-438A-9B46-50902D7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086-CCFB-4FA3-B445-9042A66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F3A0-26FF-4665-808F-2362C5050FC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1C1-D23A-49BD-8DE4-8A1B69B0CF0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15FE-E915-43A0-AAB3-C20F96C1D8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4F4D-F505-4D56-BF7A-A5A8BDC191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30C-0D50-43ED-8DFB-1324234F5F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89A-F534-4847-80C7-1EF6C7A650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C3B-A402-493E-9A5D-2AD65AA4E3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274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ающая презентация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Наземный транспорт</a:t>
            </a:r>
            <a:br>
              <a:rPr sz="5400"/>
            </a:b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ля старшего дошкольного возраст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ставила Воспитатель Бендерская  Г.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Прямоугольник 1"/>
          <p:cNvSpPr/>
          <p:nvPr/>
        </p:nvSpPr>
        <p:spPr>
          <a:xfrm>
            <a:off x="755640" y="333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сад №9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сельского района Санкт-Петербург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обогащать представление о видах транспор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закреплять знания о видах городского транс­порта: автобус, троллейбус, трамвай, такси, маршрутное такси, метро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видах городского, между­городного, автомобильного и железнодорожного транс­пор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правилах поведения в транс­пор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учить безопасному пове­дению на улицах и дорогах. Познакомить со значе­нием транспорта в жизни че­лове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华文新魏"/>
              </a:rPr>
              <a:t>Воспитывать уважение к профессии людей, создаю­щих транспортные средств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Что такое наземный транспорт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анспорт который ездит по земле называется назем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Наземный транспорт делится на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ссажирск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рузовой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альны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ассажирский транспор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ассажирский транспорт перевозит  людей – пассажиров. К нему  относятся: автобус, троллейбус, такси и трамва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9" name="Picture 8" descr="Рисунок1"/>
          <p:cNvPicPr/>
          <p:nvPr/>
        </p:nvPicPr>
        <p:blipFill>
          <a:blip r:embed="rId1"/>
          <a:stretch/>
        </p:blipFill>
        <p:spPr>
          <a:xfrm>
            <a:off x="5315040" y="1600200"/>
            <a:ext cx="2708280" cy="2181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4" descr="Рисунок3"/>
          <p:cNvPicPr/>
          <p:nvPr/>
        </p:nvPicPr>
        <p:blipFill>
          <a:blip r:embed="rId2"/>
          <a:stretch/>
        </p:blipFill>
        <p:spPr>
          <a:xfrm>
            <a:off x="4648320" y="3975120"/>
            <a:ext cx="40384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Грузовой наземный транспорт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82" name="Picture 7" descr="Рисунок5"/>
          <p:cNvPicPr/>
          <p:nvPr/>
        </p:nvPicPr>
        <p:blipFill>
          <a:blip r:embed="rId1"/>
          <a:stretch/>
        </p:blipFill>
        <p:spPr>
          <a:xfrm>
            <a:off x="903240" y="1600200"/>
            <a:ext cx="3141720" cy="218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Рисунок6"/>
          <p:cNvPicPr/>
          <p:nvPr/>
        </p:nvPicPr>
        <p:blipFill>
          <a:blip r:embed="rId2"/>
          <a:stretch/>
        </p:blipFill>
        <p:spPr>
          <a:xfrm>
            <a:off x="722160" y="3949560"/>
            <a:ext cx="3503880" cy="2181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Грузовой наземный транспорт перевозит грузы. К нему относятся такие машины как самосвал, грузовик, муковоз, цементовоз и др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ранспорту специального назнач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86" name="Picture 8" descr="Рисунок7"/>
          <p:cNvPicPr/>
          <p:nvPr/>
        </p:nvPicPr>
        <p:blipFill>
          <a:blip r:embed="rId1"/>
          <a:stretch/>
        </p:blipFill>
        <p:spPr>
          <a:xfrm>
            <a:off x="1120680" y="1940040"/>
            <a:ext cx="2705040" cy="1503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Рисунок8"/>
          <p:cNvPicPr/>
          <p:nvPr/>
        </p:nvPicPr>
        <p:blipFill>
          <a:blip r:embed="rId2"/>
          <a:stretch/>
        </p:blipFill>
        <p:spPr>
          <a:xfrm>
            <a:off x="5429160" y="1600200"/>
            <a:ext cx="2479680" cy="21812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корая помощь, полицейская машина, пожарная, автовышка, снегоуборочная машина, трубоукладчик, различные строительные и военные маш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Если машина поломалась 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Если машина поломалась, ее ремонтируют  в мастерской. Если возникла неисправность у поезда или трамвая ее можно починить в деп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1" name="Picture 14" descr="i (1)"/>
          <p:cNvPicPr/>
          <p:nvPr/>
        </p:nvPicPr>
        <p:blipFill>
          <a:blip r:embed="rId1"/>
          <a:stretch/>
        </p:blipFill>
        <p:spPr>
          <a:xfrm>
            <a:off x="5530680" y="1913040"/>
            <a:ext cx="2268720" cy="1573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 (2)"/>
          <p:cNvPicPr/>
          <p:nvPr/>
        </p:nvPicPr>
        <p:blipFill>
          <a:blip r:embed="rId2"/>
          <a:stretch/>
        </p:blipFill>
        <p:spPr>
          <a:xfrm>
            <a:off x="5519880" y="4292640"/>
            <a:ext cx="22888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Управление транспорт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 одни вид транспорта без человека не приходит в движение. Автобусы и другие машины водит – водитель, трамваи – вагоновожатый, поездом управляет машинист, мотоциклом – мотоциклист, велосипедом – велосипедист. Все машины очень помогают людя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3:08:36Z</dcterms:created>
  <dc:creator>OsipovaEV</dc:creator>
  <dc:description/>
  <dc:language>en-US</dc:language>
  <cp:lastModifiedBy>samsung</cp:lastModifiedBy>
  <dcterms:modified xsi:type="dcterms:W3CDTF">2022-10-31T08:10:15Z</dcterms:modified>
  <cp:revision>4</cp:revision>
  <dc:subject/>
  <dc:title>Обучающая презентация.</dc:title>
</cp:coreProperties>
</file>