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453-90DB-43CD-8119-4F4DE16C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166-BA66-428D-965A-1E44DFE1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E33-0788-40FD-8A67-AD6B39D3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5E9-8E5C-492B-A0D9-A9C6CA9A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215-0950-4ECC-8ABD-76072AFE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AD5-9604-41CB-B210-4C1D6D27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70F-736D-4238-8D02-0BEC9E35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1FA-1952-4BF5-8AA8-ACE9BCE1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89F-F885-4AA9-AD5D-9B75E79F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C93-0C8C-4485-A409-668EF77E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E36-CCC6-4A18-B9A3-098BB020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83B-8FB5-481D-A2D7-74B88EA6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CF38AA-1B09-4EA0-8974-A7C4E6827E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712944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600" spc="-1" strike="noStrike">
                <a:solidFill>
                  <a:srgbClr val="a50021"/>
                </a:solidFill>
                <a:latin typeface="Georgia"/>
              </a:rPr>
              <a:t>Экскурсия по городу Шелехов</a:t>
            </a:r>
            <a:br>
              <a:rPr sz="6600"/>
            </a:b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(виртуальная газета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Устьянова Галина Владимировна,</a:t>
            </a:r>
            <a:br>
              <a:rPr sz="2800"/>
            </a:b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МБОУ ШР СОШ № 4,учитель истор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41280" y="-23544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з истории город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63360" y="692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Шелехов — один из молодых городов Сибири. Город назван в честь Григория Ивановича Шелехова (Шелихова) — русского купца, основателя Российско-Американской компани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той основания Шелехова 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читается 12 июля 1953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— в этот день на стройке Иркутского алюминиевого завода состоялся первый рабочий день. Первыми жителями рабочего посёлка, называемого аббревиатурой завода ИркАз, были люди из деревень Олха, Маркова, Введенщина, Большой Лу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пан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  расскажу о пяти важнейших исторических достопримечательностях город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0080" y="1155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Городской музей им. Г.И.Шелехов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51280" y="125892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узей Григория Шелехова открыт в 2000 году. Музей является единственным на территории Сибирского региона изучающим деятельность известного российского купца, именитого Рыльского гражданина, основателя постоянных русских поселений в Северной Америке, инициатора создания Российско–Американской компании. В музее сформированы коллекции об истории города и Шелеховского района, материалы о жизни и деятельности Григория Ивановича Шелехова. Широко представлена информация о развитии дружественных отношений с городами-побратимами Рыльск и японским городом Но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6" name="Picture 5" descr="https://dynamic-media-cdn.tripadvisor.com/media/photo-o/12/03/39/b5/caption.jpg?w=1200&amp;amp;h=1200&amp;amp;s=1"/>
          <p:cNvPicPr/>
          <p:nvPr/>
        </p:nvPicPr>
        <p:blipFill>
          <a:blip r:embed="rId1"/>
          <a:stretch/>
        </p:blipFill>
        <p:spPr>
          <a:xfrm>
            <a:off x="595440" y="1557360"/>
            <a:ext cx="3236760" cy="215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voronovvv.ru/wp-content/uploads/2013/03/Shelehov_290609_5.jpg"/>
          <p:cNvPicPr/>
          <p:nvPr/>
        </p:nvPicPr>
        <p:blipFill>
          <a:blip r:embed="rId2"/>
          <a:stretch/>
        </p:blipFill>
        <p:spPr>
          <a:xfrm>
            <a:off x="576360" y="4014720"/>
            <a:ext cx="325584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807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Памятник Г. И. Шелехов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63840" y="1289160"/>
            <a:ext cx="37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амятник русскому исследователю, мореплавателю, промышленнику и купцу Григорию Шелехову открыт 5 декабря 1995 года, к 200-летию со дня смерти исследователя. В 1783- 1786 годах Григорий Шелехов возглавлял экспедицию в Русскую Америку, в ходе которой были основаны первые русские поселения в Северной Америке. С легкой руки Г. Р. Державина он прозван Русским Колумб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" name="Picture 2" descr="https://spas-irk.ru/wp-content/uploads/2018/05/pamytnik-shelehovu.jpg"/>
          <p:cNvPicPr/>
          <p:nvPr/>
        </p:nvPicPr>
        <p:blipFill>
          <a:blip r:embed="rId1"/>
          <a:stretch/>
        </p:blipFill>
        <p:spPr>
          <a:xfrm>
            <a:off x="1403280" y="1413000"/>
            <a:ext cx="3457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0080" y="1155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Стела Первостроителя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05040" y="1424160"/>
            <a:ext cx="37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тела была установлена напротив Треста Иркутскалюминьстрой и была адресована всем первостроителям и комсомольцам, приехавшим на ударные стройки города и заводов. Датой основания города Шелехова считается май 1953 года, когда строителями Иркутского алюминиевого завода, работниками треста Иркутскалюминстрой, были поставлены первые шесть палато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" name="Picture 6" descr="http://shelehov.etowns.ru/files/_resize/39/c5/600_400_97ccd0e59171f973cd64ce3c7049c9b2.jpg"/>
          <p:cNvPicPr/>
          <p:nvPr/>
        </p:nvPicPr>
        <p:blipFill>
          <a:blip r:embed="rId1"/>
          <a:srcRect l="11367" t="0" r="10479" b="0"/>
          <a:stretch/>
        </p:blipFill>
        <p:spPr>
          <a:xfrm>
            <a:off x="826920" y="1647720"/>
            <a:ext cx="447228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-3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Могила Сигэки Мор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11640" y="907920"/>
            <a:ext cx="483552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игэки Мори в России известен как основатель побратимской связи между Нэагари и Шелеховом. Договор о двухсторонних отношениях был подписан 29 сентября 1976 года. По завещанию Сигэки Мори часть праха захоронена в 1990 году на Шелеховском городском кладбище. На церемонии погребения присутствовал старший сын Мори-сан господин Иосиро Мори - бывший премьер министр Японии. По воле покойного обряд погребения проводился по обычаям русской православной церкви. Ежегодно гости из Японии посещают кладбище, чтобы поклониться могиле японского миротворца и возложить цвет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" name="Picture 2" descr="https://media-cdn.tripadvisor.com/media/photo-s/09/84/f3/d3/caption.jpg"/>
          <p:cNvPicPr/>
          <p:nvPr/>
        </p:nvPicPr>
        <p:blipFill>
          <a:blip r:embed="rId1"/>
          <a:stretch/>
        </p:blipFill>
        <p:spPr>
          <a:xfrm>
            <a:off x="817560" y="1392120"/>
            <a:ext cx="3378240" cy="1897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s://pp.userapi.com/c836127/v836127891/4a21b/pB9QWxNVlxQ.jpg"/>
          <p:cNvPicPr/>
          <p:nvPr/>
        </p:nvPicPr>
        <p:blipFill>
          <a:blip r:embed="rId2"/>
          <a:stretch/>
        </p:blipFill>
        <p:spPr>
          <a:xfrm>
            <a:off x="801720" y="3605040"/>
            <a:ext cx="3409920" cy="24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0080" y="-3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Памятник «Серп Молот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2920" y="907920"/>
            <a:ext cx="44038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амятник «Серп и молот» расположен на одной из площадей Шелехова – площади Труда. Место и сам монумент очень символичны. Они являют собой олицетворение самоотверженности советских рабочих и крестьян, чьими усилиями были созданы город и завод. Постамент был возведен в 1967 год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амятники, подобные шелеховскому, есть и в других населенных пунктах России. Увековеченные инструменты труда советских граждан можно увидеть в Зеленограде, Жуковском, Боровичах, Рыбинске, Орлов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" name="Picture 6" descr="https://i3.photo.2gis.com/main/geo/11/1548808156610603/view"/>
          <p:cNvPicPr/>
          <p:nvPr/>
        </p:nvPicPr>
        <p:blipFill>
          <a:blip r:embed="rId1"/>
          <a:stretch/>
        </p:blipFill>
        <p:spPr>
          <a:xfrm>
            <a:off x="900000" y="3860640"/>
            <a:ext cx="3589560" cy="269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photos.wikimapia.org/p/00/06/61/79/44_big.jpg"/>
          <p:cNvPicPr/>
          <p:nvPr/>
        </p:nvPicPr>
        <p:blipFill>
          <a:blip r:embed="rId2"/>
          <a:stretch/>
        </p:blipFill>
        <p:spPr>
          <a:xfrm>
            <a:off x="1459080" y="1154160"/>
            <a:ext cx="24714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8680" y="980640"/>
            <a:ext cx="85788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Город мой, ты прекрасен собой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Хоть и возраст еще невели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Иркутск-батя следит за тобою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И гордится делами стари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А гордиться есть чем, это верн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Ты мужаешь из года в го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Твоя поступь тверда, совершенн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ибиряк ты - из крепких поро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Город мой, ты прекрасен народом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Труд, таланты его - честь тво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Ты живешь под Иркутским сводом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Город Шелехов - гордость моя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нна Шестаков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-3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Использованные источник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18920" y="1341360"/>
            <a:ext cx="742788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9040" indent="95294520" algn="ctr"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0 лучших достопримечательностей в Шелехове 2021 – Tripadvis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9040" indent="95294520" algn="ctr"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амятник Г. И. Шелехову, Шелехов (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omandirovka.ru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9040" indent="95294520" algn="ctr"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Шелехов | ИРКИПЕДИЯ - портал Иркутской области: знания и новости (irkipedia.ru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9040" indent="95294520" algn="ctr"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амятник «Серп Молот» в Шелехове (novosibirskgid.ru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9040" indent="95294520" algn="ctr"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https://yandex.ru/images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9040" indent="95294520" algn="ctr"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New Page 1 (narod.ru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Дом</cp:lastModifiedBy>
  <dcterms:modified xsi:type="dcterms:W3CDTF">2022-11-11T16:02:39Z</dcterms:modified>
  <cp:revision>836</cp:revision>
  <dc:subject/>
  <dc:title>Diapositiva 1</dc:title>
</cp:coreProperties>
</file>