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6CB0-D47E-4710-86E6-701FF9EB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ABED-2B07-413E-B784-88CF78B1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A9F2-52B0-43AA-AA87-361C7210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9E37-8FFE-46E6-A5AB-1D5EC18E2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D4A0-84FF-407B-81F9-E5E209A8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C8CF-1851-4114-AC77-C07BD0E0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A57C-2794-4DAC-A9D8-A1567F6D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1CA8-B769-44A6-AE98-4D087DD4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B746-1C8B-4692-BB47-9602C2D9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E52F-73DB-416A-9C1A-BA6C5E82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4853-29C7-4773-9F38-F687DEF5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C31B-C86E-4EAE-9B8D-3D95F46A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2CBA-30BC-49B1-9EEE-9579F2A96F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6600"/>
                </a:solidFill>
                <a:latin typeface="Monotype Corsiva"/>
              </a:rPr>
              <a:t>Этажи леса</a:t>
            </a:r>
            <a:br>
              <a:rPr sz="9600"/>
            </a:br>
            <a:r>
              <a:rPr b="1" i="1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Цель: закрепление понятия «экологическая систем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11705"/>
                </a:solidFill>
                <a:latin typeface="Times New Roman"/>
                <a:ea typeface="Times New Roman"/>
              </a:rPr>
              <a:t>Подлесо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708120" y="1125360"/>
            <a:ext cx="73929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D:\Наде\005.jpg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Monotype Corsiva"/>
              </a:rPr>
              <a:t>Лиственный ле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 лесу больше всего берёз, то это- лиственный лес, который ещё называют березня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ULTRA\Desktop\437276f2770b5fef3fe860e02c954dc9.jpg"/>
          <p:cNvPicPr/>
          <p:nvPr/>
        </p:nvPicPr>
        <p:blipFill>
          <a:blip r:embed="rId1"/>
          <a:stretch/>
        </p:blipFill>
        <p:spPr>
          <a:xfrm>
            <a:off x="3708360" y="341280"/>
            <a:ext cx="4248360" cy="3159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ULTRA\Desktop\5bdfdd.jpg"/>
          <p:cNvPicPr/>
          <p:nvPr/>
        </p:nvPicPr>
        <p:blipFill>
          <a:blip r:embed="rId2"/>
          <a:stretch/>
        </p:blipFill>
        <p:spPr>
          <a:xfrm>
            <a:off x="4859280" y="3213000"/>
            <a:ext cx="38894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Monotype Corsiva"/>
              </a:rPr>
              <a:t>Если в лесу растут ели или другие хвойные деревья- это хвойные ле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C:\Users\ULTRA\Desktop\17276910.jpg"/>
          <p:cNvPicPr/>
          <p:nvPr/>
        </p:nvPicPr>
        <p:blipFill>
          <a:blip r:embed="rId1"/>
          <a:stretch/>
        </p:blipFill>
        <p:spPr>
          <a:xfrm>
            <a:off x="324000" y="2133720"/>
            <a:ext cx="4752720" cy="4246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Users\ULTRA\Desktop\ell.jpg"/>
          <p:cNvPicPr/>
          <p:nvPr/>
        </p:nvPicPr>
        <p:blipFill>
          <a:blip r:embed="rId2"/>
          <a:stretch/>
        </p:blipFill>
        <p:spPr>
          <a:xfrm>
            <a:off x="5219640" y="2133720"/>
            <a:ext cx="3673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В смешанном лесу растут хвойные и лиственные деревь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ULTRA\Desktop\535676670.jpg"/>
          <p:cNvPicPr/>
          <p:nvPr/>
        </p:nvPicPr>
        <p:blipFill>
          <a:blip r:embed="rId1"/>
          <a:stretch/>
        </p:blipFill>
        <p:spPr>
          <a:xfrm>
            <a:off x="179280" y="2276640"/>
            <a:ext cx="4762440" cy="3571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ULTRA\Desktop\0674522.jpg"/>
          <p:cNvPicPr/>
          <p:nvPr/>
        </p:nvPicPr>
        <p:blipFill>
          <a:blip r:embed="rId2"/>
          <a:stretch/>
        </p:blipFill>
        <p:spPr>
          <a:xfrm>
            <a:off x="4572000" y="2852640"/>
            <a:ext cx="4392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800px-Viburnum_opulus_2005_G1"/>
          <p:cNvPicPr/>
          <p:nvPr/>
        </p:nvPicPr>
        <p:blipFill>
          <a:blip r:embed="rId1"/>
          <a:stretch/>
        </p:blipFill>
        <p:spPr>
          <a:xfrm>
            <a:off x="395280" y="1268280"/>
            <a:ext cx="3819600" cy="2148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250920" y="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Monotype Corsiva"/>
              </a:rPr>
              <a:t>Средний ярус – кустарн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Monotype Corsiva"/>
              </a:rPr>
              <a:t>Малина, калина, жимолость, орешник, шиповни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ee9587bdf958feec4ea93087e08ffb78"/>
          <p:cNvPicPr/>
          <p:nvPr/>
        </p:nvPicPr>
        <p:blipFill>
          <a:blip r:embed="rId2"/>
          <a:stretch/>
        </p:blipFill>
        <p:spPr>
          <a:xfrm>
            <a:off x="395280" y="3933720"/>
            <a:ext cx="3890880" cy="2237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681436"/>
          <p:cNvPicPr/>
          <p:nvPr/>
        </p:nvPicPr>
        <p:blipFill>
          <a:blip r:embed="rId3"/>
          <a:stretch/>
        </p:blipFill>
        <p:spPr>
          <a:xfrm>
            <a:off x="5357880" y="1214280"/>
            <a:ext cx="3181320" cy="277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D:\Наде\chto-predstavlyaet-soboy-oreshnik-2.jpg"/>
          <p:cNvPicPr/>
          <p:nvPr/>
        </p:nvPicPr>
        <p:blipFill>
          <a:blip r:embed="rId4"/>
          <a:stretch/>
        </p:blipFill>
        <p:spPr>
          <a:xfrm>
            <a:off x="5286240" y="4071960"/>
            <a:ext cx="359568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D:\Наде\005.jpg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684360" y="260280"/>
            <a:ext cx="7920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Monotype Corsiva"/>
              </a:rPr>
              <a:t>Ниже кустарников – трав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24594-frederika"/>
          <p:cNvPicPr/>
          <p:nvPr/>
        </p:nvPicPr>
        <p:blipFill>
          <a:blip r:embed="rId1"/>
          <a:stretch/>
        </p:blipFill>
        <p:spPr>
          <a:xfrm>
            <a:off x="357120" y="928800"/>
            <a:ext cx="3834000" cy="3794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D:\Наде\210670-99f29-86550502-m750x740-u02074.jpg"/>
          <p:cNvPicPr/>
          <p:nvPr/>
        </p:nvPicPr>
        <p:blipFill>
          <a:blip r:embed="rId2"/>
          <a:stretch/>
        </p:blipFill>
        <p:spPr>
          <a:xfrm>
            <a:off x="4286160" y="2712960"/>
            <a:ext cx="456084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24000" y="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Monotype Corsiva"/>
              </a:rPr>
              <a:t>Самый нижний ярус - мхи и лишайн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foliose_lichens_130_d"/>
          <p:cNvPicPr/>
          <p:nvPr/>
        </p:nvPicPr>
        <p:blipFill>
          <a:blip r:embed="rId1"/>
          <a:stretch/>
        </p:blipFill>
        <p:spPr>
          <a:xfrm>
            <a:off x="4619520" y="907920"/>
            <a:ext cx="4524480" cy="361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e51057dea8d3"/>
          <p:cNvPicPr/>
          <p:nvPr/>
        </p:nvPicPr>
        <p:blipFill>
          <a:blip r:embed="rId2"/>
          <a:stretch/>
        </p:blipFill>
        <p:spPr>
          <a:xfrm>
            <a:off x="324000" y="3068640"/>
            <a:ext cx="44161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3:27:25Z</dcterms:created>
  <dc:creator>Admin</dc:creator>
  <dc:description/>
  <dc:language>en-US</dc:language>
  <cp:lastModifiedBy>Ольга Чугреева</cp:lastModifiedBy>
  <dcterms:modified xsi:type="dcterms:W3CDTF">2022-11-13T13:41:47Z</dcterms:modified>
  <cp:revision>81</cp:revision>
  <dc:subject/>
  <dc:title>Слайд 1</dc:title>
</cp:coreProperties>
</file>