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BBB-37B1-4036-8CDA-52DB4634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A962-17A1-4B90-B634-10C7D891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502-BFC9-4033-8E4D-611B4B6E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FEE-DA9A-40D0-8C96-1B256FCF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313-97CE-4572-BC8A-E2A79EC9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3A02-A41D-4236-9EF9-6649CD85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489-B208-40F4-8913-59E99738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D79-B45A-4273-9F2A-4C55AF7A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C15-F203-4CCF-90B6-64BF6733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032B-DF6B-469E-9342-5017BD25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D3E1-FE04-4339-BED0-50956B0D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0FB0-0DA6-42F1-AE01-D89FCAA2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0775-20B7-4F3F-912F-952A79E300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063880" y="476280"/>
            <a:ext cx="82296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элементов логоритмики в образовательном процессе ДО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4224240" y="595008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Е.В. Игошина, музыкальный руководитель, учитель-логопед МБДОУ ДС №2 с. Черниг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192240" y="-7920"/>
            <a:ext cx="949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огопедическая ритм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комплексная методика, включающая в себя средства логопедического, музыкально-ритмического и физического воспитани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иды логоритмических игр и упражнений предлагаются детям в сочетании с какой-либо ритмической основой: под музыку, счет или стихотворное сопровож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Группа 8"/>
          <p:cNvGrpSpPr/>
          <p:nvPr/>
        </p:nvGrpSpPr>
        <p:grpSpPr>
          <a:xfrm>
            <a:off x="7608960" y="2325600"/>
            <a:ext cx="4248000" cy="3816360"/>
            <a:chOff x="7608960" y="2325600"/>
            <a:chExt cx="4248000" cy="3816360"/>
          </a:xfrm>
        </p:grpSpPr>
        <p:grpSp>
          <p:nvGrpSpPr>
            <p:cNvPr id="45" name="Овал 4"/>
            <p:cNvGrpSpPr/>
            <p:nvPr/>
          </p:nvGrpSpPr>
          <p:grpSpPr>
            <a:xfrm>
              <a:off x="8600040" y="2325600"/>
              <a:ext cx="2362680" cy="2379240"/>
              <a:chOff x="8600040" y="2325600"/>
              <a:chExt cx="2362680" cy="2379240"/>
            </a:xfrm>
          </p:grpSpPr>
          <p:pic>
            <p:nvPicPr>
              <p:cNvPr id="46" name="Овал 4" descr=""/>
              <p:cNvPicPr/>
              <p:nvPr/>
            </p:nvPicPr>
            <p:blipFill>
              <a:blip r:embed="rId2"/>
              <a:stretch/>
            </p:blipFill>
            <p:spPr>
              <a:xfrm>
                <a:off x="8600040" y="2325600"/>
                <a:ext cx="2362680" cy="237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8956800" y="2684160"/>
                <a:ext cx="1644480" cy="165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Овал 6"/>
            <p:cNvGrpSpPr/>
            <p:nvPr/>
          </p:nvGrpSpPr>
          <p:grpSpPr>
            <a:xfrm>
              <a:off x="9494280" y="3756600"/>
              <a:ext cx="2362680" cy="2385360"/>
              <a:chOff x="9494280" y="3756600"/>
              <a:chExt cx="2362680" cy="2385360"/>
            </a:xfrm>
          </p:grpSpPr>
          <p:pic>
            <p:nvPicPr>
              <p:cNvPr id="49" name="Овал 6" descr=""/>
              <p:cNvPicPr/>
              <p:nvPr/>
            </p:nvPicPr>
            <p:blipFill>
              <a:blip r:embed="rId3"/>
              <a:stretch/>
            </p:blipFill>
            <p:spPr>
              <a:xfrm>
                <a:off x="9494280" y="3756600"/>
                <a:ext cx="2362680" cy="23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9854280" y="4118760"/>
                <a:ext cx="1644480" cy="165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Овал 7"/>
            <p:cNvGrpSpPr/>
            <p:nvPr/>
          </p:nvGrpSpPr>
          <p:grpSpPr>
            <a:xfrm>
              <a:off x="7608960" y="3678120"/>
              <a:ext cx="2362680" cy="2385360"/>
              <a:chOff x="7608960" y="3678120"/>
              <a:chExt cx="2362680" cy="2385360"/>
            </a:xfrm>
          </p:grpSpPr>
          <p:pic>
            <p:nvPicPr>
              <p:cNvPr id="52" name="Овал 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08960" y="3678120"/>
                <a:ext cx="2362680" cy="23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7968600" y="4040280"/>
                <a:ext cx="1644480" cy="165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TextBox 3"/>
            <p:cNvSpPr/>
            <p:nvPr/>
          </p:nvSpPr>
          <p:spPr>
            <a:xfrm>
              <a:off x="9244800" y="3214440"/>
              <a:ext cx="106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ЕЧ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9"/>
            <p:cNvSpPr/>
            <p:nvPr/>
          </p:nvSpPr>
          <p:spPr>
            <a:xfrm>
              <a:off x="8099280" y="4686480"/>
              <a:ext cx="138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УЗЫ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10"/>
            <p:cNvSpPr/>
            <p:nvPr/>
          </p:nvSpPr>
          <p:spPr>
            <a:xfrm>
              <a:off x="9890640" y="4686480"/>
              <a:ext cx="175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ВИЖ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Прямоугольник 11"/>
          <p:cNvSpPr/>
          <p:nvPr/>
        </p:nvSpPr>
        <p:spPr>
          <a:xfrm>
            <a:off x="144360" y="2954160"/>
            <a:ext cx="74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529"/>
                </a:solidFill>
                <a:latin typeface="-apple-system"/>
              </a:rPr>
              <a:t>На логоритмических занятиях музыка не просто сопровождает движение, а является их организующим началом. Упражнения подбираются так, чтобы каждый музыкальный сигнал, вызывал немедленную и определенную двигательную реакцию. Это позволяет развивать внимание, слуховое восприятие, пространственную ориентировку, а главное способствует коррекции собственно речевых нарушений: фонематического слуха, темпа и ритма дыхания и т. 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237960" y="236520"/>
            <a:ext cx="1078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ритмическое занятие включает в себя такие направления работы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Развитие речи и коррекция речевых нарушени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Развитие неречевых проце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263520" y="1700280"/>
            <a:ext cx="957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огоритмические занятия строятся по следующей примерной сх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итмическая разми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пражнения для развития вним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развития чувства ритма и темп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развития координации движений, на координацию речи с движени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уш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развития мелкой мотор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развития речевых и мимических дви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пражнения на релаксацию или ходь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"/>
          <p:cNvPicPr/>
          <p:nvPr/>
        </p:nvPicPr>
        <p:blipFill>
          <a:blip r:embed="rId2"/>
          <a:stretch/>
        </p:blipFill>
        <p:spPr>
          <a:xfrm>
            <a:off x="6888240" y="4024440"/>
            <a:ext cx="50608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29T08:29:48Z</dcterms:created>
  <dc:creator>123</dc:creator>
  <dc:description/>
  <dc:language>en-US</dc:language>
  <cp:lastModifiedBy>123</cp:lastModifiedBy>
  <dcterms:modified xsi:type="dcterms:W3CDTF">2022-11-14T11:22:57Z</dcterms:modified>
  <cp:revision>38</cp:revision>
  <dc:subject/>
  <dc:title>Элементы логоритмики в системе работы ДОУ</dc:title>
</cp:coreProperties>
</file>