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3EC-7574-4B01-8C12-AC615C51DC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441-38BA-4AE6-8E5A-5C02B19805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49F-B32F-4105-9A2A-EB4396D858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F1D-9E66-4128-B69B-DBF2C011E9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456-FF25-4AE7-ACBE-9C7D191D2A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9F8B-9929-457A-8E6C-EA81893BCF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E90B-ACA5-44E9-8625-9344F6E5E4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DE9-AE48-413B-8666-72AA5E5A00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83F1-6D11-45A2-A586-535C6805B3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3FD-5EC9-4B6F-AC8C-DB2C7FDB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209-49EC-43DD-AEAB-D0C8C29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169AF-6E9C-4406-BFCE-B6EC513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DC70-E262-415D-96BE-75E5ACE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D81F0-CE53-4DF5-B978-52BD6F1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17D1A-9AA2-4FC2-8E94-741F059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A69A7-6CCE-4097-9B28-056A46D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58E8-CA4E-4BFC-83B3-59C6929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45D4C-E3AB-4DEA-9565-3B81E49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3E28E-9D52-4E54-9B49-62DC04E0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ECB1-A226-4F1A-AC88-8216552C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B2ED6-58C9-4A9D-8D3F-3F4D9F2B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B46-9933-4435-852B-ADFD8324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1F2A6-E8BB-4183-A65F-09929A4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675DA-BE03-4957-B756-F6C0CAA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D69A9-6488-4B36-9CB2-20B5348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4F891-363E-44CB-8558-F4FFAA1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F668A-7BD2-4E52-B5BA-FF92864D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38EB8-41F1-4313-A1B2-AB039B2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17CBB-299A-46EF-B412-B00768F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F4B8A-75E9-4057-B5BF-4CEBDAA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8DD7-AE34-4950-94E4-837AA91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6CD0B-3ADC-46BA-A796-9411B133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029-9402-4DB8-9522-7D5E1E5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10D3D-FFD4-43AC-930D-83F6A32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E1E73-3957-409A-9E83-69897DAC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463FC-EF4B-4AC4-B723-6797AB7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E8124-62B5-4369-90A1-38B20B6D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A37C7-51C4-491F-AE16-EC9CF41E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4226E-4C15-4111-9633-66D2D5DC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04D8C-BD06-4FBA-A1A8-EDDEBBEC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3B99E-1B0D-4B4A-94EB-BB202EF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7539-8C0E-445D-890C-D9B6D18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EA16-13C2-4033-8AD7-013CCAC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0158-AADD-43CE-B38D-2D95E171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91D7-6B4F-446A-B034-00C49C9A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A3BB1-376F-444A-B916-47C41FDE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08418-3679-41E6-9D8D-575F0575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EA74A-582B-45C9-A9F8-8087F7D3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D9D98-58A2-4D99-8BDB-82ED4C5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3A94B-7015-44DC-9B47-42F94C3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23382-66EB-4B1C-8B8D-B0D475D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D4B77-1342-4100-A6AD-6809510B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4E64A-E40F-4E4B-802F-327CC073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408CE-DF15-4ABD-B9F9-566CFBB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4E8-B305-4ECF-AC0C-1AE88D36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319EB-BF90-469A-AEF9-931B34D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D3EFB-EF89-45D1-8E40-CE17A4C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6576-3CD6-4001-AC14-B1E95F4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DA35-6ABF-491C-927F-50829A46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1344F-9B55-47AD-B3AF-869AF391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EB64-5468-44CD-8F41-DC78351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623-F7CA-431C-985F-3F6F9CBC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4761-248B-48EE-96F5-8DCBBC5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8B4-753A-4E42-A946-4F71898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721-5341-4AC5-A166-66C28FB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527-5EFD-4385-82AD-E1C614A7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B1D9-C1AF-4A5B-94C1-EEF8E7D1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E0BE-FE79-4DB9-A3FC-4A3718B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653-24B6-4E9E-B093-4C6F1AD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BA67-070A-4A87-AAF5-E8EEAD9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DF0D-B783-4ED3-A257-3C4B433E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CBD6-5546-4813-A95D-8D2113D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186D-2385-46F7-B197-D18735B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F9E0-6C4A-4347-8900-3890565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06A1-8F86-48BF-A42C-A538A0C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D8B6-9A27-4369-B804-B8507DD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410-AC45-4160-BA8B-F06D8301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521D-4F6A-474D-9107-E882269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5C76-780C-4AA7-9C8C-E575853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BAF2-632A-4F5A-9E31-158892A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1F81-6B56-47F9-AD11-6B764B0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D3AB-429C-4C3B-9823-D3D0CA19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138C-12D4-4EBE-8080-FB15290B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513A-99A2-4D7D-B6CF-FA9C7DA8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4B6D-E3F7-4C20-B73E-A2AB1262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D373-7072-4582-838B-FA7DD712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24DB-688C-4080-A443-31F7936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C44-45DB-4CDA-90DC-941F078D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025D-33E7-497F-A947-C8A297E1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A37B-210D-43EF-A1F1-140932FE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F4DA-3F2A-42EE-8ECF-DFDC0D0D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50E0-1ACF-46EE-BF80-C73E617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36E6-6748-41AE-A8B0-5EF749C2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D118A-9B22-4347-848D-24ACFED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D935-E378-4464-9EC0-1B1E1C55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D795-85B8-4FAE-9C3C-0F45B82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0A8C-ACB5-4500-B4FF-BFAC94D2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B24E-0E44-4826-A534-DC047B5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4A6-A278-43C0-BB6A-3509C17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82BFB-5BF9-4B66-B63E-56DEED8D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65FF-9C7C-4627-A05B-9DA54832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B19E-B44A-48E2-B2E2-CA37C4D7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F51A0-883C-4E9C-AEAB-2A0A83FA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8148-442E-41D8-8E70-1E95FE0B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12A0-2A10-45DC-8889-199E1B5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CBB8-F6DD-48AA-8DA8-05AD8A4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6335-EA60-4F42-8875-5FE524C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8B99-F52C-42C1-BA62-BD8578A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49B5-1DC7-4131-A2E0-339D1B2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9BA-8E69-42F1-816D-EB8FC8A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2E04-7FF3-40C2-9E65-19EE26DA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2A010-9F29-493A-B16C-8BCDFBF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DC79-ACE3-4F49-8A17-C7EC9178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3CEB8-400E-493B-A466-587BF5E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0234-AC9B-4552-91E0-FAED7DC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E757-96EA-453B-912F-0C6D349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55F8-B985-45AA-A864-69FFA57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72B4-4555-4209-AC87-F36942D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B0C5-316A-47A8-B446-73C880D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ECEFE-E345-4B69-89B6-BA9553C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EF6-DEB9-45BC-98A1-5D1B412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02A4-6A06-42F6-8D62-5CBF7B22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DDA8-400F-4EC5-84CB-6DC834D5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731B-A25B-49E5-A493-9AE090A7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F02B2-D226-4811-B773-BE0EF6C9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EBF8-2E1D-41EA-AF5B-CB19F2C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588E4-A134-4F9B-8EFA-D8EB57B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AC40-446A-412A-B211-5F3C65D6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0B69-CE86-45B6-8348-FFBBFAEC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311FA-AF4A-4C3E-B427-615429B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C6985-A13F-4888-957C-D0B6381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BDE-16AA-46DC-B1F4-8B56C27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C5D7-1812-4D9F-848B-8C7806F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71C1-E74C-4DC8-AE24-ED1BEAC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CEDE6-6574-4132-A06E-7C7AE80C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29DA-F332-4417-B695-073FE30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BA68-80B7-4628-8CF6-B1AC6F7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5C49-7163-44A4-BAAB-E602B7B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69DE-EC15-43FE-B97D-A7B0D7C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A344-0FD7-4FFC-85AF-EC535B40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5C13-C4CB-4697-BBF4-5ED73E60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B9422-BBBF-4B06-8008-EFFA1A3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A2F-A19E-4DC7-82AC-36B8781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5F3B-08A6-477D-8453-229ABBF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94A1-A77F-471A-96E8-32C3013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830B6-00DC-4D44-9349-FD4B073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EA1FE-CA81-4244-8556-B8BB6B8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5434C-2A71-4FBD-A4AC-7EB4696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6371-EA72-48E0-B631-F576B6D5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F4DA-5ADD-4BA1-9FD0-46362CF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72B7D-D395-43CA-950C-D1B3407F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3106D-8762-49E9-B348-0C1195B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22AE5-7380-4864-A20D-B3ED512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9964-359F-40C4-8A34-F24F3944DC4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9A5-8DB8-49E2-96C4-F2F650CAB45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3A2-D17B-43C2-9F1A-31543BA9C56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DAC3-EDEE-4321-B0C8-0F9C48FBF38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5A4-B7F1-4810-AEB0-863F457C365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137-EE28-416E-8E8C-CB425B33962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129-7209-471F-A330-48A7F712908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907-E425-4F78-84F8-9E3D83ED027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D56B-B997-4C64-A4D6-2783AB7764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E2D2-77A6-4FC8-A153-93347308539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85F-D6F0-4183-B0CD-81B7F02B374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5DDF-9764-42E6-B25B-C38A9CCB44E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INVERS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eg Khame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Information taken form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dvanced Language Practic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MacMil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 u="sng">
                <a:solidFill>
                  <a:srgbClr val="330066"/>
                </a:solidFill>
                <a:uFillTx/>
                <a:latin typeface="Arial"/>
              </a:rPr>
              <a:t>EXPLAN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he term inversion refers to an irregular verb placement form and it covers two different grammatical opera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 Using a question form of the main ve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id he get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te to work, but also came completely unprepared for the meeting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2. Changing the normal positions of verb and subject, mainly for empha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ong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ame Polly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p in the air went the ballon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0066"/>
                </a:solidFill>
                <a:uFillTx/>
                <a:latin typeface="Arial"/>
              </a:rPr>
              <a:t>INVERSION AFTER NEGATIVE ADVERBIALS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507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dverbial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occurs at the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beginning of a clause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formal languag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Never have I been more insulted!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ter time expressions such a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never, rarely, seldom, hardly, barely, scarcely, no soon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Seldom have I felt so alon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Scarcely had I got out of bed when the doorbell rang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only (only after, only then, only when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Only after understanding the situation does the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teacher make a comment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ter phrases containing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no/not (under no circumstances, no account, at no time, in no way, on no condition, not until, not only…(but also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nder no circumstances can you leave this house!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Not only will she have to study hard, but she will also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have to concentrate to do well on the exam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litt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Little have I read concerning nanotechnology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330066"/>
                </a:solidFill>
                <a:uFillTx/>
                <a:latin typeface="Arial"/>
              </a:rPr>
              <a:t>INVERSION AFTER SO/SUCH WITH THAT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589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his occurs with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and adjectives when the main verb is be. It is used for emphasis and is more common than the example with such. It only happens if so/such is the first word in the cla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+ adjective ... that' combines with the verb 'to be'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So difficult is the test that students need three months to prepare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Such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 + to be + noun ... (that)‘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ch was the force of the storm that trees were uprooted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330066"/>
                </a:solidFill>
                <a:uFillTx/>
                <a:latin typeface="Arial"/>
              </a:rPr>
              <a:t>INVERTED CONDITIONAL SENTENCES WITHOUT IF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ometimes conditional forms are inverted as a means of sounding more formal. In this case, the conditional 'if' is dropped and the inverted forms takes the place of the 'if clause'. This makes the event less like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Had he understood the problem, he wouldn't have committed those mistake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(If he had understood the problem,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Should he decide to come, please telephone”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(If he decides to come,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d I known you were coming, I would have cooked something special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(If I had known you were coming,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VERSION AFTER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his is more common in formal or written langu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We were really tired, as were most people who came to the tri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VERSION AFTER SO, NEITHER AND 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A: I don´t like onions; B: Neither do I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ACTI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urn  the following into inverted sent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 We had no sooner left the house that it explod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No sooner had we left the house that it explo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2. Half a dozen apples fell dow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own fell half a dozen app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3. If Mr Chan had been kinder to his employees, his business would not have collaps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Had Mr Chan been kinder to his employees, his business would not have collaps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4. There are no circumstances where audience members may consume alcohol. (Under no circumstance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Under no circumstances may audience members consume alcoh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5.I did not say I would accept late homework. (at no tim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t no time did I say I would accept late homewor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ttp://www.englishtenseswithcartoons.com/page/exercise/inversion_exerc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ttp://www.cityu.edu.hk/elc/quiz/inverse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ttp://www.learn-english-today.com/lessons/lesson_contents/inversion-ex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2:20Z</dcterms:created>
  <dc:creator>ana</dc:creator>
  <dc:description/>
  <dc:language>en-US</dc:language>
  <cp:lastModifiedBy>Oleg Khamedoff</cp:lastModifiedBy>
  <dcterms:modified xsi:type="dcterms:W3CDTF">2022-11-14T12:16:48Z</dcterms:modified>
  <cp:revision>21</cp:revision>
  <dc:subject/>
  <dc:title>INVERSION</dc:title>
</cp:coreProperties>
</file>