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001-A759-4EF2-A834-02E1FA5E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640-8353-4D31-8319-AC7B4AD2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2B8-24C2-456B-A5F0-4E8ED6F9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026-9298-48F1-8BEA-7B884619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A3F9-4AF2-4B60-83EE-E5AFD272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52BD-A1D0-41DD-A237-11B684E6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85A5-0C42-4AD8-879B-3433B67D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7C64-3E5E-4857-8B0E-13390AFA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CA34-79B5-4018-AF65-276A6C1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8C03-6EA9-4C6D-910D-F053EE00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E340-4F00-44CC-9184-87566CB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D67-91E0-4D71-BFA7-7E3F0E5E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79EA-8362-484F-BEB9-5054E3F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4490-15B3-4BB8-A56F-6A82CC4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8F8D-81AB-4A21-A3A4-471BF53D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6D10-7F6B-4F01-B2F7-BC69EB63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47F-CE98-418B-8F89-8F8BC022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B0B-9331-436B-BE81-3297979A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8F5-F7BE-4CCE-9FD2-33EDE8B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343-F4DA-4E2F-940F-11A66981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702-0FF2-47A4-8BC1-79F5FEDC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C6C-270A-4420-AE69-BFDCC45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0E8-200D-4C85-ADCA-5F06552E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227-0398-4DF6-99C7-6A4C6B70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742A-EBA0-49D6-A489-E54F31FC14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B488-41CD-4096-B02D-39F9178DA8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2060280"/>
            <a:ext cx="914400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мпьютерный практику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ля проведения логопедических занятий в начальной школ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4920" y="580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работан по заказу Управления образования Администрации Калининградской области в 2005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635280" y="1413000"/>
            <a:ext cx="52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арченко В.И., Ларина А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413568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огопедические занятия отнимают дополнительное время и сил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 проблемных детей наблюдается снижение интереса к учебе, эмоциональная неустойчивость, быстрая истощаемость ресурсов вним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начальной школе происходит смена ведущей деятельности ребёнка с игровой на учебную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мпьютер – универсальная игруш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6247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сновные цели приме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1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редупреждение и исправление дисграфии и дислекс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изучения учебной программ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витие восприятия, внимания, зрительной памяти, мыш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337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остав практикум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84120"/>
            <a:ext cx="769608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20 компьютерных иг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нструктор уро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около 1300 дидактических упражн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чебно-методическое пособие – 226 ст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800360" cy="1355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1476360" y="3571920"/>
            <a:ext cx="1817640" cy="1369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2266920" y="394344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3059280" y="430380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tretch/>
        </p:blipFill>
        <p:spPr>
          <a:xfrm>
            <a:off x="3924360" y="4592520"/>
            <a:ext cx="1800000" cy="1357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6"/>
          <a:stretch/>
        </p:blipFill>
        <p:spPr>
          <a:xfrm>
            <a:off x="4788000" y="480852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7"/>
          <a:stretch/>
        </p:blipFill>
        <p:spPr>
          <a:xfrm>
            <a:off x="5724360" y="495144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"/>
          <p:cNvPicPr/>
          <p:nvPr/>
        </p:nvPicPr>
        <p:blipFill>
          <a:blip r:embed="rId8"/>
          <a:stretch/>
        </p:blipFill>
        <p:spPr>
          <a:xfrm>
            <a:off x="6659640" y="502452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9"/>
          <a:stretch/>
        </p:blipFill>
        <p:spPr>
          <a:xfrm>
            <a:off x="7224840" y="3068640"/>
            <a:ext cx="1234800" cy="1728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10"/>
          <a:stretch/>
        </p:blipFill>
        <p:spPr>
          <a:xfrm>
            <a:off x="6035760" y="364500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6160" y="352080"/>
            <a:ext cx="62625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мпьютерная 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9898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меет дидактические цел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спользует оптимальное сочетание учебных и развлекательных эле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сохранять статистические результат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оответствует возрастным особенностям развития дет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меет ограниченную длительность (3-5 мин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23:58Z</dcterms:created>
  <dc:creator>Хлам</dc:creator>
  <dc:description/>
  <dc:language>en-US</dc:language>
  <cp:lastModifiedBy>дмитрий</cp:lastModifiedBy>
  <dcterms:modified xsi:type="dcterms:W3CDTF">2015-02-28T09:37:00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