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A3AC-DD58-4C70-80BC-ABCDFA786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14D6-3593-489B-920D-3CF602D3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34B7-E120-4F4B-A283-DEDCEF045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64D3-39FA-4FB8-A0D2-ACB783BDA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D2CB-ED51-4FE6-A096-1F263E40B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C57E-848E-4C91-B1C1-9F13465B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0DBD-D27F-4283-A11B-B91F0572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F7CC-FD93-4F8C-91BE-60CD8003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B46A-B6F4-4036-B976-B0386DAE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DBA2-61CC-4F67-8C69-52A1ACCF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6C45-74D1-47CB-9462-F1D6344E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E86D-063A-42F3-8C31-CC36549E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EB5E-F0AC-45CD-ACB7-B7070E26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2E7C-0D7F-4F13-8C39-A86127F0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5FE7-2A9F-4AA5-9766-C97A7BE6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0F56-9102-465F-A348-4574D2AB3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3C80-8503-4772-A8F1-346ED159B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5ED2-A9B6-4359-9C6D-C4B00AC3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33AF-0C1B-4D7A-93A7-684893A1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BD0E-DB52-4C29-A753-8CA125FD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C263-096C-4FF8-A2C9-D021B571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B63E-89E8-44E4-B39F-BFCCD31D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C07C-5A58-48D9-8692-EB742D34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0C01-F4BC-4CC4-9F19-F69EAC4B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A5AA-FE3E-4EAA-9DF8-0DA086EC31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283F-3075-4F88-BCF2-E17A835E71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logozavr.ru/" TargetMode="External"/><Relationship Id="rId2" Type="http://schemas.openxmlformats.org/officeDocument/2006/relationships/hyperlink" Target="mailto:info@logozavr.ru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8000" y="2060280"/>
            <a:ext cx="9144000" cy="2160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Компьютерный практикум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для проведения логопедических занятий в начальной школ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-34920" y="580500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Разработан по заказу Управления образования Администрации Калининградской области в 2005 год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3635280" y="1413000"/>
            <a:ext cx="5219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Варченко В.И., Ларина А.Б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44720" y="475920"/>
            <a:ext cx="597528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Интерфейс игры: начал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13" descr=""/>
          <p:cNvPicPr/>
          <p:nvPr/>
        </p:nvPicPr>
        <p:blipFill>
          <a:blip r:embed="rId1"/>
          <a:stretch/>
        </p:blipFill>
        <p:spPr>
          <a:xfrm>
            <a:off x="1692360" y="1214280"/>
            <a:ext cx="6983280" cy="52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4360" y="475920"/>
            <a:ext cx="662292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Интерфейс игры: провед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69832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4360" y="475920"/>
            <a:ext cx="640692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Интерфейс игры: заверш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1690560" y="1231920"/>
            <a:ext cx="698508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716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не требует существенной перестройки учебного процесс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позволяет проводить занятия логопеду, обладающему минимальными навыками работы с компьютером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позволяет работать вдвоём за одним компьютеро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042560" y="620640"/>
            <a:ext cx="7201080" cy="55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Технология использова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657000"/>
            <a:ext cx="755964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Учебно-методическое пособ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685800" y="1700280"/>
            <a:ext cx="72709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подготовительный этап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восполнение пробелов в развитии звуковой стороны реч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восполнение пробелов лексико-грамматического развити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восполнение пробелов в формировании связной реч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развитие индивидуальных качест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4167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Составление программы занят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12" descr=""/>
          <p:cNvPicPr/>
          <p:nvPr/>
        </p:nvPicPr>
        <p:blipFill>
          <a:blip r:embed="rId1"/>
          <a:stretch/>
        </p:blipFill>
        <p:spPr>
          <a:xfrm>
            <a:off x="3708360" y="1484280"/>
            <a:ext cx="4500720" cy="281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"/>
          <p:cNvPicPr/>
          <p:nvPr/>
        </p:nvPicPr>
        <p:blipFill>
          <a:blip r:embed="rId2"/>
          <a:stretch/>
        </p:blipFill>
        <p:spPr>
          <a:xfrm>
            <a:off x="4427640" y="3309840"/>
            <a:ext cx="4140000" cy="271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Object 14"/>
          <p:cNvGraphicFramePr/>
          <p:nvPr/>
        </p:nvGraphicFramePr>
        <p:xfrm>
          <a:off x="797040" y="1484280"/>
          <a:ext cx="276696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040" y="1484280"/>
                    <a:ext cx="27669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260000" y="1197000"/>
            <a:ext cx="129564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Пак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045800" y="475920"/>
            <a:ext cx="633420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Режимы провед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3780000" y="1898640"/>
            <a:ext cx="4890960" cy="3668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2"/>
          <a:stretch/>
        </p:blipFill>
        <p:spPr>
          <a:xfrm>
            <a:off x="900000" y="1927080"/>
            <a:ext cx="1800360" cy="1357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"/>
          <p:cNvPicPr/>
          <p:nvPr/>
        </p:nvPicPr>
        <p:blipFill>
          <a:blip r:embed="rId3"/>
          <a:stretch/>
        </p:blipFill>
        <p:spPr>
          <a:xfrm>
            <a:off x="1098720" y="2490840"/>
            <a:ext cx="1817640" cy="1369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"/>
          <p:cNvPicPr/>
          <p:nvPr/>
        </p:nvPicPr>
        <p:blipFill>
          <a:blip r:embed="rId4"/>
          <a:stretch/>
        </p:blipFill>
        <p:spPr>
          <a:xfrm>
            <a:off x="1332000" y="3009960"/>
            <a:ext cx="1800000" cy="1355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"/>
          <p:cNvPicPr/>
          <p:nvPr/>
        </p:nvPicPr>
        <p:blipFill>
          <a:blip r:embed="rId5"/>
          <a:stretch/>
        </p:blipFill>
        <p:spPr>
          <a:xfrm>
            <a:off x="1547640" y="3656160"/>
            <a:ext cx="1800360" cy="1357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"/>
          <p:cNvPicPr/>
          <p:nvPr/>
        </p:nvPicPr>
        <p:blipFill>
          <a:blip r:embed="rId6"/>
          <a:stretch/>
        </p:blipFill>
        <p:spPr>
          <a:xfrm>
            <a:off x="1763640" y="4232160"/>
            <a:ext cx="1800360" cy="135756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2"/>
          <p:cNvSpPr/>
          <p:nvPr/>
        </p:nvSpPr>
        <p:spPr>
          <a:xfrm>
            <a:off x="5581800" y="1197000"/>
            <a:ext cx="1295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Меню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539280" y="2333520"/>
            <a:ext cx="7993080" cy="16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www.logozavr.r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e-mail:</a:t>
            </a: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info@logozavr.r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84360" y="657000"/>
            <a:ext cx="698328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Сайт технической поддержки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512720" y="4586400"/>
            <a:ext cx="62992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3:23:58Z</dcterms:created>
  <dc:creator>Хлам</dc:creator>
  <dc:description/>
  <dc:language>en-US</dc:language>
  <cp:lastModifiedBy>дмитрий</cp:lastModifiedBy>
  <dcterms:modified xsi:type="dcterms:W3CDTF">2015-02-28T09:37:33Z</dcterms:modified>
  <cp:revision>2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