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AE8-960D-490A-B4FB-62D3F7E7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6A14-4E4A-4634-B7C4-0FE3D394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DB6-F78E-41C8-B9AE-D5EB2034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071-CC13-4B2B-8274-D1363EDD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A4E9-4AE0-4871-A16C-D8F536B7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7EFB-A820-43A6-AC5A-CE8A6207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414A-03B2-4188-8BD4-30AE23EC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0B22-4F24-443D-89CF-A169863B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A25F-4926-42C4-9D3C-BDE8DE7C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4087-DD3B-40A9-860D-9D6E8EE6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D9E7-4D74-4D5F-81D9-77BF899E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6D2-B239-4937-867D-A6FA6BB6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C9B5-6AE9-4D34-B121-D90BAFFE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603F-4384-46C8-87FF-33064B4B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D684-846B-4F95-9396-AC2A8F48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969A-E1C5-454A-A5FC-83EBD5F8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3F57-10DC-4EA9-B2E8-C26FFF0A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5DF-153B-44EF-BD29-8B17F44F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6692-BEB7-4BBB-92FC-BA360F4C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4D1-FAD4-4162-8A14-7BC4B6DD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92CE-0B53-487A-93C0-82D8AFB7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1EA-A34E-4738-A9DF-88E723B8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D61-E88F-4340-B96C-D13FE02E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CDF-CEF9-4550-8284-DE072425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E071-DCA8-4ADE-8BCA-ACF549D18C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F895-BCE9-4B05-92D5-0196B2BF5E61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валентна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имическая связь</a:t>
            </a:r>
            <a:br>
              <a:rPr sz="2800"/>
            </a:b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826560" y="836280"/>
            <a:ext cx="7704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5" name="TextBox 1"/>
          <p:cNvSpPr/>
          <p:nvPr/>
        </p:nvSpPr>
        <p:spPr>
          <a:xfrm>
            <a:off x="6156360" y="4724280"/>
            <a:ext cx="271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8 класс урок химии. УМК О.С. Габриелян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Автор – преподаватель химии Золаева К.В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2021г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Типы ковалентной связи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2771640" y="2492280"/>
            <a:ext cx="3313080" cy="9144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Arial"/>
              </a:rPr>
              <a:t>Ковалентная связь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900000" y="4365720"/>
            <a:ext cx="2233800" cy="9144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Arial"/>
              </a:rPr>
              <a:t>полярная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5724360" y="4437000"/>
            <a:ext cx="2233800" cy="9144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Arial"/>
              </a:rPr>
              <a:t>неполярная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Line 11"/>
          <p:cNvSpPr/>
          <p:nvPr/>
        </p:nvSpPr>
        <p:spPr>
          <a:xfrm flipH="1">
            <a:off x="2195640" y="3573360"/>
            <a:ext cx="1296720" cy="64764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Line 12"/>
          <p:cNvSpPr/>
          <p:nvPr/>
        </p:nvSpPr>
        <p:spPr>
          <a:xfrm>
            <a:off x="5435640" y="3573360"/>
            <a:ext cx="1081080" cy="719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Задание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12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Запишите схему образования ковалентной связи на примере молекул – хлора, кислорода, азота.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SzPct val="1122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Как связана валентность с числом ковалентных связей?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Вещества с ковалентной связью могут иметь атомную или молекулярную решетку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83" name="Объект 3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6407280" cy="4003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3" descr=""/>
          <p:cNvPicPr/>
          <p:nvPr/>
        </p:nvPicPr>
        <p:blipFill>
          <a:blip r:embed="rId1"/>
          <a:srcRect l="0" t="232" r="0" b="-150"/>
          <a:stretch/>
        </p:blipFill>
        <p:spPr>
          <a:xfrm>
            <a:off x="0" y="1160640"/>
            <a:ext cx="9144000" cy="5292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63480" y="549000"/>
            <a:ext cx="7772400" cy="15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Закрепление материала- игра «Выбери лишнее»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6348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MgS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H</a:t>
            </a:r>
            <a:r>
              <a:rPr b="0" lang="ru-RU" sz="3200" spc="-1" strike="noStrike" baseline="-25000">
                <a:solidFill>
                  <a:srgbClr val="8383ad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KCl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NaF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HCl, HBr, HI, N</a:t>
            </a:r>
            <a:r>
              <a:rPr b="0" lang="en-US" sz="3200" spc="-1" strike="noStrike" baseline="-25000">
                <a:solidFill>
                  <a:srgbClr val="8383a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Н</a:t>
            </a:r>
            <a:r>
              <a:rPr b="0" lang="ru-RU" sz="3200" spc="-1" strike="noStrike" baseline="-25000">
                <a:solidFill>
                  <a:srgbClr val="8383ad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О, 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O</a:t>
            </a:r>
            <a:r>
              <a:rPr b="0" lang="ru-RU" sz="3200" spc="-1" strike="noStrike" baseline="-25000">
                <a:solidFill>
                  <a:srgbClr val="8383ad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</a:t>
            </a:r>
            <a:r>
              <a:rPr b="0" lang="ru-RU" sz="3200" spc="-1" strike="noStrike" baseline="-25000">
                <a:solidFill>
                  <a:srgbClr val="8383ad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</a:t>
            </a:r>
            <a:r>
              <a:rPr b="0" lang="ru-RU" sz="3200" spc="-1" strike="noStrike" baseline="-25000">
                <a:solidFill>
                  <a:srgbClr val="8383a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O</a:t>
            </a:r>
            <a:r>
              <a:rPr b="0" lang="ru-RU" sz="3200" spc="-1" strike="noStrike" baseline="-25000">
                <a:solidFill>
                  <a:srgbClr val="8383ad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uCl</a:t>
            </a:r>
            <a:r>
              <a:rPr b="0" lang="en-US" sz="3200" spc="-1" strike="noStrike" baseline="-25000">
                <a:solidFill>
                  <a:srgbClr val="8383a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, AgI, Li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MgO, H</a:t>
            </a:r>
            <a:r>
              <a:rPr b="0" lang="en-US" sz="3200" spc="-1" strike="noStrike" baseline="-25000">
                <a:solidFill>
                  <a:srgbClr val="8383a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, F</a:t>
            </a:r>
            <a:r>
              <a:rPr b="0" lang="ru-RU" sz="3200" spc="-1" strike="noStrike" baseline="-25000">
                <a:solidFill>
                  <a:srgbClr val="8383a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, O</a:t>
            </a:r>
            <a:r>
              <a:rPr b="0" lang="ru-RU" sz="3200" spc="-1" strike="noStrike" baseline="-25000">
                <a:solidFill>
                  <a:srgbClr val="8383a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Домашнее</a:t>
            </a: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задание</a:t>
            </a: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969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§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35 №4,6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Для составления «картины деятельности» </a:t>
            </a:r>
            <a:br>
              <a:rPr sz="2800"/>
            </a:b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на уроке закончите предложение: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 Unicode MS"/>
              </a:rPr>
              <a:t>Сегодня на уроке мы узнали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 Unicode MS"/>
              </a:rPr>
              <a:t>Мы учились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 Unicode MS"/>
              </a:rPr>
              <a:t>Мы смогли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 Unicode MS"/>
              </a:rPr>
              <a:t>На уроке было легко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 Unicode MS"/>
              </a:rPr>
              <a:t>На уроке было трудно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 Unicode MS"/>
              </a:rPr>
              <a:t>Урок понравился, потому что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 Unicode MS"/>
              </a:rPr>
              <a:t>Урок не понравился, потому что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 Unicode MS"/>
              </a:rPr>
              <a:t>На следующем уроке необходимо поработать над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1" name="Picture 4" descr="PE03166_"/>
          <p:cNvPicPr/>
          <p:nvPr/>
        </p:nvPicPr>
        <p:blipFill>
          <a:blip r:embed="rId1"/>
          <a:stretch/>
        </p:blipFill>
        <p:spPr>
          <a:xfrm>
            <a:off x="685800" y="2028960"/>
            <a:ext cx="3809880" cy="4019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Использованные источники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996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12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Мякинник Т.Н., Манкевич Н.В., Романовец Г.С., Славинская  Л.А.  Уроки химии, 8 класс - Мн.:ООО «Юнипресс»,2003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SzPct val="1122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Загашев И.О., Заир-Бек С.И. Критическое мышление: технология развития. –СПб.: «Альянс «Дельта», 2003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SzPct val="1122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Габриелян О.С., Остроумов И.Г., Сладков С.А. Химия, 8 класс – Москва «Просвещение», 2020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SzPct val="1122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Радецкий А.М. Химия, Дидактический материал, 8-9 классы – Москва «Просвещение», 2018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Цели урока: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12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Ознакомить учащихся с видами ковалентной связи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SzPct val="1122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Сформировать понятия о механизме образования ковалентной неполярной химической связи 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SzPct val="1122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познакомиться с типами кристаллических решеток, их взаимосвязью с видами химической связи и влиянием на физические свойства веществ; дать представление о законе постоянства состава веществ.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Содержание: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Повторение ранее изученного материала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550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Решение самостоятельной работы с последующей взаимопроверкой по эталону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550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Столкновение с проблемными вопросами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550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Изучение схем образования ковалентной связи на примере молекулы водорода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550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Знакомство с типами ковалентной связи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550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Рассмотрение типов кристаллических решеток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550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550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550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550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3"/>
          <p:cNvSpPr/>
          <p:nvPr/>
        </p:nvSpPr>
        <p:spPr>
          <a:xfrm>
            <a:off x="801720" y="106848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1. Как меняются свойства атомов  элементов одного периода?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1" name="Прямоугольник 4"/>
          <p:cNvSpPr/>
          <p:nvPr/>
        </p:nvSpPr>
        <p:spPr>
          <a:xfrm>
            <a:off x="804960" y="1844640"/>
            <a:ext cx="715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2. </a:t>
            </a: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Как меняются свойства атомов элементов одной группы?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2" name="Прямоугольник 7"/>
          <p:cNvSpPr/>
          <p:nvPr/>
        </p:nvSpPr>
        <p:spPr>
          <a:xfrm>
            <a:off x="814320" y="2563920"/>
            <a:ext cx="71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3. К чему стремятся все атомы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Прямоугольник 5"/>
          <p:cNvSpPr/>
          <p:nvPr/>
        </p:nvSpPr>
        <p:spPr>
          <a:xfrm>
            <a:off x="799560" y="3108240"/>
            <a:ext cx="79304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  <a:ea typeface="Calibri"/>
              </a:rPr>
              <a:t>4. Что происходит с атомами при отдаче и присоединении электронов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15400" y="3822840"/>
            <a:ext cx="45014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  <a:ea typeface="Calibri"/>
              </a:rPr>
              <a:t>5. Как называется связь между ионами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Прямоугольник 10"/>
          <p:cNvSpPr/>
          <p:nvPr/>
        </p:nvSpPr>
        <p:spPr>
          <a:xfrm>
            <a:off x="806040" y="4483080"/>
            <a:ext cx="58698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  <a:ea typeface="Calibri"/>
              </a:rPr>
              <a:t>6. Между какими атомами образуется ионная связь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Самостоятельная работа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79280" y="879480"/>
            <a:ext cx="439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ИАНТ 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Определите элемент со схемой распределения электронов в атоме 2, 8, 4:  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Mg; б) Si; в) Cl; г) S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Максимальное число электронов на третьем энергетическом уровне:      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14; б) 18; в) 8; г) 24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Сколько орбиталей в атоме водорода, на которых находятся электроны?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1; б) 2; в) 3; г) 4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Атом какого химического элемента содержит три протона?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B; б) P; в) Al; г) Li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Атом какого химического элемента имеет заряд ядра +22?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Na; б) P; в) О; г) Ti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Число нейтронов в атоме марганца равно: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25; б) 29; в) 30; г) 55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84600" y="879480"/>
            <a:ext cx="439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ИАНТ 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Определите элемент со схемой распределения электронов в атоме 2, 8, 8: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Na; б) P; в) Al; г) Ar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Максимальное число электронов на четвертом энергетическом уровне: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14; б) 32; в) 26; г) 18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Сколько орбиталей в атоме гелия, на которых находятся электроны?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1; б) 2; в) 3; г) 4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Атом какого химического элемента содержит десять электронов?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S; б) H; в) Ne; г) Li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Атом какого химического элемента имеет заряд ядра +35?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Ni; б) Pt; в) Br; г) Te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Число нейтронов в атоме цинка равно: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65; б) 22; в) 30; г) 35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Ответы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Вариант 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1.б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2.б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3.а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4.г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5.г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6.в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Вариант 2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1.г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2.б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3.а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4.в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5.в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6.г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buSzPct val="112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383ad"/>
                </a:solidFill>
                <a:latin typeface="Times New Roman"/>
              </a:rPr>
              <a:t>Итак, атомы металлов отдают электроны, атомы неметаллов принимают электроны, стремясь завершить свой внешний уровень, при этом образуются ионы. Связь между ионами называется ионной.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Проблема: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12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383ad"/>
                </a:solidFill>
                <a:latin typeface="Times New Roman"/>
              </a:rPr>
              <a:t>Может ли образовываться связь между атомами неметаллов?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SzPct val="1122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383ad"/>
                </a:solidFill>
                <a:latin typeface="Times New Roman"/>
              </a:rPr>
              <a:t>Как образуется связь между атомами неметаллов, которые имеют сходную тенденцию к присоединению электронов?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SzPct val="1122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383ad"/>
                </a:solidFill>
                <a:latin typeface="Times New Roman"/>
              </a:rPr>
              <a:t>Как образуются молекулы простых газообразных веществ?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Схема образования молекулы водорода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720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383ad"/>
                </a:solidFill>
                <a:latin typeface="Times New Roman"/>
              </a:rPr>
              <a:t>H</a:t>
            </a:r>
            <a:r>
              <a:rPr b="0" lang="en-US" sz="5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·+·H→H</a:t>
            </a:r>
            <a:r>
              <a:rPr b="0" lang="ru-RU" sz="5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(</a:t>
            </a:r>
            <a:r>
              <a:rPr b="0" lang="en-US" sz="5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:</a:t>
            </a:r>
            <a:r>
              <a:rPr b="0" lang="ru-RU" sz="5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)</a:t>
            </a:r>
            <a:r>
              <a:rPr b="0" lang="en-US" sz="5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H</a:t>
            </a:r>
            <a:endParaRPr b="0" lang="en-US" sz="50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        </a:t>
            </a:r>
            <a:endParaRPr b="0" lang="en-US" sz="50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r>
              <a:rPr b="0" lang="en-US" sz="5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H – H  </a:t>
            </a:r>
            <a:endParaRPr b="0" lang="en-US" sz="5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5234040" y="468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Прямоугольник 1"/>
          <p:cNvSpPr/>
          <p:nvPr/>
        </p:nvSpPr>
        <p:spPr>
          <a:xfrm>
            <a:off x="5245200" y="1895400"/>
            <a:ext cx="3510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  <a:ea typeface="Calibri"/>
              </a:rPr>
              <a:t>Связь между атомами в молекуле водорода осуществляется за счет общей электронной пары. Такая связь называется ковалентной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Прямоугольник 9"/>
          <p:cNvSpPr/>
          <p:nvPr/>
        </p:nvSpPr>
        <p:spPr>
          <a:xfrm>
            <a:off x="5694480" y="4294080"/>
            <a:ext cx="2909880" cy="14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  <a:ea typeface="Calibri"/>
              </a:rPr>
              <a:t>В 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  <a:ea typeface="Calibri"/>
              </a:rPr>
              <a:t>§ </a:t>
            </a:r>
            <a:r>
              <a:rPr b="0" lang="ru-RU" sz="2000" spc="-1" strike="noStrike">
                <a:solidFill>
                  <a:srgbClr val="8383ad"/>
                </a:solidFill>
                <a:latin typeface="Times New Roman"/>
                <a:ea typeface="Calibri"/>
              </a:rPr>
              <a:t>35 найдите, прочитайте и выпишите в тетрадь определение ковалентной связи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Улыбающееся лицо 2"/>
          <p:cNvSpPr/>
          <p:nvPr/>
        </p:nvSpPr>
        <p:spPr>
          <a:xfrm>
            <a:off x="4773600" y="4100400"/>
            <a:ext cx="920880" cy="762120"/>
          </a:xfrm>
          <a:prstGeom prst="smileyFace">
            <a:avLst>
              <a:gd name="adj" fmla="val 9282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539640" y="3370320"/>
            <a:ext cx="2336760" cy="128412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Электронные формулы внешнего слоя атомов водород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2506680" y="1720800"/>
            <a:ext cx="2441520" cy="99540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Электронная формула молекулы водород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Прямоугольник 15"/>
          <p:cNvSpPr/>
          <p:nvPr/>
        </p:nvSpPr>
        <p:spPr>
          <a:xfrm>
            <a:off x="2738520" y="5432400"/>
            <a:ext cx="2442960" cy="99540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Структурная формула молекулы водород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1:31:28Z</dcterms:created>
  <dc:creator>777</dc:creator>
  <dc:description/>
  <dc:language>en-US</dc:language>
  <cp:lastModifiedBy>Золаева К.В.</cp:lastModifiedBy>
  <dcterms:modified xsi:type="dcterms:W3CDTF">2021-05-29T06:04:56Z</dcterms:modified>
  <cp:revision>20</cp:revision>
  <dc:subject/>
  <dc:title>Тема урока</dc:title>
</cp:coreProperties>
</file>