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4590-BDBD-4216-A92B-9DB298F9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6E94-FFF4-4B31-AAF7-D80AFCC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D2EE-C6CB-4119-BD7B-8F22AAE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F41D3-3E57-4F04-AF12-A4E926E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E8EA7-3B74-4196-8C2A-BF8F8B50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58E05-FCE9-4FFC-9374-AD41F97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81E32-EC50-4D15-81D2-8DE877D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D78E7-783B-4E01-897B-DA8C819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7DBFA-D258-4A8E-8360-96B47C1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55B58-646A-42E4-B168-D87A008D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08649-C73A-4E14-8F91-1FEF296C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C9BDC-F8EC-4395-9E77-33CC49BF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DFBF-61E3-410D-A31C-7E713464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64BAC-A72C-49FA-8378-45D597C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919C0-98A1-4EFF-9C27-075269CF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11C3E-8111-4E04-BA73-C7C4B8C4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760B2-3006-4518-AC3A-C17D9EAC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588E8-3739-42F4-8FBA-FC2802F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B1C3D-808F-4A53-B9DB-D84A1462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FB2AE-B172-4988-97FE-5584654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0970C-92A7-4D82-9693-E691489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8ED2E-75B0-499F-BB51-F3309235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6247A-D4F4-4776-B984-39E3B0F7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929B-DD6C-43AA-BFC7-DB22338D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12AE2-DE3C-4453-A531-32D237E2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66C6E-4B16-4044-88E0-B3848103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63BE6-575A-4AC0-98D5-1E2A0C8A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CAF09-D8DD-4527-B7C3-0932FDF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12510-6290-4EC6-8526-3A02CF9D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E62FC-63FC-4E27-B134-EC51EF7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DFD11-81DB-49A9-98BE-BED5D7F1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5CA6D-23DC-4103-884A-88E7CCD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74709-C0B8-4E2A-BCF9-AED17E32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35E16-D77C-4BC8-BB98-6E96BDA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4525-06A7-4634-A468-DFB42902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67FD-4F44-403B-A1A3-5FBBDA58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19B58-4F31-4C03-B91E-D0348D56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237BA-5521-4A34-BCB9-8BB8B548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3C526-CC7E-4546-998B-5F241B44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944BC-965E-4758-BFFA-A74B0297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F04C9-0395-461A-8DBA-A0464723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C825A-D0CE-45CB-A5A7-B5813DE4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F1D3-BE9B-4DA6-8AD0-B97A4C92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F658B-F0D7-4AC6-BA5D-753462BE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C771C-A38A-4B73-AEF0-D228D03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03FA-98F3-4F18-BFB6-637172CD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976B7-48A7-4B25-9643-2AAA5B9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33FE5-714F-4D6F-BEB7-ECD7324F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5BD21-AC79-484F-834C-4E2A661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E6BB4-B55F-4137-AACB-C111CD67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19335-1861-4B77-8A98-ED7F62CA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9C365-FF03-4522-9275-F655EFD3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A9DC6-34A9-4BF6-BC68-35887FB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88078-DE8B-465F-B8E8-4489EAA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6AFA0-D671-4FB7-A24E-D9BF85DE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2B179-3FC4-44CA-9C60-A7F5CFCB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656E-937C-43C1-A4B8-FD38FD95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1036B-0894-4BAC-B4BF-F27BA57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D6031-F600-4822-A793-BDE3E90B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E7937-96BA-437C-8E44-D3883FE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DCDED-2333-49EE-A032-04BA066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713D0-BEFF-4D5F-AB7F-36C6D2BE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E8728-49B2-4CD0-87F5-5F065BE3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D70D9-EB84-4E12-A9BD-37A0BDD4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6D26F-CB71-47E1-8463-976BA0D0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D7855-1297-4555-A1A7-5298E203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DB570-65AA-477C-AE8C-340A45EB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8A49-D505-4311-B0C0-84BB9F2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FC935-7939-4F18-B373-EF68BB79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BBC07-5200-4AE0-B980-5FDD99C9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8B7CC-38F1-4CA9-B273-5CC5557C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F319C-D915-4F78-BAC0-3D44EFC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D0C0A-666A-4B09-9A9B-C5E22BE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29567-6E84-4A09-80DC-E7CD395D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A5340-6B04-41E4-A131-C9211892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C40BA-F9C6-4664-9E32-14894C8D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1B2C3-C509-4B9D-9103-96DDA2FF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ABB0A-E1BA-4C69-9265-67A8D0F7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3B33-7AFA-41E6-8B07-1237785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5EA3C-939E-471E-9FE8-F50E15D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A08F5-04D5-4456-9EF3-E29FA872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D937C-72F3-4191-A013-6E65C94C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0592F-476A-4F63-8949-5C1DF013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0CF78-744E-438B-903B-5DE29968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05A72-77AF-46BE-B233-4241B13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49267-1D4A-4BAC-A416-A2B880C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F0E6D-0C8F-41A2-B588-B96F88B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10C4A-1384-440F-87EB-B8AA4CD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5A825-5079-40BA-8BBE-4E9B2102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8615-B685-4F82-AE58-ADABBD87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1CCCD-A4DF-493B-B4D0-5B65D53E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D362-ABD4-4E4F-BB43-4D87C18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2B5E-2704-4357-A5F3-12C0E50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D1FE-86AE-42F5-BF18-12752D20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6F2-61EC-4793-A2B2-F4548A15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C74E-B41D-4363-A556-B7DEA35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1855-12BA-4C4E-9C31-69F13924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77CE-AD4C-4D00-B0E1-2557EB7F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7E5E-7B51-40E7-A987-3E76F245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D4A5-F05E-4C9D-9A24-E554F7EC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A169-C1DE-4B8D-9B07-9BF82EC3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FA05-E87F-4390-A1F4-EB2C3BAA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AB95-D817-4A6A-8085-516AB21F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4CE7-6AF0-4411-8F18-500B424A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4DED-94E5-4058-A18D-92C8DD6C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2E54-7FBD-4483-BE85-C2C267B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4B6E-25A5-48FD-985F-0D567B2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EBAF-F7F3-4A0A-8702-AF1B3454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A4B1-1CFF-4B04-A6B0-7B79A1D4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E5A0-E8BB-430D-BFA2-FA64786B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EC0A-2488-4FDE-A6AE-441AE890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4843-3D39-464F-9869-4EE44E94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8448-05E6-4123-AB7D-55AB5862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DFA6-F85C-437A-8FA5-B9D65993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764B-80D0-4339-8229-FD0D3E17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12F3-7BF4-4AC8-98C2-E0C6C5CF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CE57-21E1-40C9-8967-A61DD7D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410A5-D72E-40BF-9B80-26ABA9B0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EE0D-8693-492B-8419-613B3A9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B240-EA27-4312-AE8B-CEC3EC9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D285-1A4A-4AB2-99AD-3F841088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BFC5-7141-4DCC-AEB3-5DC134FF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07DF-0618-4FA7-9691-8A649D65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6A93-3560-4CF4-8DE2-66333E22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08E2-A6FE-438A-AA76-11834307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0160-8286-4228-9165-346D7ADA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5671-E1FE-42B8-B69A-59C3C30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A9EF-2028-4C53-BF29-D7C5EE21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38657-9181-4616-BAE2-932EE95E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B097B-2E20-4412-A147-4E19FB36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E73A9-CE57-47AC-A33A-3B409954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B690-16B8-48D4-8316-7210A4A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C740-CCB7-492B-AC66-996B5C9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1914-FB6A-4877-B107-F00BE94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56CE-5415-49FD-8209-AEF5AE3D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0678-CD41-47D4-B7AA-BC20591F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7E9F-242B-4C05-9AA9-DCFB6B2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3136-2522-4112-A6B0-4F95CEFF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1F48E-59AC-44EA-9642-73B9CC0F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393F8-8522-426C-B116-A2282CD5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6482F-7F48-44F3-9DF6-DA67BB29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8B0F-3A7F-4ECB-A57A-435F35F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4125-BDF8-44C5-A115-5BDE733B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E484-0B1E-4D73-ABC5-0CB878D2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2CACE-2B78-4D6F-A237-707E0FB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8A00-DA82-4D13-A4C7-EA56BA0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77AE-A61C-445C-9C04-DDBF067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A1B8-FC0E-44BF-A562-C7ACB18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7788-DAE3-40A6-A9D1-08FECCDA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70BE6-8C49-4DC0-8560-AE4B2A65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6B07-4D56-405C-BFE4-B718A028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5DFD-D737-4214-8BEC-5490A2E8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9831C-EF90-41C6-AE02-E30A2B60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9F20-B3E1-4BAE-8083-89FB274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E5EA5-29F8-4DFB-87E9-D436A11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042A-BB53-4B17-BFED-560EE6A1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2A213-0789-4F64-90E3-041D294A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C3E69-B04F-4907-B322-414ACCC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B3FC-8184-47E1-A0CF-0921CE3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A03A-71EA-4596-A6F9-AFA5E08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EEA36-1666-459C-9A53-FC932C4B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26583-6E40-4893-8F77-F84C7D7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22A81-4F28-4216-9CCD-267E7AC4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6638F-B032-40FF-A998-60FC09D7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E77BD-EC04-4558-844F-CBEBC16E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3132-8D87-4B9C-A766-D6E26EE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0357D-0BE4-4991-9805-6D76E3C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4044-A1ED-41B3-ABD6-87B81D09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77C7-20B3-4694-B4F2-60CAE18B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9116-6A6A-4954-9467-0B0EFCB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48D04-A865-4DC5-BEDF-5C00E98C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C601-119A-4F30-A013-00EA908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CA4D-A31D-4BD8-889C-4B70B9F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A948-EABC-4DA9-80C1-196791B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FE99C-97E1-4E87-88DF-81F4858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353A0-E775-4C15-B292-96CCFFA8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27D1D-1ED8-4C8A-91E2-97BF2834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B3081-DBA5-4D5B-BBB8-B4F428FE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CA393-6AFD-4088-A35E-77029F1D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066D5-F99D-4258-B896-A9F1B9B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1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1997-0D9E-4C89-AA71-5CD8AFB694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B71A-DEE0-46C9-8811-E8469ECF50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B20D-EEDD-4543-B989-A3AA27CB4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7F3-C4BC-42EE-BD67-A4A059399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D30F-0CC1-4988-A747-33EA04029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AE83-76C1-49EA-91A8-F01E6D54C3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75BC-E2C5-442C-9583-EC5BE9A50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80EE-4000-46E3-934C-DC55A9C10D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1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581-7839-40F0-A5CF-48C9D60113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36A1-E0E9-4500-9656-5B7DA0931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F6CE-8D73-4FE2-91A9-E4FBD15A5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5A0-BE8C-470F-BC96-34452D3B0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B0FF-611E-4006-A911-D99D0CEF9C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9753-7D25-4733-9BC9-DB3D4FDEC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248B-99AF-42E3-822B-6956DEA90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0581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У ДО ЦППМСП Петродворцового района     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нкт-Петербурга «Довери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826920" y="1643040"/>
            <a:ext cx="788832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Использование медиативных технологий при разрешении конфликтных ситуаций в образовательных учреждениях 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ГБУ ДО ЦППМС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дворцов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ерие»  Лядова Е.В.</a:t>
            </a:r>
            <a:br>
              <a:rPr sz="14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возникновения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орбления, зависть, сплетни; отсутствие взаимопонимания; социальное неравенство; противопоставление одного ученика коллективу; желание выделиться; борьба за внимание мальчика или девочки, психофизические личностные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конфликтов в 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ы лидерства(борьба 2-3х лидеров и их группировок  за первенство в клас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ы групп мальчиков и групп девочек(средние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3-4 подростков и целого класса или противостояние одного школьника и цел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е конфликты: «Стрелки», «Буллин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личностные конфликты (учитель –ученик, родитель-уче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Пользователь\Desktop\Организация службы примирения\i (15).jpg"/>
          <p:cNvPicPr/>
          <p:nvPr/>
        </p:nvPicPr>
        <p:blipFill>
          <a:blip r:embed="rId1"/>
          <a:stretch/>
        </p:blipFill>
        <p:spPr>
          <a:xfrm>
            <a:off x="971640" y="1413000"/>
            <a:ext cx="2916000" cy="19447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C:\Users\Пользователь\Desktop\Организация службы примирения\i (8).jpg"/>
          <p:cNvPicPr/>
          <p:nvPr/>
        </p:nvPicPr>
        <p:blipFill>
          <a:blip r:embed="rId2"/>
          <a:stretch/>
        </p:blipFill>
        <p:spPr>
          <a:xfrm>
            <a:off x="5313240" y="4162320"/>
            <a:ext cx="2766960" cy="1903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C:\Users\Пользователь\Desktop\Организация службы примирения\i (10).jpg"/>
          <p:cNvPicPr/>
          <p:nvPr/>
        </p:nvPicPr>
        <p:blipFill>
          <a:blip r:embed="rId3"/>
          <a:stretch/>
        </p:blipFill>
        <p:spPr>
          <a:xfrm>
            <a:off x="5313240" y="141300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C:\Users\Пользователь\Desktop\Организация службы примирения\5_1.jpg"/>
          <p:cNvPicPr/>
          <p:nvPr/>
        </p:nvPicPr>
        <p:blipFill>
          <a:blip r:embed="rId4"/>
          <a:stretch/>
        </p:blipFill>
        <p:spPr>
          <a:xfrm>
            <a:off x="971640" y="4183200"/>
            <a:ext cx="2916000" cy="1912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9" descr="C:\Users\Пользователь\Desktop\Организация службы примирения\i (16).jpg"/>
          <p:cNvPicPr/>
          <p:nvPr/>
        </p:nvPicPr>
        <p:blipFill>
          <a:blip r:embed="rId5"/>
          <a:stretch/>
        </p:blipFill>
        <p:spPr>
          <a:xfrm>
            <a:off x="3654360" y="2495520"/>
            <a:ext cx="1855800" cy="21258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ФЛИ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тратегии выхода из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перниче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­роми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ега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пособление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Этапы разрешения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налитический этап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бор стратегий и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еализация выбранной стратегии и соответствующих ей мет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Этапы проведения мед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процесс медиации (открытие медиационной се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уссия по выработке вопросов для обсуждения и перего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работа с каждой из сторон (кок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уссия по выработк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подписание медиативного соглашения (заключение соглаш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 из ме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5"/>
          <p:cNvSpPr/>
          <p:nvPr/>
        </p:nvSpPr>
        <p:spPr>
          <a:xfrm>
            <a:off x="1643040" y="1357200"/>
            <a:ext cx="5829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3605040" y="2962440"/>
            <a:ext cx="2119320" cy="11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астники конфлик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395280" y="2349360"/>
            <a:ext cx="26035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нимание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9"/>
          <p:cNvSpPr/>
          <p:nvPr/>
        </p:nvSpPr>
        <p:spPr>
          <a:xfrm>
            <a:off x="395280" y="3073320"/>
            <a:ext cx="2808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нимание друг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395280" y="3879720"/>
            <a:ext cx="311292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ознание последств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395280" y="4724280"/>
            <a:ext cx="40305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ственность за изменение ситуации, совместный поиск решения и его реализ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395280" y="5950080"/>
            <a:ext cx="8542440" cy="63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осстановительные действия и совместная выработка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Object 17"/>
          <p:cNvGraphicFramePr/>
          <p:nvPr/>
        </p:nvGraphicFramePr>
        <p:xfrm>
          <a:off x="4130640" y="1557360"/>
          <a:ext cx="785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1557360"/>
                    <a:ext cx="785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18"/>
          <p:cNvGraphicFramePr/>
          <p:nvPr/>
        </p:nvGraphicFramePr>
        <p:xfrm>
          <a:off x="1162080" y="1628640"/>
          <a:ext cx="79056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1628640"/>
                    <a:ext cx="7905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Line 20"/>
          <p:cNvSpPr/>
          <p:nvPr/>
        </p:nvSpPr>
        <p:spPr>
          <a:xfrm>
            <a:off x="3032280" y="2733840"/>
            <a:ext cx="1203120" cy="19904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1"/>
          <p:cNvSpPr/>
          <p:nvPr/>
        </p:nvSpPr>
        <p:spPr>
          <a:xfrm flipH="1">
            <a:off x="5122440" y="2728800"/>
            <a:ext cx="1157400" cy="199548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2"/>
          <p:cNvSpPr/>
          <p:nvPr/>
        </p:nvSpPr>
        <p:spPr>
          <a:xfrm>
            <a:off x="3508200" y="2178000"/>
            <a:ext cx="2287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1" marL="37476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ЕДИ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3"/>
          <p:cNvSpPr/>
          <p:nvPr/>
        </p:nvSpPr>
        <p:spPr>
          <a:xfrm>
            <a:off x="4879800" y="2590920"/>
            <a:ext cx="1195560" cy="71100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4"/>
          <p:cNvSpPr/>
          <p:nvPr/>
        </p:nvSpPr>
        <p:spPr>
          <a:xfrm flipH="1">
            <a:off x="3203280" y="2619360"/>
            <a:ext cx="1020600" cy="68256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5"/>
          <p:cNvSpPr/>
          <p:nvPr/>
        </p:nvSpPr>
        <p:spPr>
          <a:xfrm>
            <a:off x="826920" y="334800"/>
            <a:ext cx="745992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Лестниц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восстановительной мед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Объект 1"/>
          <p:cNvGraphicFramePr/>
          <p:nvPr/>
        </p:nvGraphicFramePr>
        <p:xfrm>
          <a:off x="7267680" y="1628640"/>
          <a:ext cx="79056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7" name="Объект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67680" y="1628640"/>
                    <a:ext cx="7905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Text Box 8"/>
          <p:cNvSpPr/>
          <p:nvPr/>
        </p:nvSpPr>
        <p:spPr>
          <a:xfrm>
            <a:off x="6280200" y="2406600"/>
            <a:ext cx="260352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нимание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075360" y="3043080"/>
            <a:ext cx="2808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нимание друг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824440" y="3868560"/>
            <a:ext cx="311328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ознание последств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4908600" y="4724280"/>
            <a:ext cx="40291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ветственность за изменение ситуации, совместный поиск решения и его реализ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50000"/>
              </a:lnSpc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тики взаимодействия медиатора с оппонентами при урегулировани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-послан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формулировок высказы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активного слуш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ерефраз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ерб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хника вопро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обратной связ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Calibri"/>
              </a:rPr>
              <a:t>Медиация ровес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4" descr="крод1"/>
          <p:cNvPicPr/>
          <p:nvPr/>
        </p:nvPicPr>
        <p:blipFill>
          <a:blip r:embed="rId1"/>
          <a:stretch/>
        </p:blipFill>
        <p:spPr>
          <a:xfrm>
            <a:off x="3059280" y="1628640"/>
            <a:ext cx="3363840" cy="2232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к1"/>
          <p:cNvPicPr/>
          <p:nvPr/>
        </p:nvPicPr>
        <p:blipFill>
          <a:blip r:embed="rId2"/>
          <a:stretch/>
        </p:blipFill>
        <p:spPr>
          <a:xfrm>
            <a:off x="611280" y="4187880"/>
            <a:ext cx="3616200" cy="23367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"/>
          <p:cNvPicPr/>
          <p:nvPr/>
        </p:nvPicPr>
        <p:blipFill>
          <a:blip r:embed="rId3"/>
          <a:stretch/>
        </p:blipFill>
        <p:spPr>
          <a:xfrm>
            <a:off x="5076720" y="4149720"/>
            <a:ext cx="3608640" cy="2374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Что дает сторонам участи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 программах примир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3" descr="C:\Users\Пользователь\Desktop\Организация службы примирения\i (3).jpg"/>
          <p:cNvPicPr/>
          <p:nvPr/>
        </p:nvPicPr>
        <p:blipFill>
          <a:blip r:embed="rId1"/>
          <a:stretch/>
        </p:blipFill>
        <p:spPr>
          <a:xfrm>
            <a:off x="3132000" y="3645000"/>
            <a:ext cx="2835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5280" y="977400"/>
            <a:ext cx="8229600" cy="17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Школьная медиа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3" descr="i"/>
          <p:cNvPicPr/>
          <p:nvPr/>
        </p:nvPicPr>
        <p:blipFill>
          <a:blip r:embed="rId1"/>
          <a:stretch/>
        </p:blipFill>
        <p:spPr>
          <a:xfrm>
            <a:off x="2843280" y="2276640"/>
            <a:ext cx="3095640" cy="244944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2"/>
          <p:cNvSpPr/>
          <p:nvPr/>
        </p:nvSpPr>
        <p:spPr>
          <a:xfrm>
            <a:off x="468360" y="486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Школьная служба прими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Компромисс в процессе переговор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40402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бучающемуся, совершившему проступ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341000"/>
            <a:ext cx="40402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знание причины своего проступка и его послед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принести изв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ладить причиненный вре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 к себе уважение и восстановить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оди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чь ребенку в трудной жизненн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навык конструктивного поведения в конфли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44720" y="83628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терпевш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644720" y="1341000"/>
            <a:ext cx="4041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ться от негативных переживаний и желания отомст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едиться в том, что справедливость существу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  <a:ea typeface="Calibri"/>
              </a:rPr>
              <a:t>СШМ в образовательном учреждении способствует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сокращению общего количества конфликтных ситу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повышению эффективности ведения профилактической и коррекционной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сокращению количества правонаруш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повышению квалификации работников ОУ по защите прав и интересов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обеспечению открытости в деятельности ОУ в части защиты прав и интересов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611280" y="1980720"/>
            <a:ext cx="761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ет условия для участия общественности в решении акту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ирует взаимодействие с органами и учреждениями системы профилактики безнадзорности и правонарушений несовершеннолет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здораввливает психологическую обстановку в образовательном учрежд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едиативный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восстановительный)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цесс, в котором медиатор создает условия для восстановления способности людей понимать друг друга и договариваться о приемлемых для них вариантах разрешения проблем (при необходи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заглаживании причиненного вреда), возникших в результате конфликтных или криминаль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24508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Медиативны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 (восстановительный) подхо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78920" y="2276640"/>
            <a:ext cx="87138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3117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Помог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3117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бсудить последствия конфликта и      избавиться от негативных эмо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3117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амим найти устраивающие всех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3117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нять, как избежать повторения конфликта в будущ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3117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еди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 равной степени поддерживает уча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е  судит, не защищает, не поучает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пособствует тому, чтобы обидчик возместил причиненный в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Школьная служба примир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79280" y="1557360"/>
            <a:ext cx="87854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Calibri"/>
              </a:rPr>
              <a:t>Взросло-детская 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Цель - улучшение отношений в школе и поддержка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-  сделать так, чтобы максимальное количество ситуац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ешалис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 программах прими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пасибо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3" descr="C:\Users\Пользователь\Desktop\Организация службы примирения\shsp.jpg"/>
          <p:cNvPicPr/>
          <p:nvPr/>
        </p:nvPicPr>
        <p:blipFill>
          <a:blip r:embed="rId1"/>
          <a:stretch/>
        </p:blipFill>
        <p:spPr>
          <a:xfrm>
            <a:off x="2411280" y="620640"/>
            <a:ext cx="4140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авовая основа организации служб школьной медиации в образовательных организациях (СШМ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95280" y="18284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кодекс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одекс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14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зако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29 декабря 2012 г. N 273-ФЗ "Об образовании в Российской Федерации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</a:t>
            </a:r>
            <a:r>
              <a:rPr b="0" lang="ru-RU" sz="14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 закон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7 июля 2010 г. N 193-ФЗ "Об альтернативной процедуре урегулирования споров   с участием посредника (процедуре медиации)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Конвен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равах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Рекоменд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рганизации служб школьной медиации (письмо от 18.11.2013 № ВК  - 844/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4 июля 1998 г. N 124-ФЗ "Об основных гарантиях прав ребенка в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3c3c77"/>
                </a:solidFill>
                <a:uFillTx/>
                <a:latin typeface="Times New Roman"/>
                <a:ea typeface="Times New Roman"/>
              </a:rPr>
              <a:t>Полож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лужбе медиации в образовательном учре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673200"/>
            <a:ext cx="84358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цель деятельности СШ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езопасно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ультуры конструктивного поведения в конфли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личества административных способов реагирования на конфликты и правонару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4" descr="C:\Users\Пользователь\Desktop\Организация службы примирения\i (5).jpg"/>
          <p:cNvPicPr/>
          <p:nvPr/>
        </p:nvPicPr>
        <p:blipFill>
          <a:blip r:embed="rId1"/>
          <a:stretch/>
        </p:blipFill>
        <p:spPr>
          <a:xfrm>
            <a:off x="5580000" y="4365720"/>
            <a:ext cx="3024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СШ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диаций, школьных и семейных конференций для участников конфли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обучающихся альтернативным методам урегулирования конфликтов и способам разделения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педагогов о принципах и ценностях восстановительной мед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особы реагирования  школы на конфликты и  криминальные ситуаци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Администра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ызов к дирек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ызов на педсо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ызов род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C:\Users\Пользователь\Desktop\подростки\iCAERPDQ2.jpg"/>
          <p:cNvPicPr/>
          <p:nvPr/>
        </p:nvPicPr>
        <p:blipFill>
          <a:blip r:embed="rId1"/>
          <a:stretch/>
        </p:blipFill>
        <p:spPr>
          <a:xfrm>
            <a:off x="5205240" y="3860640"/>
            <a:ext cx="3456000" cy="2305080"/>
          </a:xfrm>
          <a:prstGeom prst="rect">
            <a:avLst/>
          </a:prstGeom>
          <a:ln w="0">
            <a:noFill/>
          </a:ln>
        </p:spPr>
      </p:pic>
      <p:cxnSp>
        <p:nvCxnSpPr>
          <p:cNvPr id="664" name="Прямая со стрелкой 3"/>
          <p:cNvCxnSpPr/>
          <p:nvPr/>
        </p:nvCxnSpPr>
        <p:spPr>
          <a:xfrm>
            <a:off x="5364000" y="2708280"/>
            <a:ext cx="1563120" cy="915120"/>
          </a:xfrm>
          <a:prstGeom prst="straightConnector1">
            <a:avLst/>
          </a:prstGeom>
          <a:ln w="127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Направление к психологу</a:t>
            </a:r>
            <a:br>
              <a:rPr sz="32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6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3309840" cy="4249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"/>
          <p:cNvPicPr/>
          <p:nvPr/>
        </p:nvPicPr>
        <p:blipFill>
          <a:blip r:embed="rId2"/>
          <a:stretch/>
        </p:blipFill>
        <p:spPr>
          <a:xfrm>
            <a:off x="3808440" y="4581360"/>
            <a:ext cx="167004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785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сутствие реагировани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К чему ведет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рытые (многолетние)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повое давление, отвержение, бой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ыкание в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C:\Users\Пользователь\Desktop\подростки\1.jpg"/>
          <p:cNvPicPr/>
          <p:nvPr/>
        </p:nvPicPr>
        <p:blipFill>
          <a:blip r:embed="rId1"/>
          <a:stretch/>
        </p:blipFill>
        <p:spPr>
          <a:xfrm>
            <a:off x="2916360" y="4132440"/>
            <a:ext cx="30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нципы деятельности службы мед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оброво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конфиденциа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йтральности меди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внопра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аживание вреда обидч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ность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результат мед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служб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4:09:24Z</dcterms:created>
  <dc:creator>olga</dc:creator>
  <dc:description/>
  <dc:language>en-US</dc:language>
  <cp:lastModifiedBy>Zver</cp:lastModifiedBy>
  <cp:lastPrinted>2013-04-18T12:45:42Z</cp:lastPrinted>
  <dcterms:modified xsi:type="dcterms:W3CDTF">2022-06-17T11:33:19Z</dcterms:modified>
  <cp:revision>79</cp:revision>
  <dc:subject/>
  <dc:title>Применение восстановительных технологий в разрешении конфликтных и криминальных ситуаций, профилактике правонарушений.</dc:title>
</cp:coreProperties>
</file>