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0A2-9654-4CBF-8DB5-75C1D66A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4ED-62FD-4BAA-BC27-007A90F9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1EC-FC2C-4517-991C-5B94F9E1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28B-0350-4D04-9959-AB991AD7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AF7-9809-4297-AF59-12308FC6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176-FEF9-423D-8D92-08C29C56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01B-CB58-4AFD-9F74-AD2E354A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CC7-6716-4105-8234-B1DB8875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F21-6E66-43FA-BFF1-BBFDA9FD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C4A-3CCE-4EFA-A174-BFA2F815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09A-D449-4B9C-838E-3F1D111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4A8-98D3-4B1C-8223-3F520344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0BD5-8D4E-4B3D-A2C8-9D7513BB5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76720" y="4220640"/>
            <a:ext cx="5535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работала Комарницкая Е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БОУ лицей 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лини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0256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Основы композиции 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при создании предметов декоративно-прикладного искус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вые сочетания в орнаме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81120" y="114300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928800" y="214200"/>
            <a:ext cx="7613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0440" y="0"/>
            <a:ext cx="89535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узнала сегодня на урок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поняла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е трудное для меня бы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хочу пожелать все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ё настро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Admin\Рабочий стол\658b3f6db67ac8d4e7bf42d5f394e6ff--josef-albers-neutral-tones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215040" y="4429080"/>
            <a:ext cx="2728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омпози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это расположение изобразительных элементов по определённой схеме, с целью наибольшей выразительности содержания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3311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компози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инамичная компози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 которой создается впечатление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2920" y="1071720"/>
            <a:ext cx="40388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ичная компози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ет впечатление   неподви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5" descr=""/>
          <p:cNvPicPr/>
          <p:nvPr/>
        </p:nvPicPr>
        <p:blipFill>
          <a:blip r:embed="rId1"/>
          <a:srcRect l="5267" t="54263" r="53646" b="16133"/>
          <a:stretch/>
        </p:blipFill>
        <p:spPr>
          <a:xfrm>
            <a:off x="4827600" y="3322800"/>
            <a:ext cx="3432240" cy="3344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5" descr=""/>
          <p:cNvPicPr/>
          <p:nvPr/>
        </p:nvPicPr>
        <p:blipFill>
          <a:blip r:embed="rId2"/>
          <a:srcRect l="49134" t="54315" r="8292" b="16557"/>
          <a:stretch/>
        </p:blipFill>
        <p:spPr>
          <a:xfrm>
            <a:off x="757080" y="345276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ёмы композиции: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итмическая композиция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имметрия и а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928520"/>
            <a:ext cx="82580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ит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еред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х-либо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ределё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иммет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 ассиметрия  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. учебник на с.159, рис 105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\Рабочий стол\3dcb58c2fb869df6c24451d48cec7bf0.jpeg"/>
          <p:cNvPicPr/>
          <p:nvPr/>
        </p:nvPicPr>
        <p:blipFill>
          <a:blip r:embed="rId1"/>
          <a:srcRect l="0" t="27960" r="0" b="0"/>
          <a:stretch/>
        </p:blipFill>
        <p:spPr>
          <a:xfrm>
            <a:off x="4929120" y="1857240"/>
            <a:ext cx="3538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24000" y="981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изменение реальной формы (фигуры, предмет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ё объемных и цветов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ти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www.likebook.ru/store/pictures/174/174520/88.jpg"/>
          <p:cNvPicPr/>
          <p:nvPr/>
        </p:nvPicPr>
        <p:blipFill>
          <a:blip r:embed="rId1"/>
          <a:stretch/>
        </p:blipFill>
        <p:spPr>
          <a:xfrm>
            <a:off x="428760" y="2500200"/>
            <a:ext cx="8429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Admin\Рабочий стол\artisthall-foto-topic-stylized-plant-forms-7.jpg"/>
          <p:cNvPicPr/>
          <p:nvPr/>
        </p:nvPicPr>
        <p:blipFill>
          <a:blip r:embed="rId1"/>
          <a:stretch/>
        </p:blipFill>
        <p:spPr>
          <a:xfrm>
            <a:off x="500040" y="285840"/>
            <a:ext cx="81374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Admin\Рабочий стол\224ea16b41e309de5fccce8c9860d537--families-baskets.jpg"/>
          <p:cNvPicPr/>
          <p:nvPr/>
        </p:nvPicPr>
        <p:blipFill>
          <a:blip r:embed="rId1"/>
          <a:stretch/>
        </p:blipFill>
        <p:spPr>
          <a:xfrm>
            <a:off x="4857840" y="142884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Admin\Рабочий стол\51cc86d6e57f75a5ef5f2dfa9f95c613--block-patterns-quilting-patterns.jpg"/>
          <p:cNvPicPr/>
          <p:nvPr/>
        </p:nvPicPr>
        <p:blipFill>
          <a:blip r:embed="rId2"/>
          <a:stretch/>
        </p:blipFill>
        <p:spPr>
          <a:xfrm>
            <a:off x="500040" y="135720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1ca8aafc9446112cecfc3e467011e551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857240" y="500040"/>
            <a:ext cx="59691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крашение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namentum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от латинског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рна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зор, основанный на повторении и чередовании составляющих его эле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8102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929120" y="3714840"/>
            <a:ext cx="381024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04:56:17Z</dcterms:created>
  <dc:creator>вит</dc:creator>
  <dc:description/>
  <dc:language>en-US</dc:language>
  <cp:lastModifiedBy>Аким ^_^</cp:lastModifiedBy>
  <dcterms:modified xsi:type="dcterms:W3CDTF">2022-11-14T17:40:38Z</dcterms:modified>
  <cp:revision>16</cp:revision>
  <dc:subject/>
  <dc:title>Слайд 1</dc:title>
</cp:coreProperties>
</file>