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EC0-8130-4349-9AB3-5A6F91F9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7F7-3462-4E34-9EAA-6FA34605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636-ABAE-4CB2-80AB-42CE63D1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76A-C4A0-4951-AE4A-FDB3BD60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FC3-A031-400A-8254-0BC889CA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797-F778-4D76-85A9-F2DD45AB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37B-64EE-48EB-9479-7BD4EAA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1C7-1569-488B-9E74-4FCED51A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89F-7972-43A1-AA51-166AE305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D73-561E-4A4D-91A8-8003DD12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CD0-5069-441B-AB20-430BA7D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F2E-C764-4FC5-8765-5C35710E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BEA6-BD03-4ACD-9B32-1103FBC8E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76720" y="4220640"/>
            <a:ext cx="5535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аботала Комарницкая Е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БОУ лицей 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лини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0256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Основы композиции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при создании предметов декоративно-прикладного искус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вые сочетания в орнамен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81120" y="114300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928800" y="214200"/>
            <a:ext cx="7613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440" y="0"/>
            <a:ext cx="89535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узнала сегодня на урок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поняла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е трудное для меня бы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хочу пожелать всем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ё настро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dmin\Рабочий стол\658b3f6db67ac8d4e7bf42d5f394e6ff--josef-albers-neutral-tones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215040" y="4429080"/>
            <a:ext cx="2728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омпози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это расположение изобразительных элементов по определённой схеме, с целью наибольшей выразительности содержания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286240" y="3071880"/>
            <a:ext cx="3311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компози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инамичная компози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которой создается впечатление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2920" y="1071720"/>
            <a:ext cx="40388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ичная компози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ет впечатление   неподви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5" descr=""/>
          <p:cNvPicPr/>
          <p:nvPr/>
        </p:nvPicPr>
        <p:blipFill>
          <a:blip r:embed="rId1"/>
          <a:srcRect l="5267" t="54263" r="53646" b="16133"/>
          <a:stretch/>
        </p:blipFill>
        <p:spPr>
          <a:xfrm>
            <a:off x="4827600" y="3322800"/>
            <a:ext cx="3432240" cy="3344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5" descr=""/>
          <p:cNvPicPr/>
          <p:nvPr/>
        </p:nvPicPr>
        <p:blipFill>
          <a:blip r:embed="rId2"/>
          <a:srcRect l="49134" t="54315" r="8292" b="16557"/>
          <a:stretch/>
        </p:blipFill>
        <p:spPr>
          <a:xfrm>
            <a:off x="757080" y="345276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ёмы композиции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итмическая композиция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имметрия и а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ит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еред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х-либо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ределё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иммет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 ассиметрия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. учебник на с.159, рис 105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\Рабочий стол\3dcb58c2fb869df6c24451d48cec7bf0.jpeg"/>
          <p:cNvPicPr/>
          <p:nvPr/>
        </p:nvPicPr>
        <p:blipFill>
          <a:blip r:embed="rId1"/>
          <a:srcRect l="0" t="27960" r="0" b="0"/>
          <a:stretch/>
        </p:blipFill>
        <p:spPr>
          <a:xfrm>
            <a:off x="4929120" y="1857240"/>
            <a:ext cx="3538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981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изменение реальной формы (фигуры, предмет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ё объемных и цветовы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Сти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://www.likebook.ru/store/pictures/174/174520/88.jpg"/>
          <p:cNvPicPr/>
          <p:nvPr/>
        </p:nvPicPr>
        <p:blipFill>
          <a:blip r:embed="rId1"/>
          <a:stretch/>
        </p:blipFill>
        <p:spPr>
          <a:xfrm>
            <a:off x="428760" y="2500200"/>
            <a:ext cx="8429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\Рабочий стол\artisthall-foto-topic-stylized-plant-forms-7.jpg"/>
          <p:cNvPicPr/>
          <p:nvPr/>
        </p:nvPicPr>
        <p:blipFill>
          <a:blip r:embed="rId1"/>
          <a:stretch/>
        </p:blipFill>
        <p:spPr>
          <a:xfrm>
            <a:off x="500040" y="285840"/>
            <a:ext cx="81374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Admin\Рабочий стол\224ea16b41e309de5fccce8c9860d537--families-baskets.jpg"/>
          <p:cNvPicPr/>
          <p:nvPr/>
        </p:nvPicPr>
        <p:blipFill>
          <a:blip r:embed="rId1"/>
          <a:stretch/>
        </p:blipFill>
        <p:spPr>
          <a:xfrm>
            <a:off x="4857840" y="142884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Admin\Рабочий стол\51cc86d6e57f75a5ef5f2dfa9f95c613--block-patterns-quilting-patterns.jpg"/>
          <p:cNvPicPr/>
          <p:nvPr/>
        </p:nvPicPr>
        <p:blipFill>
          <a:blip r:embed="rId2"/>
          <a:stretch/>
        </p:blipFill>
        <p:spPr>
          <a:xfrm>
            <a:off x="500040" y="135720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Admin\Рабочий стол\1ca8aafc9446112cecfc3e467011e551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857240" y="500040"/>
            <a:ext cx="59691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рашение –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namentum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от латинског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рна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зор, основанный на повторении и чередовании составляющих его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8102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929120" y="3714840"/>
            <a:ext cx="38102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4:56:17Z</dcterms:created>
  <dc:creator>вит</dc:creator>
  <dc:description/>
  <dc:language>en-US</dc:language>
  <cp:lastModifiedBy>Аким ^_^</cp:lastModifiedBy>
  <dcterms:modified xsi:type="dcterms:W3CDTF">2022-11-14T17:40:38Z</dcterms:modified>
  <cp:revision>16</cp:revision>
  <dc:subject/>
  <dc:title>Слайд 1</dc:title>
</cp:coreProperties>
</file>