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110-6602-43C9-8622-AF3058758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 класс воспитателя Егоровой З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7EFF-FED1-4E0C-B82D-9CE171CBB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CB6-31EA-4C6C-8137-2559D00F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434-20A8-4986-A1BB-DBA89456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4573E-6DBD-4253-9F73-E5DC2C7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8E46-6F94-4BA5-B83A-F6E96C3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E496B-9677-46D8-B0F9-B6522A9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3F1E5-7E71-4CC0-88DC-61B1D3F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3B4D-DC84-4E12-B2C5-2388767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A1AD7-579C-41E4-A4AC-B04DC316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ECBD-41E7-4F46-9705-744C1CF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76F9-DCA6-455D-82BC-41D4DB10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D6864-9192-4C12-AC80-0909C306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7B21D-12A5-4619-91E1-687C7D9F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43A-7C70-4245-9C68-A22CA31F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6682F-5AEE-4725-B1AC-236AF6D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57961-A470-40D9-B4FD-8205C75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F7E94-CFA0-4ECC-95EB-A0451E2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2AEE4-231F-4ED7-9800-B9FA411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80041-D50F-44F3-B7F6-9D5E476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C97E5-2B49-49BB-8FCD-5BF9DB9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0B424-37DE-4FBE-9E9D-8869972B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A843C-0AE5-4FF5-BCFD-519BE31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EE1A-3FE5-4D0A-A7FF-0377E75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6FEF2-7A91-4D3A-BF51-5A5D2D92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10F-FC52-484D-ADBF-C81870E9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DFC1-6AF6-4E0D-88D6-5616D78E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D7D7-3C59-4EEE-B1ED-3586B0AD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776BE-ECA8-4A01-82FF-7A9D2946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442F7-4FF9-4C09-8F45-40B46F1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BD66-74A1-4BEB-94D3-8BDFBDA2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BD083-B192-49BB-BE2D-1C0C7FB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44B56-DB64-4DB8-A3D2-AB1E152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623AB-9B3C-478F-987F-41AA14F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F2963-FEF8-4625-B54F-139FA06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60238-1179-4BED-990F-DAC0A71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AAEE-3681-42E6-957A-CBC42D2E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43DC0-F0AF-42D7-8A35-C63F8AA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F3D01-66F2-481F-9FB1-FCB4F2D6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A2C3A-F388-4CB1-8ADF-C6ED8DA8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59F4A-C92D-476B-8446-A20C6CA9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1FE12-C2D0-45C8-B641-7DF995B8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F1AB0-75E2-41AE-97AE-55C323BB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70C45-951F-4D6B-9AE9-51010C7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2C3BD-56DF-4242-80E5-B6E61F86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C6D9C-57D1-4559-BDD1-0646868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0CB09-6902-4D0F-8336-CE9D1D29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F25-F14C-48AC-951F-5753FA6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AAA5E-75E4-4537-8C05-51359D3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71376-9B1A-4E9D-AB3C-D2B4EC5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7B8C5-6D74-4D3B-A422-99EBC04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4C21F-89FF-4851-8880-311DD232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B1596-A129-4B56-8EA1-A5105001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09200-4CB7-47DE-B7CC-FFA8FEB6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E7D12-66D0-4D42-A18F-74E314EF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80353-0E6E-4716-8332-6EAE53B5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B045E-D7E9-4109-8C7B-214CD44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D274B-84C3-405A-97C8-4B65CEE8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423-E0AF-4D96-A261-9045130E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2E5C-F6D3-45DB-971E-80D84A3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F4BE1-67FE-43D5-8AE8-86F0DDB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2F1EB-DF81-44FB-8183-2552EAC0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629B8-9C3C-42A7-A8FA-239C714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EF9FA-C173-4A22-B6E8-EFF895D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6EA95-37C2-4419-AC72-E5751F9B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D0B8F-5361-49B1-BE12-CCA87FB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5FF36-B8B6-4991-9CBE-61EC4993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F303A-47B8-4395-8AEA-164FBC8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DCFD4-BA56-4417-9AC6-051536C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8A6-3CBA-40B7-9109-4F2AA854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D16D5-F171-4261-B574-ABA093C0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CD29C-0DE6-47F5-AAE0-23D46D7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C5354-ACF9-44E4-8337-1B17265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40938-8994-4002-8678-68B0C97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34CCD-6FF8-415F-BEED-0D2C531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6A831-B0DD-4DF9-90D1-01AC525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69811-D9AD-4F9C-B371-2BD0C10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7204C-CE17-4911-A604-572091E8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2639A-B3FA-4B2C-8522-807319CE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E36B1-F2C3-4208-86BF-7E3213FD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4F7F-C3A6-4B51-9974-6CCEB83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DD771-B354-4E8F-B00F-6025347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753F5-1B52-4E8F-9C6E-2E6D4B4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06B00-18DF-4860-97C0-B153ECB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67584-9E8A-484A-B0EB-EEC6BF0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ECBD0-C6C5-4E92-ADD2-5CD0881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C5EBB-AAD3-4923-BD57-ACCD22B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9419F-E000-42BE-98C4-D50B6BE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D4974-2706-4FC4-8748-9D1405F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67260-3C65-467C-A628-E159A6F3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3CDA0-5411-40E8-B189-33663FE8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B653-38D9-49A8-8378-BE1F4021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58432-51ED-4FF9-91D1-B6E68D49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E5FDB-522A-4403-AE4D-D1FE1459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849ED-3357-4470-A85C-E91E657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AFFED-9F76-4198-8514-0E5B38C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C5C32-EC03-4775-8310-800C82A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8423B-5808-4574-BE47-CA00382A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44B9B-7381-41E4-B235-DD86A36A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2B305-1A3D-42B4-8817-5E25444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D3913-F660-438B-9D55-B172027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3DC6E-ABE8-45D7-9F89-AB457A3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B75-864A-4847-A4ED-8396EE9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D5012-B92B-4312-985D-5F9D149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750C6-A265-4642-A6EB-F4794439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B9745-3FDA-4709-91A3-2B55D7A0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05C3C-634E-49DA-807F-8B2ED76E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51C02-70A5-438A-B3C5-A6479E15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9EC95-3C24-49D6-B534-B453E5A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29084-A3F0-4F9D-B798-2D8445FC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AA4BF-34DF-441D-BDA3-1128A6F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70612-005A-4ECB-9B0F-EA938C1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7BFEE-4833-4F27-B6B0-099514C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A49-D5B8-40EC-B3F3-6052B2C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7D7F-0991-4506-B333-224A4E1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58D3F-1847-4B52-865E-134CCCB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CCE90-013B-4D24-8806-C6D63C0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F6935-5902-4502-82E3-887C0354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C9A29-9792-455A-9395-CDA7C5C5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6A1E1-64AF-45CF-89C7-39480B6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7407-DB06-45E4-9E1A-F1E6C3A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612-2076-4AEC-9079-7106787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23DF-024A-4BCE-B121-E428108A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1D1A-EC71-495D-A27A-99326A6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1E3F-7AA0-4F15-9144-EB16A6D6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4C12-C990-4E4B-B8E6-EA2D263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A148-254F-4B93-AAF3-7F0849E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953B-ADE9-41E2-8B07-9CBCD13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322A-538B-40FD-A902-E09AB310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0FA-CD11-4B42-8EF9-996254AF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2562-D9C8-4CFA-9291-9A891450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17AA-585C-47A8-8356-CA518E5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11DA-F684-486B-8300-812C212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103D-AC23-4966-B959-DCA256A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5779-CE68-438A-8242-56D8B489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79AD-B53F-4E85-8036-33B8B2EB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6EE0-4D4F-4684-A61D-E5A36AD8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AEF2-7B87-4F0D-977F-85DFC5D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FDB1-7500-445F-84E7-AB2FAA9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4CFB-8103-4FDF-B8B1-81CA0FA5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3B7-5956-416B-825E-E31E53F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C2A8-B679-43BF-BDFF-DCBAE04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7397-9C39-4B09-8713-F2886C3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2748-F39A-4BE9-B283-47192C61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1409-8306-449B-BAB9-8E95702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B8AF-1683-4109-80AB-3A5DA58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2ECC-804D-4DB8-9663-63D051E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F886-29A5-459C-AAF8-56AECA2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4202-2528-47BA-8C56-2447B4BC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9E96-9515-41EC-99E8-313C7D3D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BF7B-2A93-4E1E-A5E0-0308E82F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4E0-D529-4B74-AD98-A29039E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AD47-0B2E-4496-A203-1C06C04F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0F553-B4E7-47FB-8475-5125EF4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9483-2219-43F5-8631-A0579C2D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6131-125D-4092-BCA7-D3F308B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D080-F262-45DE-9E78-3CE3F9C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FA96-A48C-4C60-A4C1-8C8A2F73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E470-0EAA-456A-B4D4-6FBE93B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C517-1B6F-4791-952C-9C9F298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6FCE-AEFB-4CD3-9B53-9ED3E2C1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7BDB8-B659-47C0-89EF-B5152D26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258-7032-4555-ADB8-346C4FB3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B8EF-BA86-48CA-981D-249E03F7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D0C9-F0A0-47A9-A645-765D0EEA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1B5B-681E-4492-B9C6-6655851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C67E-4050-494E-B3D7-E00182F5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EFDB-D4A8-4D76-AD5A-0B3071D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734E8-054E-4713-94AF-34209AD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7E53-F011-4980-8BDA-3D8FBB4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E7F9-5BDB-4CB3-8627-A3064A8F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7CB6E-C86D-4571-A77B-5AA67AC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F235-5FBE-441A-8DDB-0F204DC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5E5-2C68-4407-9AE9-CA9BE34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6807-2E85-4229-BB57-68E774AB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306E-1AE8-4587-A173-3E91273C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3211-6A58-4ED9-AF7E-1A176C87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1F8CF-01CB-4F61-9ED7-CF6AB0AB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6B42E-E3F4-41A8-AB52-E58F4293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0357-49E9-4BF7-A6E5-C9E63DF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C18B8-439F-4E5B-9080-8985DF9F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21CD-FD30-4A7F-8259-3C3BC3B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5E97-E8E0-436E-86E7-882F568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B8F3-3802-4801-A51B-88BBAEF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473-47ED-42E7-854F-AE33F7C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8182-75CB-42F3-882F-DD59FAA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DF0A-6089-4EB8-A25A-1A5D0E0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E6A9-58F5-4CE4-A8C9-4D6C261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55FF-458F-41DD-B285-1D3ADDFC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7823-8C8C-4CC9-9CC4-4AB29FB9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4542-96E7-4EA7-8650-25A93CBE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2122-9BFA-4835-BF6B-BC78BF2E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E805-0356-43D9-BE7C-FB2EA069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32B3-B621-447A-8505-78845E8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5A27-6F97-4D08-86FE-63DB452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316-D391-48BB-97A7-65E63AD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E5D02-9FA6-470F-9C7B-201D29FA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CE3E-D57C-460D-BE85-F6B2085A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D298-499D-4978-A53D-C79B5E4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923A-42C4-40A4-AEA8-606145C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F245-E1D2-4F80-BA81-F04AD42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31B0-3DBB-4FE0-A0ED-D4BE191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782AB-582C-4348-A70D-76E65EFA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BA003-5048-4FE4-8475-CEA570A8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FE238-AADA-4202-9F9E-5701278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FB486-09BA-480B-BAA8-41A9B55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FE7-C8CA-4E97-8E98-41E3195065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7BAC-7A98-46C9-97BD-44F837A9FE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C40-878B-44DF-9A04-3D67E21B33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3FD-B22E-480A-BEEA-6186C5A9B3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280-52FC-40C6-B400-DBB66A4D4F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5A44-2612-48FF-AFE8-BE7337DDE4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27ED-BAAD-4CFF-BDD9-D799E1022C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8CB5-8547-4945-8354-92D2562682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EFEB-E6B0-499D-A125-FC41F4CC2EE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662-C400-4F3E-8B59-346A39A491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8C1-1EA9-4332-9260-110B6E774F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4A1A-9E67-411E-8790-03E7DD3AD4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038-7C95-4E18-B013-C864C53B66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387-D437-4ADC-94A8-835DB78292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92F-C48D-43A3-AEDB-FC54305AE2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E5E-33AA-40B4-9560-1E840A4E988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43D-40CB-4DFD-BEB6-0758ED4A4E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731840" y="-819360"/>
            <a:ext cx="401004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entury Gothic"/>
              </a:rPr>
              <a:t>Открытка для папы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4" descr=""/>
          <p:cNvPicPr/>
          <p:nvPr/>
        </p:nvPicPr>
        <p:blipFill>
          <a:blip r:embed="rId1">
            <a:lum contrast="12000"/>
          </a:blip>
          <a:srcRect l="0" t="0" r="4667" b="0"/>
          <a:stretch/>
        </p:blipFill>
        <p:spPr>
          <a:xfrm>
            <a:off x="496800" y="907920"/>
            <a:ext cx="3930840" cy="49690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4" descr=""/>
          <p:cNvPicPr/>
          <p:nvPr/>
        </p:nvPicPr>
        <p:blipFill>
          <a:blip r:embed="rId2">
            <a:lum contrast="12000"/>
          </a:blip>
          <a:srcRect l="0" t="0" r="4667" b="0"/>
          <a:stretch/>
        </p:blipFill>
        <p:spPr>
          <a:xfrm>
            <a:off x="649440" y="1060560"/>
            <a:ext cx="3930480" cy="496872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1"/>
          <p:cNvSpPr/>
          <p:nvPr/>
        </p:nvSpPr>
        <p:spPr>
          <a:xfrm flipV="1" rot="10800000">
            <a:off x="5076360" y="5520240"/>
            <a:ext cx="40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овет воспитателя Егоровой З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1"/>
          <p:cNvSpPr/>
          <p:nvPr/>
        </p:nvSpPr>
        <p:spPr>
          <a:xfrm>
            <a:off x="468360" y="404640"/>
            <a:ext cx="80643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Необычная, хотя и очень распространенная открытка-рубашка в технике оригами. Если, вы еще не мастерили такую открытку. Советуем попроб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Прямоугольник 2"/>
          <p:cNvSpPr/>
          <p:nvPr/>
        </p:nvSpPr>
        <p:spPr>
          <a:xfrm flipV="1" rot="10800000">
            <a:off x="4067280" y="1184400"/>
            <a:ext cx="612144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444"/>
                </a:solidFill>
                <a:latin typeface="Arial"/>
                <a:ea typeface="Times New Roman"/>
              </a:rPr>
              <a:t>Нам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444444"/>
              </a:buClr>
              <a:buSzPct val="5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inherit"/>
                <a:ea typeface="Times New Roman"/>
              </a:rPr>
              <a:t>цветная бумага (желтого и синего цве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444444"/>
              </a:buClr>
              <a:buSzPct val="5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inherit"/>
                <a:ea typeface="Times New Roman"/>
              </a:rPr>
              <a:t>двухсторонний скотч или к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444444"/>
              </a:buClr>
              <a:buSzPct val="5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inherit"/>
                <a:ea typeface="Times New Roman"/>
              </a:rPr>
              <a:t>линей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444444"/>
              </a:buClr>
              <a:buSzPct val="5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inherit"/>
                <a:ea typeface="Times New Roman"/>
              </a:rPr>
              <a:t>голубой кар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Рисунок 3" descr="https://azbyka-vkysa.ru/wp-content/uploads/2018/02/otkritka-rybashka-na-23-fevralya-1.jpg"/>
          <p:cNvPicPr/>
          <p:nvPr/>
        </p:nvPicPr>
        <p:blipFill>
          <a:blip r:embed="rId1"/>
          <a:stretch/>
        </p:blipFill>
        <p:spPr>
          <a:xfrm>
            <a:off x="468360" y="1268280"/>
            <a:ext cx="3527280" cy="1395720"/>
          </a:xfrm>
          <a:prstGeom prst="rect">
            <a:avLst/>
          </a:prstGeom>
          <a:ln w="0">
            <a:noFill/>
          </a:ln>
        </p:spPr>
      </p:pic>
      <p:sp>
        <p:nvSpPr>
          <p:cNvPr id="1190" name="Прямоугольник 4"/>
          <p:cNvSpPr/>
          <p:nvPr/>
        </p:nvSpPr>
        <p:spPr>
          <a:xfrm>
            <a:off x="468360" y="2759040"/>
            <a:ext cx="45352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444"/>
                </a:solidFill>
                <a:latin typeface="Arial"/>
                <a:ea typeface="Times New Roman"/>
              </a:rPr>
              <a:t>Этап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гибаем лист синей бумаги пополам (вдоль более длинной стороны).Разворачиваем и заново слаживаем каждый край к середине, как делали в первом варианте открытки сердца. Далее отгибаем два края в виде воротн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Рисунок 5" descr="https://azbyka-vkysa.ru/wp-content/uploads/2018/02/otkritka-rybashka-na-23-fevralya-2.jpg"/>
          <p:cNvPicPr/>
          <p:nvPr/>
        </p:nvPicPr>
        <p:blipFill>
          <a:blip r:embed="rId2"/>
          <a:stretch/>
        </p:blipFill>
        <p:spPr>
          <a:xfrm>
            <a:off x="5003640" y="2924280"/>
            <a:ext cx="3197520" cy="1819080"/>
          </a:xfrm>
          <a:prstGeom prst="rect">
            <a:avLst/>
          </a:prstGeom>
          <a:ln w="0">
            <a:noFill/>
          </a:ln>
        </p:spPr>
      </p:pic>
      <p:sp>
        <p:nvSpPr>
          <p:cNvPr id="1192" name="Прямоугольник 6"/>
          <p:cNvSpPr/>
          <p:nvPr/>
        </p:nvSpPr>
        <p:spPr>
          <a:xfrm>
            <a:off x="468360" y="4805280"/>
            <a:ext cx="7732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ереворачиваем на другую сторону и у нас выходят рукава руб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Прямоугольник 7"/>
          <p:cNvSpPr/>
          <p:nvPr/>
        </p:nvSpPr>
        <p:spPr>
          <a:xfrm flipV="1" rot="10800000">
            <a:off x="468000" y="5191920"/>
            <a:ext cx="8351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 противоположной стороны сгибаем край, примерно на 5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Рисунок 8" descr="https://azbyka-vkysa.ru/wp-content/uploads/2018/02/otkritka-rybashka-na-23-fevralya-3.jpg"/>
          <p:cNvPicPr/>
          <p:nvPr/>
        </p:nvPicPr>
        <p:blipFill>
          <a:blip r:embed="rId3"/>
          <a:stretch/>
        </p:blipFill>
        <p:spPr>
          <a:xfrm>
            <a:off x="1619280" y="5643720"/>
            <a:ext cx="3384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Рисунок 1" descr="https://azbyka-vkysa.ru/wp-content/uploads/2018/02/otkritka-rybashka-na-23-fevralya-4.jpg"/>
          <p:cNvPicPr/>
          <p:nvPr/>
        </p:nvPicPr>
        <p:blipFill>
          <a:blip r:embed="rId1"/>
          <a:stretch/>
        </p:blipFill>
        <p:spPr>
          <a:xfrm>
            <a:off x="684360" y="333360"/>
            <a:ext cx="2374920" cy="98100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2"/>
          <p:cNvSpPr/>
          <p:nvPr/>
        </p:nvSpPr>
        <p:spPr>
          <a:xfrm>
            <a:off x="3635280" y="333360"/>
            <a:ext cx="4969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ереворачиваем на другую сторону и сгибаем уголок острием к середине. Также проделываем со вторым уг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Рисунок 3" descr="https://azbyka-vkysa.ru/wp-content/uploads/2018/02/otkritka-rybashka-na-23-fevralya-5.jpg"/>
          <p:cNvPicPr/>
          <p:nvPr/>
        </p:nvPicPr>
        <p:blipFill>
          <a:blip r:embed="rId2"/>
          <a:stretch/>
        </p:blipFill>
        <p:spPr>
          <a:xfrm>
            <a:off x="684360" y="1916280"/>
            <a:ext cx="2374920" cy="1081080"/>
          </a:xfrm>
          <a:prstGeom prst="rect">
            <a:avLst/>
          </a:prstGeom>
          <a:ln w="0">
            <a:noFill/>
          </a:ln>
        </p:spPr>
      </p:pic>
      <p:sp>
        <p:nvSpPr>
          <p:cNvPr id="1198" name="Прямоугольник 4"/>
          <p:cNvSpPr/>
          <p:nvPr/>
        </p:nvSpPr>
        <p:spPr>
          <a:xfrm>
            <a:off x="3635280" y="1916280"/>
            <a:ext cx="475308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гибаем открытку пополам. У нас получается вот такая небольшая синяя руб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9" name="Рисунок 5" descr="https://azbyka-vkysa.ru/wp-content/uploads/2018/02/otkritka-rybashka-na-23-fevralya-6.jpg"/>
          <p:cNvPicPr/>
          <p:nvPr/>
        </p:nvPicPr>
        <p:blipFill>
          <a:blip r:embed="rId3"/>
          <a:stretch/>
        </p:blipFill>
        <p:spPr>
          <a:xfrm>
            <a:off x="684360" y="3600360"/>
            <a:ext cx="2374920" cy="981000"/>
          </a:xfrm>
          <a:prstGeom prst="rect">
            <a:avLst/>
          </a:prstGeom>
          <a:ln w="0">
            <a:noFill/>
          </a:ln>
        </p:spPr>
      </p:pic>
      <p:sp>
        <p:nvSpPr>
          <p:cNvPr id="1200" name="Прямоугольник 6"/>
          <p:cNvSpPr/>
          <p:nvPr/>
        </p:nvSpPr>
        <p:spPr>
          <a:xfrm flipV="1" rot="10800000">
            <a:off x="3708000" y="3670920"/>
            <a:ext cx="31496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Теперь проклеиваем все детали клеем или скот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7"/>
          <p:cNvSpPr/>
          <p:nvPr/>
        </p:nvSpPr>
        <p:spPr>
          <a:xfrm flipV="1" rot="10800000">
            <a:off x="539280" y="4730760"/>
            <a:ext cx="532764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риступим к изготовлению галстука. Вырезаем желтый квадрат 7 на 7 см. Помещаем квадрат на стол, в виде ромба. Посередине проводим вертикальную линию. Верхние уголки сгибаем к сере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Рисунок 8" descr="https://azbyka-vkysa.ru/wp-content/uploads/2018/02/otkritka-rybashka-na-23-fevralya-7.jpg"/>
          <p:cNvPicPr/>
          <p:nvPr/>
        </p:nvPicPr>
        <p:blipFill>
          <a:blip r:embed="rId4"/>
          <a:stretch/>
        </p:blipFill>
        <p:spPr>
          <a:xfrm>
            <a:off x="5724360" y="4508640"/>
            <a:ext cx="23767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Прямоугольник 1"/>
          <p:cNvSpPr/>
          <p:nvPr/>
        </p:nvSpPr>
        <p:spPr>
          <a:xfrm>
            <a:off x="452520" y="333360"/>
            <a:ext cx="53434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Поворачиваем галстук и сгибаем верхний угол, примерно на 1 см. А теперь заново поднимаем небольшой уголок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Рисунок 2" descr="https://azbyka-vkysa.ru/wp-content/uploads/2018/02/otkritka-rybashka-na-23-fevralya-8.jpg"/>
          <p:cNvPicPr/>
          <p:nvPr/>
        </p:nvPicPr>
        <p:blipFill>
          <a:blip r:embed="rId1"/>
          <a:stretch/>
        </p:blipFill>
        <p:spPr>
          <a:xfrm>
            <a:off x="5724360" y="333360"/>
            <a:ext cx="2448000" cy="863640"/>
          </a:xfrm>
          <a:prstGeom prst="rect">
            <a:avLst/>
          </a:prstGeom>
          <a:ln w="0">
            <a:noFill/>
          </a:ln>
        </p:spPr>
      </p:pic>
      <p:sp>
        <p:nvSpPr>
          <p:cNvPr id="1205" name="Прямоугольник 3"/>
          <p:cNvSpPr/>
          <p:nvPr/>
        </p:nvSpPr>
        <p:spPr>
          <a:xfrm>
            <a:off x="468360" y="1601640"/>
            <a:ext cx="4680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Заново переворачиваем и делаем вот такую застежку, немного согну верх галстука. Загнем вертикальные половины. Все хорошо проклеи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Рисунок 4" descr="https://azbyka-vkysa.ru/wp-content/uploads/2018/02/otkritka-rybashka-na-23-fevralya-9.jpg"/>
          <p:cNvPicPr/>
          <p:nvPr/>
        </p:nvPicPr>
        <p:blipFill>
          <a:blip r:embed="rId2"/>
          <a:stretch/>
        </p:blipFill>
        <p:spPr>
          <a:xfrm>
            <a:off x="5724360" y="1773360"/>
            <a:ext cx="2448000" cy="934920"/>
          </a:xfrm>
          <a:prstGeom prst="rect">
            <a:avLst/>
          </a:prstGeom>
          <a:ln w="0">
            <a:noFill/>
          </a:ln>
        </p:spPr>
      </p:pic>
      <p:sp>
        <p:nvSpPr>
          <p:cNvPr id="1207" name="Прямоугольник 5"/>
          <p:cNvSpPr/>
          <p:nvPr/>
        </p:nvSpPr>
        <p:spPr>
          <a:xfrm>
            <a:off x="468360" y="3573360"/>
            <a:ext cx="460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Теперь украшаем рубашку галстуком, с помощью скотча или клея. Верх галстука должен немного заходить под воротни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Рисунок 6" descr="https://azbyka-vkysa.ru/wp-content/uploads/2018/02/otkritka-rybashka-na-23-fevralya-10.jpg"/>
          <p:cNvPicPr/>
          <p:nvPr/>
        </p:nvPicPr>
        <p:blipFill>
          <a:blip r:embed="rId3"/>
          <a:stretch/>
        </p:blipFill>
        <p:spPr>
          <a:xfrm>
            <a:off x="5724360" y="3570120"/>
            <a:ext cx="2376720" cy="936720"/>
          </a:xfrm>
          <a:prstGeom prst="rect">
            <a:avLst/>
          </a:prstGeom>
          <a:ln w="0">
            <a:noFill/>
          </a:ln>
        </p:spPr>
      </p:pic>
      <p:sp>
        <p:nvSpPr>
          <p:cNvPr id="1209" name="Прямоугольник 7"/>
          <p:cNvSpPr/>
          <p:nvPr/>
        </p:nvSpPr>
        <p:spPr>
          <a:xfrm flipV="1" rot="10800000">
            <a:off x="1258560" y="4700160"/>
            <a:ext cx="55990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гибаем голубой картон пополам. К лицевой стороне открытки приклеиваем руба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Наша праздничная открытка-рубашка го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ь вписываем праздничное поздравление. Такая открытка подойдет не только на 23 февраля, но и на день рождения папы, брата или 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Прямоугольник 1"/>
          <p:cNvSpPr/>
          <p:nvPr/>
        </p:nvSpPr>
        <p:spPr>
          <a:xfrm>
            <a:off x="900000" y="333360"/>
            <a:ext cx="5272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Вот схема нагляд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Рисунок 2" descr="https://azbyka-vkysa.ru/wp-content/uploads/2018/02/shema_galstyk_1.png"/>
          <p:cNvPicPr/>
          <p:nvPr/>
        </p:nvPicPr>
        <p:blipFill>
          <a:blip r:embed="rId1"/>
          <a:stretch/>
        </p:blipFill>
        <p:spPr>
          <a:xfrm>
            <a:off x="324000" y="1257480"/>
            <a:ext cx="3600360" cy="5124240"/>
          </a:xfrm>
          <a:prstGeom prst="rect">
            <a:avLst/>
          </a:prstGeom>
          <a:ln w="0">
            <a:noFill/>
          </a:ln>
        </p:spPr>
      </p:pic>
      <p:sp>
        <p:nvSpPr>
          <p:cNvPr id="1212" name="Прямоугольник 3"/>
          <p:cNvSpPr/>
          <p:nvPr/>
        </p:nvSpPr>
        <p:spPr>
          <a:xfrm>
            <a:off x="4788000" y="333360"/>
            <a:ext cx="4464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А вот так галстук выглядит на бума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Рисунок 4" descr="https://azbyka-vkysa.ru/wp-content/uploads/2018/02/kak_sdelat_galstyk_shema-1-min.png"/>
          <p:cNvPicPr/>
          <p:nvPr/>
        </p:nvPicPr>
        <p:blipFill>
          <a:blip r:embed="rId2"/>
          <a:stretch/>
        </p:blipFill>
        <p:spPr>
          <a:xfrm>
            <a:off x="4356000" y="141300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1"/>
          <p:cNvSpPr/>
          <p:nvPr/>
        </p:nvSpPr>
        <p:spPr>
          <a:xfrm>
            <a:off x="971640" y="333360"/>
            <a:ext cx="492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хема рубаш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Рисунок 3" descr="https://azbyka-vkysa.ru/wp-content/uploads/2018/02/shema_rybahki_origami-1.png"/>
          <p:cNvPicPr/>
          <p:nvPr/>
        </p:nvPicPr>
        <p:blipFill>
          <a:blip r:embed="rId1"/>
          <a:stretch/>
        </p:blipFill>
        <p:spPr>
          <a:xfrm>
            <a:off x="539640" y="1413000"/>
            <a:ext cx="2808360" cy="3940200"/>
          </a:xfrm>
          <a:prstGeom prst="rect">
            <a:avLst/>
          </a:prstGeom>
          <a:ln w="0">
            <a:noFill/>
          </a:ln>
        </p:spPr>
      </p:pic>
      <p:sp>
        <p:nvSpPr>
          <p:cNvPr id="1216" name="Прямоугольник 4"/>
          <p:cNvSpPr/>
          <p:nvPr/>
        </p:nvSpPr>
        <p:spPr>
          <a:xfrm>
            <a:off x="4788000" y="333360"/>
            <a:ext cx="403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А теперь повторяем на бума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Рисунок 5" descr="https://azbyka-vkysa.ru/wp-content/uploads/2018/02/shema_rybahki_origami-2-min.png"/>
          <p:cNvPicPr/>
          <p:nvPr/>
        </p:nvPicPr>
        <p:blipFill>
          <a:blip r:embed="rId2"/>
          <a:stretch/>
        </p:blipFill>
        <p:spPr>
          <a:xfrm>
            <a:off x="4716360" y="1447920"/>
            <a:ext cx="3600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Рисунок 1" descr="https://azbyka-vkysa.ru/wp-content/uploads/2018/02/shema_rybahki_origami-3-min.png"/>
          <p:cNvPicPr/>
          <p:nvPr/>
        </p:nvPicPr>
        <p:blipFill>
          <a:blip r:embed="rId1"/>
          <a:stretch/>
        </p:blipFill>
        <p:spPr>
          <a:xfrm>
            <a:off x="2070000" y="404640"/>
            <a:ext cx="4518000" cy="2016360"/>
          </a:xfrm>
          <a:prstGeom prst="rect">
            <a:avLst/>
          </a:prstGeom>
          <a:ln w="0">
            <a:noFill/>
          </a:ln>
        </p:spPr>
      </p:pic>
      <p:sp>
        <p:nvSpPr>
          <p:cNvPr id="1219" name="Прямоугольник 2"/>
          <p:cNvSpPr/>
          <p:nvPr/>
        </p:nvSpPr>
        <p:spPr>
          <a:xfrm>
            <a:off x="2268360" y="2637000"/>
            <a:ext cx="45896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А теперь хочу вам показать какие красивые вариации можно с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Рисунок 3" descr="https://azbyka-vkysa.ru/wp-content/uploads/2018/02/shema_rybahki_origami-8-min.png"/>
          <p:cNvPicPr/>
          <p:nvPr/>
        </p:nvPicPr>
        <p:blipFill>
          <a:blip r:embed="rId2"/>
          <a:stretch/>
        </p:blipFill>
        <p:spPr>
          <a:xfrm>
            <a:off x="1979640" y="3322800"/>
            <a:ext cx="5459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4" descr=""/>
          <p:cNvPicPr/>
          <p:nvPr/>
        </p:nvPicPr>
        <p:blipFill>
          <a:blip r:embed="rId1">
            <a:lum contrast="24000"/>
          </a:blip>
          <a:srcRect l="0" t="0" r="4667" b="0"/>
          <a:stretch/>
        </p:blipFill>
        <p:spPr>
          <a:xfrm>
            <a:off x="2340000" y="692280"/>
            <a:ext cx="4386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56:32Z</dcterms:created>
  <dc:creator>Admin</dc:creator>
  <dc:description/>
  <dc:language>en-US</dc:language>
  <cp:lastModifiedBy>Инта</cp:lastModifiedBy>
  <dcterms:modified xsi:type="dcterms:W3CDTF">2021-02-16T06:20:07Z</dcterms:modified>
  <cp:revision>11</cp:revision>
  <dc:subject/>
  <dc:title>Слайд 1</dc:title>
</cp:coreProperties>
</file>