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B9AB-D014-4F6D-ACD2-CC60A7DB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325E-3933-4BBB-9F59-9863A43F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FF4-5B55-4BA6-995A-70158FDD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79BF-1C79-4CD2-9280-80101A8B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951F-CFE8-4030-8A18-E4031CB6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BAB1-9367-4D93-9390-2D7993E5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5379-1BAE-4796-B4D7-BDDEB955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06CD-BA66-47DB-8192-4380E8EE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1E18-06F9-47EA-96E4-9D904A5A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573A-8964-4782-BD96-C1E4DF71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FC24-23F9-4931-934C-AEC2CD60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E1EE-1D10-4FEC-9B76-CB8D440E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18AE-48F2-4835-A452-851BE311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2016-9F0C-474B-A144-404ABD69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3552-E827-4113-8A95-F064B911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4D47-3B4F-4E8D-91DA-0ACCD24A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4430-5B15-43EE-821B-EEFD2EE1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EA6C2-1964-4D54-A38F-26764FC2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33DF5-96C3-4226-B10D-D6A0C479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5876A-D5D3-48D6-8F73-2A77AB2C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9702F-77B8-4274-8647-A0176B85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B2909-51BC-4AEC-A11F-DB363623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4D02-60AA-48FC-B0E7-9CD14ED4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FDAA8-6BB3-415B-B170-DEC2DCD9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6317A-B301-458B-A086-824A0032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92BB2-170C-4013-B626-93E3A6BE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AC169-7B32-452A-9C57-FFFE4008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5AD89-6FFD-4685-9D2E-BAE9864E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A95AC-CCD4-40B7-A76B-2CFEEAC6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3BBB9-C0B1-42B7-AA29-7418FADF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8489-AD87-4774-98C6-FB788438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3C5-B83A-45F7-A6AE-5F635C89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DF9A-013D-4D39-9BFA-55E6AD4A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139C-77E5-497F-8B2A-A65F90DF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18A4-860A-42AD-9970-5B58198A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ED83-95FC-49D2-8971-DABCA6E7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ad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1cade4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cade4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cade4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cade4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cade4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cade4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cade4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cade4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cade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0B05-FED5-46AC-B25C-50952546425A}" type="datetime">
              <a:rPr b="0" lang="ru-RU" sz="1000" spc="-1" strike="noStrike">
                <a:solidFill>
                  <a:srgbClr val="1cade4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cade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B6C9-93F9-4F4D-A9AB-E5A99A75E92E}" type="slidenum">
              <a:rPr b="0" lang="ru-RU" sz="1000" spc="-1" strike="noStrike">
                <a:solidFill>
                  <a:srgbClr val="1cade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ad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1cad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1cade4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cade4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cade4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cade4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cade4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cade4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cade4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cade4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613E-6439-4EDC-BB4B-5C8CCA2F7F75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6624-6829-427D-B3EA-34124F05A0D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ad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1cade4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cade4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cade4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cade4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cade4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cade4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cade4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cade4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cade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1BC8-748C-4683-9431-2B6167DACF91}" type="datetime">
              <a:rPr b="0" lang="ru-RU" sz="1000" spc="-1" strike="noStrike">
                <a:solidFill>
                  <a:srgbClr val="1cade4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cade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8D1E-D8A5-460F-9590-C12DB1E0CD2C}" type="slidenum">
              <a:rPr b="0" lang="ru-RU" sz="1000" spc="-1" strike="noStrike">
                <a:solidFill>
                  <a:srgbClr val="1cade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6160" y="1483920"/>
            <a:ext cx="4840200" cy="424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40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П</a:t>
            </a:r>
            <a:r>
              <a:rPr b="1" lang="ru-RU" sz="40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ОРТФОЛИО </a:t>
            </a:r>
            <a:r>
              <a:rPr b="0" lang="ru-RU" sz="40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педагогического работника Судариковой Елены Владимировны – учителя английского языка </a:t>
            </a:r>
            <a:br>
              <a:rPr sz="4000"/>
            </a:br>
            <a:r>
              <a:rPr b="0" lang="ru-RU" sz="40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ГБОУ Школа № 1905</a:t>
            </a: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pic>
        <p:nvPicPr>
          <p:cNvPr id="129" name="Рисунок 1" descr=""/>
          <p:cNvPicPr/>
          <p:nvPr/>
        </p:nvPicPr>
        <p:blipFill>
          <a:blip r:embed="rId1"/>
          <a:srcRect l="0" t="3441" r="2904" b="3441"/>
          <a:stretch/>
        </p:blipFill>
        <p:spPr>
          <a:xfrm>
            <a:off x="5292720" y="1174680"/>
            <a:ext cx="3382920" cy="4869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7280" y="422280"/>
            <a:ext cx="8640720" cy="148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1482ac"/>
                </a:solidFill>
                <a:latin typeface="Times New Roman"/>
                <a:ea typeface="Times New Roman"/>
              </a:rPr>
              <a:t>Результаты участия педагогического работника в профессиональных конкурсах</a:t>
            </a: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9280" y="1900080"/>
          <a:ext cx="8820360" cy="4768920"/>
        </p:xfrm>
        <a:graphic>
          <a:graphicData uri="http://schemas.openxmlformats.org/drawingml/2006/table">
            <a:tbl>
              <a:tblPr/>
              <a:tblGrid>
                <a:gridCol w="2151000"/>
                <a:gridCol w="4318200"/>
                <a:gridCol w="2351160"/>
              </a:tblGrid>
              <a:tr h="965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фессиональный конку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</a:tr>
              <a:tr h="995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-2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импиада «Современный московский учитель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,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1239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-2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предметная олимпиада «Московский учитель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1568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-20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родная олимпиада учителей-предметников «ПРОФИ-2022» по английскому язы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</a:tbl>
          </a:graphicData>
        </a:graphic>
      </p:graphicFrame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95280" y="18900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Результаты участия в развитии городского проекта «Московская электронная школа»</a:t>
            </a:r>
            <a:endParaRPr b="0" lang="en-US" sz="3200" spc="-1" strike="noStrike">
              <a:solidFill>
                <a:srgbClr val="1cade4"/>
              </a:solidFill>
              <a:latin typeface="Corbe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9280" y="1125360"/>
          <a:ext cx="8785440" cy="56772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2554560"/>
                <a:gridCol w="1438200"/>
                <a:gridCol w="1278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ал МЭ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ралл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т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е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 вокруг ме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обр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825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 вокруг ме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обр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60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 7, 8 9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страна и страна/страны изучаем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обр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4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овое зад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 7, 8, 9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страна и страна/страны изучаем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обр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797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о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 вокруг ме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обр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73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о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 вокруг ме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обр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9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о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 6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обр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5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о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 4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 вокруг ме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обр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9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95280" y="18900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Результаты участия в развитии городского проекта «Московская электронная школа»</a:t>
            </a:r>
            <a:endParaRPr b="0" lang="en-US" sz="3200" spc="-1" strike="noStrike">
              <a:solidFill>
                <a:srgbClr val="1cade4"/>
              </a:solidFill>
              <a:latin typeface="Corbe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9280" y="1125360"/>
          <a:ext cx="8785440" cy="325296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2554560"/>
                <a:gridCol w="1438200"/>
                <a:gridCol w="1278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ал МЭ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ралл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т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о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 вокруг ме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обр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4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62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о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 вокруг ме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обр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7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о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 6, 7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страна и страна/страны изучаем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обр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о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 вокруг ме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обр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6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9240" y="620280"/>
            <a:ext cx="8928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Трансляция опыта практических результатов профессиональной деятельности</a:t>
            </a: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5280" y="2421000"/>
            <a:ext cx="856944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Разработка материалов МЭШ </a:t>
            </a:r>
            <a:r>
              <a:rPr b="1" lang="en-US" sz="24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https://uchebnik.mos.ru/my_materials</a:t>
            </a:r>
            <a:endParaRPr b="0" lang="en-US" sz="2400" spc="-1" strike="noStrike">
              <a:solidFill>
                <a:srgbClr val="1cade4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Публикации в педагогических социальных сетях:</a:t>
            </a:r>
            <a:endParaRPr b="0" lang="en-US" sz="2400" spc="-1" strike="noStrike">
              <a:solidFill>
                <a:srgbClr val="1cade4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https://nsportal.ru/sudarikova-elena-vladimirovna</a:t>
            </a:r>
            <a:endParaRPr b="0" lang="en-US" sz="2400" spc="-1" strike="noStrike">
              <a:solidFill>
                <a:srgbClr val="1cade4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Участие в разработке рабочих программ НОО по английскому языку</a:t>
            </a:r>
            <a:endParaRPr b="0" lang="en-US" sz="2400" spc="-1" strike="noStrike">
              <a:solidFill>
                <a:srgbClr val="1cade4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Разработка программ дополнительного образования по английскому языку для учащихся 5-6 классов</a:t>
            </a:r>
            <a:endParaRPr b="0" lang="en-US" sz="2400" spc="-1" strike="noStrike">
              <a:solidFill>
                <a:srgbClr val="1cade4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Выступления на заседаниях методического объединения учителей иностранных языков</a:t>
            </a:r>
            <a:endParaRPr b="0" lang="en-US" sz="2400" spc="-1" strike="noStrike">
              <a:solidFill>
                <a:srgbClr val="1cade4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1cade4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cade4"/>
              </a:solidFill>
              <a:latin typeface="Corbel"/>
            </a:endParaRPr>
          </a:p>
        </p:txBody>
      </p:sp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4"/>
          <p:cNvSpPr/>
          <p:nvPr/>
        </p:nvSpPr>
        <p:spPr>
          <a:xfrm>
            <a:off x="1547640" y="1557360"/>
            <a:ext cx="47037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одержимое 2"/>
          <p:cNvSpPr/>
          <p:nvPr/>
        </p:nvSpPr>
        <p:spPr>
          <a:xfrm>
            <a:off x="468360" y="1197000"/>
            <a:ext cx="8136000" cy="46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Образование – высш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Окончила Московский государственный гуманитарный университет им. М.А. Шолохова в 2013 г.</a:t>
            </a:r>
            <a:r>
              <a:rPr b="0" lang="uk-UA" sz="32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квалификация – учитель иностранного языка (английский) по специальности «иностранный язы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Стаж работы:</a:t>
            </a:r>
            <a:br>
              <a:rPr sz="3200"/>
            </a:br>
            <a:r>
              <a:rPr b="0" lang="uk-UA" sz="32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общий – 19 лет;</a:t>
            </a:r>
            <a:br>
              <a:rPr sz="3200"/>
            </a:br>
            <a:r>
              <a:rPr b="0" lang="uk-UA" sz="32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по специальности – 19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030a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2653200" y="333360"/>
            <a:ext cx="396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Общие с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97040" y="476280"/>
            <a:ext cx="754992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Повышение квалификации</a:t>
            </a: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125360"/>
          <a:ext cx="8785440" cy="5494680"/>
        </p:xfrm>
        <a:graphic>
          <a:graphicData uri="http://schemas.openxmlformats.org/drawingml/2006/table">
            <a:tbl>
              <a:tblPr/>
              <a:tblGrid>
                <a:gridCol w="1254240"/>
                <a:gridCol w="3978360"/>
                <a:gridCol w="1625400"/>
                <a:gridCol w="192744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програм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 осво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-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ффективные методики изучения иностранных язы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густ-но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155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организаторов пунктов проведения экзаменов при проведении государственной итоговой аттестации обучающихся по образовательным программам основного общего образования в городе Моск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-апр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1309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подготовки к проведению ВПР в рамках мониторинга качества образования обучающихся по учебному предмету "Английский язык" в условиях реализации ФГОС О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-ию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110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образовательного процесса в условиях перехода на обновленные ФГОС НОО и ФГОС О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97040" y="476280"/>
            <a:ext cx="75484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Повышение квалификации</a:t>
            </a:r>
            <a:endParaRPr b="0" lang="en-US" sz="4000" spc="-1" strike="noStrike">
              <a:solidFill>
                <a:srgbClr val="1cade4"/>
              </a:solidFill>
              <a:latin typeface="Corbe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79280" y="1341360"/>
          <a:ext cx="8785440" cy="4622760"/>
        </p:xfrm>
        <a:graphic>
          <a:graphicData uri="http://schemas.openxmlformats.org/drawingml/2006/table">
            <a:tbl>
              <a:tblPr/>
              <a:tblGrid>
                <a:gridCol w="1254240"/>
                <a:gridCol w="3978360"/>
                <a:gridCol w="1625400"/>
                <a:gridCol w="192744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програм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 осво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-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 компьютерных технологий в образовательном процессе в рамках ФГ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танционное обучение как современный формат препода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-но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классного руководителя по реализации программы воспитания в образовательн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-м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функциональной грамотности на уроках английского язы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-окт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ирование инклюзивной среды образовательного учреждения в рамках ФГ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-ма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</a:tbl>
          </a:graphicData>
        </a:graphic>
      </p:graphicFrame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3497040" y="138240"/>
            <a:ext cx="23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Нагруз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9280" y="846000"/>
          <a:ext cx="8785440" cy="5943600"/>
        </p:xfrm>
        <a:graphic>
          <a:graphicData uri="http://schemas.openxmlformats.org/drawingml/2006/table">
            <a:tbl>
              <a:tblPr/>
              <a:tblGrid>
                <a:gridCol w="1944720"/>
                <a:gridCol w="4680000"/>
                <a:gridCol w="21607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«А», 2 «Б», 2 «В», 2 «Г», 2 «Д», 3 «А», 3 «Б», 3 «В», 3 «Г», 4 «А», 4 «Б», 4 «Г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1554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-2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«А», 3 «Б», 3 «В», 3 «Г», 3 «Д», 4 «А», 4 «Б», 4 «В», 4 «Г», 5 «Б», 5 «В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-2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«А», 4 «Б», 4 «В», 4 «Г», 4 «Д», 5 «Б», 5 «В», 5 «Г», 6 «Б», 6 «В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-20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«А», 5 «А», 5 «В», 5 «Г», 5 «Д», 6 «Б», 6 «В», 6 «Г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414360" y="260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Результаты педагогическ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Диаграмма 4"/>
          <p:cNvGraphicFramePr/>
          <p:nvPr/>
        </p:nvGraphicFramePr>
        <p:xfrm>
          <a:off x="-50760" y="1430280"/>
          <a:ext cx="9066240" cy="42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1430280"/>
                    <a:ext cx="906624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Прямоугольник 3"/>
          <p:cNvSpPr/>
          <p:nvPr/>
        </p:nvSpPr>
        <p:spPr>
          <a:xfrm>
            <a:off x="395280" y="5950080"/>
            <a:ext cx="8569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ется рост уровня качества знаний учащих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спевающих по предмету н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79280" y="836640"/>
          <a:ext cx="8785440" cy="5610240"/>
        </p:xfrm>
        <a:graphic>
          <a:graphicData uri="http://schemas.openxmlformats.org/drawingml/2006/table">
            <a:tbl>
              <a:tblPr/>
              <a:tblGrid>
                <a:gridCol w="2347920"/>
                <a:gridCol w="1152720"/>
                <a:gridCol w="2692440"/>
                <a:gridCol w="2592360"/>
              </a:tblGrid>
              <a:tr h="13111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 независимых диагностик (МЦКО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ве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% выполне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% выполнения (город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98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2.2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«Б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98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«В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98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«Г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79280" y="692280"/>
          <a:ext cx="8785440" cy="4719600"/>
        </p:xfrm>
        <a:graphic>
          <a:graphicData uri="http://schemas.openxmlformats.org/drawingml/2006/table">
            <a:tbl>
              <a:tblPr/>
              <a:tblGrid>
                <a:gridCol w="1757520"/>
                <a:gridCol w="1490760"/>
                <a:gridCol w="2022480"/>
                <a:gridCol w="1757160"/>
                <a:gridCol w="1757520"/>
              </a:tblGrid>
              <a:tr h="1311120"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астие учащихся во Всероссийской олимпиаде школьнико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 учащего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851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-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«В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иченко Елиза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бе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852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«Г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валь Вале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852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«В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ехова Дар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1434960" y="325440"/>
            <a:ext cx="6266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ade4"/>
                </a:solidFill>
                <a:latin typeface="Times New Roman"/>
                <a:ea typeface="Times New Roman"/>
              </a:rPr>
              <a:t>Участие в независимой диагностике в формате ЕГ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79280" y="2276640"/>
          <a:ext cx="8777520" cy="2808000"/>
        </p:xfrm>
        <a:graphic>
          <a:graphicData uri="http://schemas.openxmlformats.org/drawingml/2006/table">
            <a:tbl>
              <a:tblPr/>
              <a:tblGrid>
                <a:gridCol w="1839960"/>
                <a:gridCol w="1911240"/>
                <a:gridCol w="1557360"/>
                <a:gridCol w="1557360"/>
                <a:gridCol w="1911600"/>
              </a:tblGrid>
              <a:tr h="1355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стигнутый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та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то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мер свидетель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</a:tr>
              <a:tr h="145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лийский язык (письменная+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ая час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т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06.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Ц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116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4"/>
          <p:cNvSpPr/>
          <p:nvPr/>
        </p:nvSpPr>
        <p:spPr>
          <a:xfrm>
            <a:off x="539640" y="544500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mcko.ru/diagnostic_requests/scores?score_link=c2e67db28982284f5d2943a9016b9f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1:41:09Z</dcterms:created>
  <dc:creator>Лариса</dc:creator>
  <dc:description/>
  <dc:language>en-US</dc:language>
  <cp:lastModifiedBy>Пользователь Windows</cp:lastModifiedBy>
  <dcterms:modified xsi:type="dcterms:W3CDTF">2022-11-14T06:47:05Z</dcterms:modified>
  <cp:revision>277</cp:revision>
  <dc:subject/>
  <dc:title>Слайд 1</dc:title>
</cp:coreProperties>
</file>