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6.png" ContentType="image/png"/>
  <Override PartName="/ppt/media/image34.png" ContentType="image/png"/>
  <Override PartName="/ppt/media/image1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6F2-DC2E-44B2-ACEC-4E5B585B9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051E-503B-4032-8201-82689AAD5B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A58-F8C8-46EA-8DCF-5099CD89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52B-EC02-44F9-A2B5-80BB6EDA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4CB6C-53A1-4E8D-BC71-2D680344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9F19B-BE2A-449E-BB6F-0B7972C0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E2ED5-7160-4C0C-866B-5DAB2DF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7BC1A-1D39-42EB-89F5-97704258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2BC21-8A77-4BF8-A720-D84B9F0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9BFB1-CD5E-4DA7-A21F-F1D4004C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D97DF-81B2-427C-8650-D624CB4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4AA2F-85A8-4B7D-9863-66876740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89712-9763-4FFC-B63F-0AF83BF2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68805-FB56-43A2-A55F-A95FE34A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1DE-4558-405D-84DB-F55E2406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2BEAD-5339-4BB2-9DE1-C271F20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6E588-2392-4B6B-A9A5-AB9FBF53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F41D-831B-4A09-8F71-220514BE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E4A7D-8681-4157-9750-8C43C58F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6C067-A332-48B1-AD15-9690C5F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CAE38-80AB-4004-AC24-BA10934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BC4F1-70C7-44F5-9B65-9F49154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591E0-C3AB-4E39-ADF4-0E973163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09252-51A6-4962-999B-6D314955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09D77-3520-45CE-85F7-A85521C2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15D-5E8E-4568-81C9-FF0A3646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05518-785E-4CB2-B224-8616E0FA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4A7C8-EE89-4A0C-9F4D-786D7126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F4CC-9EC7-45CE-B955-712D95A0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1EB80-A618-43DE-B955-C832B16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DF2E1-08C8-4EB2-BA0C-FD885363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F1CF4-B019-47E6-8120-B38D24BB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459E2-CB07-4AC1-AD5F-649BAB6C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2B3F5-A37D-4EBC-9591-339993E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DC4B0-DACB-4602-9075-452CC7E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42454-B66E-40D1-9F67-ADE85E2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159D-6F69-4647-8BFD-0E1AFE0B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C2102-B435-475E-BD5A-8946A9F1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2191C-AF2C-447E-A2C1-708F79A3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E4325-4BED-4F4E-967E-C6928A5E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6EEFD-EBD4-4DE1-B8C7-DBC55778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63243-A08C-4D16-9D2C-BCBFF3D3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C0D0C-1DA9-4BD0-8456-A1993D2D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22BB6-62AA-4C0B-8C6F-E65ED9FF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FAD5F-29D2-4496-9C2C-61C8FFC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36C7E-FD7D-4F3C-8A2D-FB924A10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456D0-B462-465A-8158-EC2EFFB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CD33-E743-4D16-9DF5-8CF3AB54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EB64A-BEE2-4117-9155-E3019468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4093E-C346-4775-8390-F35904C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F7CFF-6847-413B-88BB-90E291AB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D012F-0315-4429-9146-CBFB2E16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23D69-4177-4186-A4E3-84C576F4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899-9CA2-4E80-9B67-0DC7E554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F1FB-AE30-4C59-99CF-3C317BE2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47D-0D70-4DD2-A14C-A17785A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47B8-A10D-40BF-BC06-CD2469DA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8051-47D6-4671-AF49-5EE171A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0D1-B954-418C-876E-C7C23669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7717-4099-456F-8C3C-54EAB9A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E123-E4BA-4397-A319-7A4351D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0C4A-33C6-40A1-85D9-C8473A69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898F-B250-40A1-BD96-6DECDB20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50B2-A1A0-48C9-947F-016F9A28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518C-FD29-46A6-A8A3-A6ACF050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7F610-B828-422E-A345-365E09E2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6BC0-70DE-4EF8-8573-0F9313C5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8494-91AD-48A0-885D-894F83C1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A29F-ADAE-4677-A99E-C8A33F5C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1EA-412C-480A-A0DA-7729220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3DFC-4FF5-4A44-8157-CCD448D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7708-F843-4E74-A86B-826A8AB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E747-C110-4374-86F1-E1ED909E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090D-18DD-4AC7-B3F4-F359158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93C7-FCE3-4B35-A088-03A40952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5B9C-6602-4133-8753-ADFA7951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8972-FB25-485C-A578-A94F2077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9007-CD33-421F-8742-CB5CAB92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EF3A-507D-4110-8B5B-3100F104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0024-18BE-4E12-A0B1-D0515D6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BAF-5E84-43D7-AFE9-B89271F2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30FD-FBD4-4380-AE51-330B245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BE11-F8E4-4EDB-8FF3-2AE1FA9C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EB61-F2E3-431A-9126-E121D2EF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B4E9-3E86-4CF1-A87D-CA03289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3AF0-C81E-4013-92EA-628D8BE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9425-6401-40B3-9CBE-E5356CB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0CF0-D4A2-438F-8526-733FD30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EB6CF-E25F-456B-BDAC-0B856BD4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BA3CE-66FE-469A-85B2-B287C0D5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AEAD-49BE-4D9C-BAF2-FBCC8D42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16C-ADCB-4BA7-84C1-B42B4D0A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0959-677B-421D-8147-CB129E8E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E0F9-9200-4CE1-BA8D-26B130C2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DBCB-82A1-476A-9C90-0B71801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6072-E06B-42ED-8611-90F3A88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0438-6DAE-4B62-8679-50B6295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73BC-1168-4E9B-89FC-A53AAD70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5B19-4D4F-4EC3-92A0-158A3871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A633D-3166-4B24-B0F5-BD73734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46955-54C4-474C-8AD3-CFD19317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8CC7-02DF-4B47-ADE7-76EBD864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EA3-2974-4635-B85C-8CCF074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F262-86DC-486D-940F-4EFE12FD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2CBE7-5DE4-42B5-92C6-362A7A51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3AB46-6627-46C0-A6E3-C9D29725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C9899-0900-46AB-A554-5A5ACB2A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2996E-8AA5-4300-83D2-D1997C45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EC37-03A0-453B-9FBB-D6971200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DE3AF-8FC2-4E89-95D4-11EF5330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E10B-CEBC-4446-B42A-5E1390C5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7BDC-E088-466D-B21C-F75CC98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2EC59-9DCC-4B69-9500-759F3CD5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9C8-6459-460A-BBC8-27B2E54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73D3-2834-4394-AA96-2DF3B241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067A-CF20-452A-ACDD-778B81BE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4D651-E3E2-4167-932C-F772DCBA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3936-8945-40AB-8586-F86E9163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5DE42-15FC-40BF-A4B9-250F575A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4A25-85C1-4831-950F-D0653E7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4F7F-D119-4631-A87A-816745E7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CC2F5-1A8B-439C-A2C2-D3ED808D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9873-7791-4268-9CEC-7E630E27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711A-8847-41D7-9513-FB4D738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0E2-387F-4A4C-B04C-D70474DF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8A105-201A-4E07-97B7-3221F6DD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6AFC3-724F-4293-9671-F12FB60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0C8B0-313B-4DDF-B108-1C3EBBF8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F969D-2406-4F17-B5F3-761D8C61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4417-4625-4251-B4FF-48793977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F5298-5FC9-4608-8B93-8E856576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3B4A-C31F-4897-B8F6-2A899A5D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34E0-5E74-490D-AAC2-ABBC3078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FD84-026C-4B79-BA50-CD068A6B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6A2E3-69E6-48EA-9E21-0A623655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C1D-6755-4690-8FAA-92C29C2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59D88-6AEE-439A-A839-E1E29DF9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C34B2-6E00-48ED-95B9-D3C1B25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18CFD-FD44-41CE-93D1-E2A7D2A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F65A1-F4A6-41BC-BA15-FF6CFA1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28DDF-4380-46C1-8673-F10A7BB8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7886-0370-4A87-AAAC-5BB21072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147E8-7840-4788-A2B5-089D5E5D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B9CAA-785A-463E-8EAC-67718EBB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AE3FA-AB91-432C-8D49-F7116D55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7B8EE-CEB1-47B2-9F1B-AACE6C8B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B11-9787-4AA9-9ABA-759BE41D7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0A7-545D-4A39-9AF5-BAA9969AE6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4192-E53B-4DD2-9FA0-F8D55179B7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A347-35F5-4052-969B-27849EB59FA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326-C73C-4B6C-BA71-1A6AA37902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E5F3-07BE-473C-A39E-5688D138FC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3C7-6B30-4B94-BDE4-7427B81EBF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C576-0E07-4312-932E-AA14D644ED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D688-5FE3-4F7F-A8FB-0EA671102E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005-4702-4283-8980-18CB8D327F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9B9-F609-4A9D-A0BA-DEA8CB62BC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54D-6E8C-417D-8C54-E1279050BE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3"/>
          <p:cNvSpPr/>
          <p:nvPr/>
        </p:nvSpPr>
        <p:spPr>
          <a:xfrm>
            <a:off x="4832280" y="5508720"/>
            <a:ext cx="4095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214200" y="285840"/>
            <a:ext cx="868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униципальное  автономное  дошкольное  образовательное  учреждение №5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Прямоугольник 8"/>
          <p:cNvSpPr/>
          <p:nvPr/>
        </p:nvSpPr>
        <p:spPr>
          <a:xfrm>
            <a:off x="4857840" y="492912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иронова Н.В.,воспита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уппы №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Box 8"/>
          <p:cNvSpPr/>
          <p:nvPr/>
        </p:nvSpPr>
        <p:spPr>
          <a:xfrm>
            <a:off x="3786120" y="5929200"/>
            <a:ext cx="24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. Калинингра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2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Прямоугольник 9" descr=""/>
          <p:cNvPicPr/>
          <p:nvPr/>
        </p:nvPicPr>
        <p:blipFill>
          <a:blip r:embed="rId1"/>
          <a:stretch/>
        </p:blipFill>
        <p:spPr>
          <a:xfrm>
            <a:off x="1530360" y="1554120"/>
            <a:ext cx="57848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Box 1"/>
          <p:cNvSpPr/>
          <p:nvPr/>
        </p:nvSpPr>
        <p:spPr>
          <a:xfrm>
            <a:off x="428760" y="28584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поведения в игровой комна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2" descr="https://img3.stockfresh.com/files/l/lenm/m/76/4390378_stock-vector-fighting-boys.jpg"/>
          <p:cNvPicPr/>
          <p:nvPr/>
        </p:nvPicPr>
        <p:blipFill>
          <a:blip r:embed="rId1"/>
          <a:stretch/>
        </p:blipFill>
        <p:spPr>
          <a:xfrm>
            <a:off x="298440" y="1141560"/>
            <a:ext cx="2117880" cy="200160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06" name="Picture 4" descr="http://bm.img.com.ua/smak/orig/d/53/cbf65ff5afdadc712c2cbd664af7a53d.jpg"/>
          <p:cNvPicPr/>
          <p:nvPr/>
        </p:nvPicPr>
        <p:blipFill>
          <a:blip r:embed="rId2"/>
          <a:stretch/>
        </p:blipFill>
        <p:spPr>
          <a:xfrm>
            <a:off x="6534000" y="1143000"/>
            <a:ext cx="2163960" cy="185724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07" name="Picture 6" descr="https://st2.depositphotos.com/1724125/11561/v/450/depositphotos_115613000-stock-illustration-kid-shoving-another-kid.jpg"/>
          <p:cNvPicPr/>
          <p:nvPr/>
        </p:nvPicPr>
        <p:blipFill>
          <a:blip r:embed="rId3"/>
          <a:stretch/>
        </p:blipFill>
        <p:spPr>
          <a:xfrm>
            <a:off x="285840" y="4000680"/>
            <a:ext cx="2071440" cy="18604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08" name="Picture 8" descr="http://dou-196.ucoz.ru/psiholog/2.png"/>
          <p:cNvPicPr/>
          <p:nvPr/>
        </p:nvPicPr>
        <p:blipFill>
          <a:blip r:embed="rId4"/>
          <a:stretch/>
        </p:blipFill>
        <p:spPr>
          <a:xfrm>
            <a:off x="6692760" y="3571920"/>
            <a:ext cx="2232000" cy="2292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https://ds04.infourok.ru/uploads/ex/1240/00066757-ac699f0e/1/img10.jpg"/>
          <p:cNvPicPr/>
          <p:nvPr/>
        </p:nvPicPr>
        <p:blipFill>
          <a:blip r:embed="rId5"/>
          <a:stretch/>
        </p:blipFill>
        <p:spPr>
          <a:xfrm>
            <a:off x="3429000" y="1071720"/>
            <a:ext cx="2371680" cy="19285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10" name="Picture 12" descr="https://previews.123rf.com/images/lenm/lenm1212/lenm121200098/16840129-Illustration-of-a-Girl-Hiding-Under-a-Table-Stock-Photo.jpg"/>
          <p:cNvPicPr/>
          <p:nvPr/>
        </p:nvPicPr>
        <p:blipFill>
          <a:blip r:embed="rId6"/>
          <a:stretch/>
        </p:blipFill>
        <p:spPr>
          <a:xfrm>
            <a:off x="4714920" y="3929040"/>
            <a:ext cx="1679400" cy="17668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11" name="Picture 14" descr="https://src.photogenica.ru/400/CLP/2629/CLP2629107.jpg"/>
          <p:cNvPicPr/>
          <p:nvPr/>
        </p:nvPicPr>
        <p:blipFill>
          <a:blip r:embed="rId7"/>
          <a:stretch/>
        </p:blipFill>
        <p:spPr>
          <a:xfrm>
            <a:off x="2786040" y="3643200"/>
            <a:ext cx="1806480" cy="231300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512" name="TextBox 6"/>
          <p:cNvSpPr/>
          <p:nvPr/>
        </p:nvSpPr>
        <p:spPr>
          <a:xfrm>
            <a:off x="357120" y="30718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драть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Box 8"/>
          <p:cNvSpPr/>
          <p:nvPr/>
        </p:nvSpPr>
        <p:spPr>
          <a:xfrm>
            <a:off x="127080" y="60120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толкать друг дру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Box 9"/>
          <p:cNvSpPr/>
          <p:nvPr/>
        </p:nvSpPr>
        <p:spPr>
          <a:xfrm>
            <a:off x="3122640" y="30416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бросаться кубик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Box 10"/>
          <p:cNvSpPr/>
          <p:nvPr/>
        </p:nvSpPr>
        <p:spPr>
          <a:xfrm>
            <a:off x="6826320" y="29829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куса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Box 11"/>
          <p:cNvSpPr/>
          <p:nvPr/>
        </p:nvSpPr>
        <p:spPr>
          <a:xfrm>
            <a:off x="6727680" y="59292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друг у дру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нимать игруш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Box 12"/>
          <p:cNvSpPr/>
          <p:nvPr/>
        </p:nvSpPr>
        <p:spPr>
          <a:xfrm>
            <a:off x="2867040" y="6012000"/>
            <a:ext cx="37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вставать на стулья 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лзать под стол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1"/>
          <p:cNvSpPr/>
          <p:nvPr/>
        </p:nvSpPr>
        <p:spPr>
          <a:xfrm>
            <a:off x="571680" y="214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безопасного поведения при приёме пищ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Box 6"/>
          <p:cNvSpPr/>
          <p:nvPr/>
        </p:nvSpPr>
        <p:spPr>
          <a:xfrm>
            <a:off x="214200" y="3071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разговаривать во время приёма пищ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2000160" y="61437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есть рук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Box 9"/>
          <p:cNvSpPr/>
          <p:nvPr/>
        </p:nvSpPr>
        <p:spPr>
          <a:xfrm>
            <a:off x="2928960" y="3041640"/>
            <a:ext cx="33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пить из тарелки и наклонять тарелку с супом к себ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15040" y="30718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размахивать руками в которых находятся столовые прибо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4714920" y="6000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после приёма пищ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т вытирать    рукав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4" name="Picture 2" descr="https://ds03.infourok.ru/uploads/ex/059d/0006472c-6f4ed785/hello_html_479b2f3.jpg"/>
          <p:cNvPicPr/>
          <p:nvPr/>
        </p:nvPicPr>
        <p:blipFill>
          <a:blip r:embed="rId1"/>
          <a:stretch/>
        </p:blipFill>
        <p:spPr>
          <a:xfrm>
            <a:off x="338040" y="1081080"/>
            <a:ext cx="2519640" cy="200016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25" name="Picture 4" descr="http://svitppt.com.ua/images/58/57327/770/img3.jpg"/>
          <p:cNvPicPr/>
          <p:nvPr/>
        </p:nvPicPr>
        <p:blipFill>
          <a:blip r:embed="rId2"/>
          <a:stretch/>
        </p:blipFill>
        <p:spPr>
          <a:xfrm>
            <a:off x="3313080" y="1081080"/>
            <a:ext cx="2481120" cy="192096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26" name="Picture 2" descr="https://fs00.infourok.ru/images/doc/161/185456/img9.jpg"/>
          <p:cNvPicPr/>
          <p:nvPr/>
        </p:nvPicPr>
        <p:blipFill>
          <a:blip r:embed="rId3"/>
          <a:stretch/>
        </p:blipFill>
        <p:spPr>
          <a:xfrm>
            <a:off x="6510240" y="1035000"/>
            <a:ext cx="2347920" cy="20401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27" name="Picture 2" descr="https://ds04.infourok.ru/uploads/ex/0ede/00030895-9c4eb24d/img26.jpg"/>
          <p:cNvPicPr/>
          <p:nvPr/>
        </p:nvPicPr>
        <p:blipFill>
          <a:blip r:embed="rId4"/>
          <a:stretch/>
        </p:blipFill>
        <p:spPr>
          <a:xfrm>
            <a:off x="1857240" y="4071960"/>
            <a:ext cx="2357640" cy="200016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28" name="Picture 2" descr="https://pups.su/wp-content/uploads/2017/08/rebenok-ploho-est5.jpg"/>
          <p:cNvPicPr/>
          <p:nvPr/>
        </p:nvPicPr>
        <p:blipFill>
          <a:blip r:embed="rId5"/>
          <a:stretch/>
        </p:blipFill>
        <p:spPr>
          <a:xfrm>
            <a:off x="4929120" y="4000680"/>
            <a:ext cx="2341800" cy="19825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1"/>
          <p:cNvSpPr/>
          <p:nvPr/>
        </p:nvSpPr>
        <p:spPr>
          <a:xfrm>
            <a:off x="230040" y="17604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безопасного одевания в раздевал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717480" y="6027840"/>
            <a:ext cx="34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закрываться в шкафчик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1" name="Picture 6" descr="http://www.dou75.ru/16/images/16-17/zdorovye/zim_odev.jpg"/>
          <p:cNvPicPr/>
          <p:nvPr/>
        </p:nvPicPr>
        <p:blipFill>
          <a:blip r:embed="rId1"/>
          <a:stretch/>
        </p:blipFill>
        <p:spPr>
          <a:xfrm>
            <a:off x="285840" y="928800"/>
            <a:ext cx="3143160" cy="22003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32" name="Picture 2" descr="https://dytpsyholog.files.wordpress.com/2015/03/d0bed0b4d18fd0b3d0b0d182d0b8d181d18c.png?w=1024&amp;h=1024"/>
          <p:cNvPicPr/>
          <p:nvPr/>
        </p:nvPicPr>
        <p:blipFill>
          <a:blip r:embed="rId2"/>
          <a:stretch/>
        </p:blipFill>
        <p:spPr>
          <a:xfrm>
            <a:off x="6748560" y="853920"/>
            <a:ext cx="2127240" cy="2401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http://lechimrebenka.ru/wp-content/uploads/2014/10/%D0%B4%D0%B5%D1%82%D1%81%D0%BA%D0%B8%D0%B9-%D1%81%D0%B0%D0%B4.jpg"/>
          <p:cNvPicPr/>
          <p:nvPr/>
        </p:nvPicPr>
        <p:blipFill>
          <a:blip r:embed="rId3"/>
          <a:stretch/>
        </p:blipFill>
        <p:spPr>
          <a:xfrm>
            <a:off x="3535200" y="853920"/>
            <a:ext cx="3200400" cy="2419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http://163gorod.ru/sites/116kzn.ru/files/styles/news-img-full/public/2016/11/Grazhdanin-Kambarki-iznasiloval.jpg?itok=IHdCkudU"/>
          <p:cNvPicPr/>
          <p:nvPr/>
        </p:nvPicPr>
        <p:blipFill>
          <a:blip r:embed="rId4"/>
          <a:stretch/>
        </p:blipFill>
        <p:spPr>
          <a:xfrm>
            <a:off x="1698480" y="3946680"/>
            <a:ext cx="2016360" cy="20905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535" name="Picture 2" descr="http://c7.alamy.com/comp/KEB17T/children-walking-up-the-stairs-KEB17T.jpg"/>
          <p:cNvPicPr/>
          <p:nvPr/>
        </p:nvPicPr>
        <p:blipFill>
          <a:blip r:embed="rId5"/>
          <a:srcRect l="0" t="0" r="-1039" b="0"/>
          <a:stretch/>
        </p:blipFill>
        <p:spPr>
          <a:xfrm>
            <a:off x="5643720" y="3929040"/>
            <a:ext cx="1923840" cy="216540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536" name="TextBox 3"/>
          <p:cNvSpPr/>
          <p:nvPr/>
        </p:nvSpPr>
        <p:spPr>
          <a:xfrm>
            <a:off x="230040" y="323856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обходимо правильно одеваться , не разбрасывать одежду, доставать из шкафа по мере необходим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4551480" y="6027840"/>
            <a:ext cx="44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ходьбе по лестнице держаться за пери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168120" y="26028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поведения при выходе на прогул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3357720" y="928800"/>
            <a:ext cx="254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д прогулкой необходим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роиться пара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Picture 2" descr="https://images.crafta.ua/collecting-items/6512685580"/>
          <p:cNvPicPr/>
          <p:nvPr/>
        </p:nvPicPr>
        <p:blipFill>
          <a:blip r:embed="rId1"/>
          <a:stretch/>
        </p:blipFill>
        <p:spPr>
          <a:xfrm>
            <a:off x="3357720" y="2071800"/>
            <a:ext cx="2428560" cy="21430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41" name="Picture 4" descr="http://www.stihi.ru/pics/2016/05/20/5744.jpg"/>
          <p:cNvPicPr/>
          <p:nvPr/>
        </p:nvPicPr>
        <p:blipFill>
          <a:blip r:embed="rId2"/>
          <a:stretch/>
        </p:blipFill>
        <p:spPr>
          <a:xfrm>
            <a:off x="6215040" y="2071800"/>
            <a:ext cx="2643120" cy="22064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42" name="Picture 6" descr="http://www.xn--80aauegbcjrdg4a.xn--p1ai/uploads/1/0/5/8/10580347/4140487_orig.jpg"/>
          <p:cNvPicPr/>
          <p:nvPr/>
        </p:nvPicPr>
        <p:blipFill>
          <a:blip r:embed="rId3"/>
          <a:stretch/>
        </p:blipFill>
        <p:spPr>
          <a:xfrm>
            <a:off x="428760" y="2071800"/>
            <a:ext cx="2577960" cy="22381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43" name="Picture 8" descr="https://cloudstatic.eva.ru/eva/120000-130000/121220/channel/20512166595508154.jpg"/>
          <p:cNvPicPr/>
          <p:nvPr/>
        </p:nvPicPr>
        <p:blipFill>
          <a:blip r:embed="rId4"/>
          <a:stretch/>
        </p:blipFill>
        <p:spPr>
          <a:xfrm>
            <a:off x="3286080" y="4357800"/>
            <a:ext cx="2379600" cy="2290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544" name="TextBox 2"/>
          <p:cNvSpPr/>
          <p:nvPr/>
        </p:nvSpPr>
        <p:spPr>
          <a:xfrm>
            <a:off x="357120" y="1071720"/>
            <a:ext cx="27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толкать впереди идущих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6143760" y="928800"/>
            <a:ext cx="30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дёргать за косички, одежду впереди идущих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Прямоугольник 5"/>
          <p:cNvSpPr/>
          <p:nvPr/>
        </p:nvSpPr>
        <p:spPr>
          <a:xfrm>
            <a:off x="5975280" y="47862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ходить на территорию детского сада без взрослого нельзя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210960" y="2062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поведения на прогулке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2928960" y="9288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бегать на участке – можно упа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2" descr="http://www.doy28.narod.ru/image/1prog6.jpg"/>
          <p:cNvPicPr/>
          <p:nvPr/>
        </p:nvPicPr>
        <p:blipFill>
          <a:blip r:embed="rId1"/>
          <a:stretch/>
        </p:blipFill>
        <p:spPr>
          <a:xfrm>
            <a:off x="334800" y="1724040"/>
            <a:ext cx="2522880" cy="2166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50" name="Picture 4" descr="http://cdn.a4y.biz/pics/2016-07/06/488045-c51ce410c124a10e0db5e4b97fc2af39.jpg"/>
          <p:cNvPicPr/>
          <p:nvPr/>
        </p:nvPicPr>
        <p:blipFill>
          <a:blip r:embed="rId2"/>
          <a:stretch/>
        </p:blipFill>
        <p:spPr>
          <a:xfrm>
            <a:off x="6143760" y="1714680"/>
            <a:ext cx="2585880" cy="2166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51" name="Picture 2" descr="http://clipart.coolclips.com/480/vectors/tf05156/CoolClips_vc007462.png"/>
          <p:cNvPicPr/>
          <p:nvPr/>
        </p:nvPicPr>
        <p:blipFill>
          <a:blip r:embed="rId3"/>
          <a:stretch/>
        </p:blipFill>
        <p:spPr>
          <a:xfrm>
            <a:off x="3429000" y="4643280"/>
            <a:ext cx="1968480" cy="1917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s://us.123rf.com/450wm/andriusr/andriusr1112/andriusr111200024/11601680-%D0%98%D0%BB%D0%BB%D1%8E%D1%81%D1%82%D1%80%D0%B0%D1%86%D0%B8%D1%8F-%D1%80%D0%B0%D0%B1%D0%BE%D1%82%D0%B0%D0%B5%D1%82-%D0%BC%D0%B0%D0%BB%D1%8C%D1%87%D0%B8%D0%BA%D0%B0-%D1%81-%D0%BF%D0%B0%D0%BB%D0%BA%D0%BE%D0%B9.jpg?ver=6"/>
          <p:cNvPicPr/>
          <p:nvPr/>
        </p:nvPicPr>
        <p:blipFill>
          <a:blip r:embed="rId4"/>
          <a:stretch/>
        </p:blipFill>
        <p:spPr>
          <a:xfrm>
            <a:off x="428760" y="4714920"/>
            <a:ext cx="2286000" cy="1908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53" name="Picture 6" descr="http://mzs5.gorlice.pl/wp-content/uploads/2015/10/Kids-Running.jpg"/>
          <p:cNvPicPr/>
          <p:nvPr/>
        </p:nvPicPr>
        <p:blipFill>
          <a:blip r:embed="rId5"/>
          <a:stretch/>
        </p:blipFill>
        <p:spPr>
          <a:xfrm>
            <a:off x="3071880" y="1643040"/>
            <a:ext cx="2747880" cy="2249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54" name="Picture 8" descr="http://laoblogger.com/images/children-petting-dog-clipart-8.jpg"/>
          <p:cNvPicPr/>
          <p:nvPr/>
        </p:nvPicPr>
        <p:blipFill>
          <a:blip r:embed="rId6"/>
          <a:stretch/>
        </p:blipFill>
        <p:spPr>
          <a:xfrm>
            <a:off x="6215040" y="4643280"/>
            <a:ext cx="2571840" cy="19288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555" name="TextBox 5"/>
          <p:cNvSpPr/>
          <p:nvPr/>
        </p:nvSpPr>
        <p:spPr>
          <a:xfrm>
            <a:off x="0" y="928800"/>
            <a:ext cx="28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 время подвижных игр не толкать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928960" y="4286160"/>
            <a:ext cx="27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бросаться камня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6143760" y="85716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улять на своём участке, уходить с  участка нельз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0"/>
          <p:cNvSpPr/>
          <p:nvPr/>
        </p:nvSpPr>
        <p:spPr>
          <a:xfrm>
            <a:off x="214200" y="3929040"/>
            <a:ext cx="28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брать в руки палки и другие предме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12"/>
          <p:cNvSpPr/>
          <p:nvPr/>
        </p:nvSpPr>
        <p:spPr>
          <a:xfrm>
            <a:off x="5803920" y="3929040"/>
            <a:ext cx="33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гладить посторонних живот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2712960" y="360360"/>
            <a:ext cx="3645000" cy="3419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a117"/>
          <p:cNvPicPr/>
          <p:nvPr/>
        </p:nvPicPr>
        <p:blipFill>
          <a:blip r:embed="rId2"/>
          <a:stretch/>
        </p:blipFill>
        <p:spPr>
          <a:xfrm flipH="1" rot="20990400">
            <a:off x="7693200" y="-9360"/>
            <a:ext cx="671400" cy="5349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a117"/>
          <p:cNvPicPr/>
          <p:nvPr/>
        </p:nvPicPr>
        <p:blipFill>
          <a:blip r:embed="rId3"/>
          <a:stretch/>
        </p:blipFill>
        <p:spPr>
          <a:xfrm rot="20296200">
            <a:off x="95040" y="1248840"/>
            <a:ext cx="634680" cy="635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a117"/>
          <p:cNvPicPr/>
          <p:nvPr/>
        </p:nvPicPr>
        <p:blipFill>
          <a:blip r:embed="rId4"/>
          <a:stretch/>
        </p:blipFill>
        <p:spPr>
          <a:xfrm flipH="1" rot="2007600">
            <a:off x="8411400" y="912600"/>
            <a:ext cx="673200" cy="5349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a117"/>
          <p:cNvPicPr/>
          <p:nvPr/>
        </p:nvPicPr>
        <p:blipFill>
          <a:blip r:embed="rId5"/>
          <a:stretch/>
        </p:blipFill>
        <p:spPr>
          <a:xfrm rot="1132200">
            <a:off x="1244520" y="28224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WAP.MMS.MTS.RU"/>
          <p:cNvPicPr/>
          <p:nvPr/>
        </p:nvPicPr>
        <p:blipFill>
          <a:blip r:embed="rId6"/>
          <a:stretch/>
        </p:blipFill>
        <p:spPr>
          <a:xfrm>
            <a:off x="7499520" y="573120"/>
            <a:ext cx="906120" cy="817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WAP.MMS.MTS.RU"/>
          <p:cNvPicPr/>
          <p:nvPr/>
        </p:nvPicPr>
        <p:blipFill>
          <a:blip r:embed="rId7"/>
          <a:stretch/>
        </p:blipFill>
        <p:spPr>
          <a:xfrm>
            <a:off x="55440" y="119160"/>
            <a:ext cx="1024200" cy="922320"/>
          </a:xfrm>
          <a:prstGeom prst="rect">
            <a:avLst/>
          </a:prstGeom>
          <a:ln w="0">
            <a:noFill/>
          </a:ln>
        </p:spPr>
      </p:pic>
      <p:pic>
        <p:nvPicPr>
          <p:cNvPr id="567" name="Прямоугольник 11" descr=""/>
          <p:cNvPicPr/>
          <p:nvPr/>
        </p:nvPicPr>
        <p:blipFill>
          <a:blip r:embed="rId8"/>
          <a:stretch/>
        </p:blipFill>
        <p:spPr>
          <a:xfrm>
            <a:off x="1755720" y="3797280"/>
            <a:ext cx="5808600" cy="211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9:20:13Z</dcterms:created>
  <dc:creator>Пользователь</dc:creator>
  <dc:description/>
  <dc:language>en-US</dc:language>
  <cp:lastModifiedBy>User</cp:lastModifiedBy>
  <dcterms:modified xsi:type="dcterms:W3CDTF">2022-11-14T17:39:14Z</dcterms:modified>
  <cp:revision>90</cp:revision>
  <dc:subject/>
  <dc:title>Дидактическая игра</dc:title>
</cp:coreProperties>
</file>