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50F-CC1D-4277-A7A2-FF205259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B98-166F-4147-99D6-06C65D3D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201-C395-4D36-80C0-93F37515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298-4707-49E4-86FD-050EC5CB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24F-FC1C-4463-A0F2-E69B1BDA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5BA-73D7-4334-8928-55977131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38D-DA26-49B1-B5C5-F21D08D8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2F9-25D8-497F-B117-372A98AF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8BA-9F37-4674-85B7-EDC9711A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70F-9BF7-46E3-A34A-342DA50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F41-3B29-4098-8588-8DB136A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5DB-C8C2-45A5-ACEB-47DA67B7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CBC1-4C12-490D-842F-44425138C0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andia.ru/text/category/vidi_deyatelmznosti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6880" y="604800"/>
            <a:ext cx="5423040" cy="2733840"/>
          </a:xfrm>
          <a:prstGeom prst="rect">
            <a:avLst/>
          </a:prstGeom>
          <a:solidFill>
            <a:srgbClr val="f48f2d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 Light"/>
              </a:rPr>
              <a:t>Презентация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 Light"/>
              </a:rPr>
              <a:t>на тему: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 Light"/>
              </a:rPr>
              <a:t>«Пособие по познавательно – исследовательской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 Light"/>
              </a:rPr>
              <a:t>деятельности в подготовительной группе»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00480" y="5548320"/>
            <a:ext cx="2797200" cy="105408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:                                                                     Воскобоева Л.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хотим сегодня в форме сказки показать вам некоторые виды экспериментирования при помощи этого пособия с разными материалами, которые можно использовать в работе с детьми.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называется «Путешествие цыпленка, или мир за забором птичьего двора».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ном птичьем дворе совсем недавно у мамы-курицы вылупились цыплята. Все детки были послушные, всегда ходили за мамой-курицей, только один был уж очень любопытный, везде совал свой нос.                                                                                                                 Однажды ему захотелось узнать, что же там за забором птичьего двора, и он пошел открывать мир.                                                                                                                                      Выйдя за забор, он увидел небольшой пруд, в нем плавало много загадочных цветов, это были кувшинки. Солнышко уже начало всходить, и цыпленок увидел, как распускаются эти прекрасные цветы.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 1 Цветы кувшин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Вырежьте из цветной бумаги цветы с длинными лепестками.                                                При помощи карандаша закрутите лепестки к центру.                                                                            А теперь опустите кувшинки на воду, налитую в таз. Буквально на ваших глазах лепестки цветов начнут распускаться.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Это происходит потому, что бумага намокает, становится постепенно тяжелее, и лепестки раскрываютс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6475320" y="4121280"/>
            <a:ext cx="21639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пленок захотел поближе рассмотреть, как распускаются эти прекрасные цветы, но так как он не умел плавать, ему надо было найти какой-то не тонущий в воде предмет и на нем подплыть к цветам. Посмотрев по сторонам, он увидел кусок коры дерева, металлическую пластинку. С трудом опустив металлическую пластинку в воду, он с ужасом заметил, что она утонула. Следующую попытку он проделал с корой дерева и с удовлетворением отметил, что она плавает.                                                                                        Цыпленок пошел дальше узнавать мир.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 2 Апельсин в соленой и пресной воде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Он увидел апельсин и выбросил его в пруд.                                                                                               Что произошло с апельсином? Он не утонул!!! И даже если очень постараться, утопить его не удастся.Очищаем апельсин от кожуры и опускаем в воду. Апельсин утонул!!! Почему? Нет кожуры.                                                                                                                                    Во второй стакан добавим в воду соль. Что видите? Почему? Апельсин поднялся? Потому что добавили соль.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вывод: в апельсиновой кожуре много пузырьков воздуха.                                           Они выталкивают апельсин на поверхность воды. Без кожуры апельсин тонет, потому что тяжелее воды. Вода растворяет соль. Соленая вода более плотная, чем пресная, поэтому апельсины в ней не тонут. Поэтому - то и в море нам плавать легче, чем, например, в реч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6427800" y="4154400"/>
            <a:ext cx="2211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 3 Помощь солнышк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Дальше цыпленок увидел большую лужу и ярко светящее солнышко. Солнышко попросило цыпленка помочь ему высушить лужу.                                                                                                                      Как мы можем помочь солнышку? Правильно собрать воду разными предметами.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ть представление о том, что воду можно собрать различными предметами – губкой, пипеткой, грушей, салфеткой.        Возьмите поролоновую или другую впитывающую губку, резиновую грушу и пластмассовый шприц (без иглы). Налейте воду в небольшой тазик, приготовьте несколько пустых ёмкостей (чашек, мисок и т.п.). Попросите ребёнка опустить губку в воду и покажите, как нужно отжать её в чашку. Потом наберите воду резиновой грушей и перелейте её в другую ёмкость. То же самое проделайте и со шприцо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6335640" y="4078440"/>
            <a:ext cx="2303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4 Замок принцессы Пе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Высушив лужу, цыпленок пошел дальше и увидел пенный замок. В этом замке кто – то жил.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познакомить с тем, что при попадании воздуха в каплю мыльной воды образуется пузырь, затем пен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В небольшую ёмкость налейте немного средства для мытья посуды, добавьте воды и размешайте. Возьмите широкую коктейльную трубочку, опустите в миску и начинайте дуть. Одновременно с громким бульканьем на глазах у ребёнка вырастет облако переливающихся пузырей.                                                                                                                       Дайте ребёнку трубочку и предложите подуть сначала вместе с вами, затем самостоятельно. Поставьте внутрь пены пластмассовую или резиновую игрушку – это «принцесса, которая живёт в пенном замке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6686640" y="4373640"/>
            <a:ext cx="2009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 5 Следы на песк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Нагулявшись, Цыпленок решил вернуться домой. Тут он увидел, что идя по мокрому песку, после него остаются следы. По этим следам он успешно вернулся к маме-курице.                                                                         Взять в руки сухой песок и сыпать его струйкой. Затем мокрый песок.                                                                                                          Палочкой, пальчиком оставить следы на сухом песке, затем на мокром песке.                                                                                                                    Давайте вспомним свойства мокрого песка?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Мокрый песок нельзя сыпать струйкой, но зато он может принимать любую нужную форму, пока не высохн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6541920" y="4097160"/>
            <a:ext cx="20973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им образом, опытно - экспериментальная деятельность позволяет объединить вс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16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/>
              </a:rPr>
              <a:t>виды деятельности</a:t>
            </a:r>
            <a:r>
              <a:rPr b="1" lang="ru-RU" sz="1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 стороны воспитания, развивает наблюдательность и пытливость ума, развивает стремление к познанию мира, все познавательные способности, умение изобретать, использовать нестандартные решения в трудных ситуациях, создавать творческую лич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ыты с магнитом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Расширить знания детей в процессе знакомства с магнитом и его свойствами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Опыт: «Найди с помощью магнита лишний предмет?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воды: Предметы, сделанные из железа, притягиваются магнитом. Предметы, сделанные из стекла, резины, дерева на магнит не реагирую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ыт: «Манная крупа с секретом»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вод: Магнит может притягивать предметы сквозь другие тел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Опыт: «Как влияет расстояние на магнит?»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вод: Магнит действует на железные предметы на расстояние. Это расстояние называется - "магнитное поле"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Опыт: «Как влияет вода на свойства магнита?»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Вывод: железные предметы намагнитились и притянулись к магниту сквозь препятстви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ыты с воздухом                                                                                                                                   «Почувствуй воздух»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ашут веером возле своего лица. Что чувствуем? (ответы детей). Вывод: воздух мы видим, но он везде окружает на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ы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едложить детям обследовать пакет, узнать, что в нем, объяснить, почему они так думают и попробовать поймать воздух в целлофановый пак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ыт.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устите кораблики на воду. Дети дуют на кораблики, они плывут. Так и настоящие корабли движутся благодаря ветру. Что происходит с кораблём, если ветра нет? А если ветер очень сильный? Начинается буря, и кораблик может потерпеть настоящее крушение (всё это дети могут продемонстрировать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ы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оздух внутри нас. Поставьте перед ребёнком стаканчик с мыльными пузырями и предложите выдуть мыльные пузыри. Обсудите, почему они называются мыльными, что внутри этих пузырей и почему они такие легкие, летаю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ыт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ложить детям надуть шарики. Сделать вывод: воздух внутри на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стоинства метода экспериментирова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реальные представления о различных сторонах изучаемого объекта, о его взаимоотношениях с другими объектами и со средой обит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дет обогащение памяти ребенка, активизируются его мыслительные процессы, так как постоянно возникает необходимость совершать операции анализа и синтеза, сравнения и классифик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ется речь ребенка, так как ему необходимо давать отчет об увиденном, формулировать обнаруженные закономерности и выво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исходит накопление фонда умственных приемов и операций, которые рассматриваются как умственные ум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ское экспериментирование важно и для формирование самостоятельности, целеполагания, способности преобразовывать какие – либо предметы и явления для достижения определенного результ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так, можно сделать вывод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енаправленная систематическая экспериментальная работа с дошкольниками позволяет выявить и сформировать у детей потребность в постоянной познавательной деятельности, поддерживает интерес и способствует всестороннему развит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1378080" y="2487600"/>
            <a:ext cx="61689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28560" y="271440"/>
            <a:ext cx="7886880" cy="59054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ок дошкольного возраста – любознательная, думающая , наблюдающая личность. Познавая мир, он делает множество открытий. Экспериментирование является эффективным средством интеллектуального развития детей. Любой ребенок вовлечен в нее постоянно: он рвет бумагу, разбирает игрушки, играет с водой, снегом и т.д.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а педагога – помочь дошкольнику в проведении исследований, сделать их полезными и безопасными для ребенка и его окружения. Поэтому исследовательское поведение для дошкольника – главный источник получения представлений о мир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7120" y="9000"/>
            <a:ext cx="5562720" cy="29163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4545000"/>
            <a:ext cx="828216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357120" y="0"/>
            <a:ext cx="57848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ктуальность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ременные дети живут в эпоху информатизации и компьютеризации. В условиях быстро меняющейся жизни от человека требуется не только владение знаниями, но и в первую очередь умение добывать эти знания самому, оперировать ими, мыслить самостоятельно, творчес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исследователи экспериментирования выделяют основную особенность познавательной деятельности детей: ребенок познает объект в ходе практической деятельности с ним, осуществляемые ребенком практические действия выполняют познавательную, ориентировочно-исследовательскую функцию, создавая условия, в которых раскрывается содержание данного объекта. Экспериментирование пронизывает все сферы детской деятельности. Ребенок-дошкольник сам по себе является исследователем, проявляя живой интерес к различного рода исследовательской деятельности – к экспериментированию. Опыты помогают развивать мышление, логику, творчество ребенка, позволяют наглядно показать связи между живым и неживым в прир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разовательные задач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комить детей со свойствами предмета исследова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ть умение делать открытия и вывод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ать плавному направленному выходу на предм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вающие задач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экспериментальную деятельност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речь дете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сенсорные способности, тактильные ощущени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лкую моторик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внимание, мышление, памя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ные задач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ывать самостоятельность и активност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ывать умение слушать друг друга, чувств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аимопомощи, умение работать в коллективе, доброжелатель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отзывчивост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ывать аккуратность в работ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эксперимен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характеру объектов, используемых в эксперимент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-  Опыты с растениям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Опыты с животным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Опыты с объектами неживой природы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Опыты, объектом которых является челове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месту проведения опытов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В групповой комнате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На участке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В лесу, в поле и т.д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количеству детей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Индивидуальные ( 1– 4 ребенка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-  Групповые (5 –16 детей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-  Фронтальные или коллективные ( вся группа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причине их проведени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Случайные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Запланированные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Поставленные в ответ на вопрос ребе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 оборудовании уголка экспериментирования необходимо учитывать следующие требова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езопасность для жизни и здоровья дет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статочность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ащение мини-лаборатории 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 Приборы-помощники: лупы,  песочные часы, компас, магни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 Разнообразные сосуды из различных материалов: пластмасса, стекло, метал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 Природный материал: мелкие камни, песок,  ракушки, шишки, перья, мох, пух, листья, семена и др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 Технические материалы: скрепки, болты, гвозди и др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 Разные виды бумаги: цветная, картон, наждачная, копировальная, гофрированна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--  Красители: гуашь, акварельные краски, природные и пищевые краси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-  Медицинские приборы и материалы: пипетки, деревянные палочки, шприцы (без игл), мерные ложки, йод, зеленка, вата, марлевые салфет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-  Прочие, разнообразные по назначению качествам и свойствам, материалы: зеркала, воздушные шарики, мука, соль, сахар, крупы, пенопласт, полиэтиленовая пленка, пуговицы, поролон, фольга, парафиновые свеч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рганизовать увлекательную исследовательскую деятельность с детьми помогут пособия созданные своими руками.                                                              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делать их очень легко. Достаточно небольшое количество подручных материалов и ваше собственное вдохновение.                                                                                                                                Дети с такими пособиями обычно, занимаются с большим удовольствием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едлагаемое в нашей работе пособие способно разжечь инициативу в изучении окружающего мира. Заниматься дети могут, как одни, так и с воспитателем.                                 Они максимально безопасны и трансформируемы.                                                                                      Можно в летнее время вынести на участок. Объяснение воспитателем какого-либо процесса не достигнет той образовательной эффективности, какая достигается в результате самостоятельно проведённого исследования.                                                        Дети любят опыты и эксперименты, с раннего возраста удовлетворяют познавательный интерес через действия с предметами. Грамотно организованный уголок экспериментирования в помещении группы способствует развитию исследовательского типа мышления у дошкольников и формируют умению для успешного обучения в будущ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96480"/>
            <a:ext cx="8282160" cy="641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 фото атрибут для экспериментирования с песком, глиной и        во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922320"/>
            <a:ext cx="91440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8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4840200" y="133200"/>
            <a:ext cx="4303800" cy="64724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"/>
          <p:cNvPicPr/>
          <p:nvPr/>
        </p:nvPicPr>
        <p:blipFill>
          <a:blip r:embed="rId2"/>
          <a:stretch/>
        </p:blipFill>
        <p:spPr>
          <a:xfrm>
            <a:off x="0" y="133200"/>
            <a:ext cx="4729320" cy="64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Лариса</cp:lastModifiedBy>
  <dcterms:modified xsi:type="dcterms:W3CDTF">2022-11-12T13:14:24Z</dcterms:modified>
  <cp:revision>13</cp:revision>
  <dc:subject/>
  <dc:title>Название презентации</dc:title>
</cp:coreProperties>
</file>