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401-B7B6-423E-9E5D-3A4B5A37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B7F-D316-46E3-A7F0-CD70EA7E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095-87CB-4ECD-A1D5-44F6E45F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34F-4BCD-4EB1-94D4-7E6BF742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AB90-0BF9-43CF-B82C-C058688E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7BA5-4FA3-48A5-BDFE-FE411F4A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E79B-6200-4C8B-BFF9-58ECF2D1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C945-A0A0-46AF-B346-958FDB4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D03D-12E3-4A09-8CB9-81AD527D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019-036C-4F1B-8813-8B27C26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19BB-E18A-43B0-BE5D-B38BCCD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56C-29DC-4515-A1CF-CD4A361E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DE6D-7123-42F8-BBD7-87CECC9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B91-A569-4B82-9975-3CB40CA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50E3-B921-4232-820A-9D734F1F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E2A2-E1CE-4D01-B5CE-88BA2B75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F233-D10C-4D9A-B58F-E91BC166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AFA-B885-4F53-8871-E201146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D68-25B5-46ED-ABA8-46450C6A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1FB-B760-488B-9927-E64F51D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853-7A4B-476A-8E93-F727C77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23F-9E0B-4ACE-86DF-F71E1AB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0C9-443A-44E0-8206-67D7F58F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DE7-8FD3-486D-9037-C989656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C4F6-C753-4B50-8B02-8E03B6FBC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0025-C66A-472B-9F81-57B45345B1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керн5екп\Desktop\презентация\kushaet.png"/>
          <p:cNvPicPr/>
          <p:nvPr/>
        </p:nvPicPr>
        <p:blipFill>
          <a:blip r:embed="rId1"/>
          <a:stretch/>
        </p:blipFill>
        <p:spPr>
          <a:xfrm>
            <a:off x="-228600" y="0"/>
            <a:ext cx="861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Прямоугольник 2"/>
          <p:cNvGrpSpPr/>
          <p:nvPr/>
        </p:nvGrpSpPr>
        <p:grpSpPr>
          <a:xfrm>
            <a:off x="133200" y="55440"/>
            <a:ext cx="8882280" cy="6674040"/>
            <a:chOff x="133200" y="55440"/>
            <a:chExt cx="8882280" cy="6674040"/>
          </a:xfrm>
        </p:grpSpPr>
        <p:pic>
          <p:nvPicPr>
            <p:cNvPr id="245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33200" y="55440"/>
              <a:ext cx="8882280" cy="66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7" name="Picture 2" descr="F:\презентация\DOU11-004.jpg"/>
          <p:cNvPicPr/>
          <p:nvPr/>
        </p:nvPicPr>
        <p:blipFill>
          <a:blip r:embed="rId2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19160" y="13716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ша вкусная дым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ма кашу есть сад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нь каша хоро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шать кашу не спе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жка за лож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шать понемн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у нас  любимый самы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Ложку первую за ма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торую за к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Да за папу твое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ого же третью ложк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За весёлую матреш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одружек и друз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шь побольше не жал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Прямоугольник 3" descr=""/>
          <p:cNvPicPr/>
          <p:nvPr/>
        </p:nvPicPr>
        <p:blipFill>
          <a:blip r:embed="rId1"/>
          <a:stretch/>
        </p:blipFill>
        <p:spPr>
          <a:xfrm>
            <a:off x="1371600" y="268200"/>
            <a:ext cx="69134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Прямоугольник 2"/>
          <p:cNvGrpSpPr/>
          <p:nvPr/>
        </p:nvGrpSpPr>
        <p:grpSpPr>
          <a:xfrm>
            <a:off x="1219320" y="0"/>
            <a:ext cx="8881920" cy="6669000"/>
            <a:chOff x="1219320" y="0"/>
            <a:chExt cx="8881920" cy="6669000"/>
          </a:xfrm>
        </p:grpSpPr>
        <p:pic>
          <p:nvPicPr>
            <p:cNvPr id="25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19320" y="0"/>
              <a:ext cx="888192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467000" y="249120"/>
              <a:ext cx="8381880" cy="61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3" name="Picture 7" descr="a8"/>
          <p:cNvPicPr/>
          <p:nvPr/>
        </p:nvPicPr>
        <p:blipFill>
          <a:blip r:embed="rId2"/>
          <a:stretch/>
        </p:blipFill>
        <p:spPr>
          <a:xfrm>
            <a:off x="304920" y="30492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a7"/>
          <p:cNvPicPr/>
          <p:nvPr/>
        </p:nvPicPr>
        <p:blipFill>
          <a:blip r:embed="rId3"/>
          <a:stretch/>
        </p:blipFill>
        <p:spPr>
          <a:xfrm>
            <a:off x="5715000" y="2286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6"/>
          <p:cNvPicPr/>
          <p:nvPr/>
        </p:nvPicPr>
        <p:blipFill>
          <a:blip r:embed="rId4"/>
          <a:stretch/>
        </p:blipFill>
        <p:spPr>
          <a:xfrm>
            <a:off x="2743200" y="2438280"/>
            <a:ext cx="3505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124080" y="19807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на пухлые ручон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еваем рубашон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торяй за мной сло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чка – раз, ручка –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егнем засте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твоей одежк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говки и кноп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ные заклё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мою малыш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енем мы штани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торяй за мной сло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жка – раз, ножка – дв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ваем нож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гать по дорожк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96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a4"/>
          <p:cNvPicPr/>
          <p:nvPr/>
        </p:nvPicPr>
        <p:blipFill>
          <a:blip r:embed="rId1"/>
          <a:stretch/>
        </p:blipFill>
        <p:spPr>
          <a:xfrm>
            <a:off x="404640" y="762120"/>
            <a:ext cx="3862440" cy="411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ф3"/>
          <p:cNvPicPr/>
          <p:nvPr/>
        </p:nvPicPr>
        <p:blipFill>
          <a:blip r:embed="rId2"/>
          <a:stretch/>
        </p:blipFill>
        <p:spPr>
          <a:xfrm>
            <a:off x="4876920" y="1600200"/>
            <a:ext cx="397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ф2"/>
          <p:cNvPicPr/>
          <p:nvPr/>
        </p:nvPicPr>
        <p:blipFill>
          <a:blip r:embed="rId1"/>
          <a:stretch/>
        </p:blipFill>
        <p:spPr>
          <a:xfrm>
            <a:off x="509760" y="609480"/>
            <a:ext cx="3528720" cy="4267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ф1"/>
          <p:cNvPicPr/>
          <p:nvPr/>
        </p:nvPicPr>
        <p:blipFill>
          <a:blip r:embed="rId2"/>
          <a:stretch/>
        </p:blipFill>
        <p:spPr>
          <a:xfrm>
            <a:off x="4876920" y="1905120"/>
            <a:ext cx="357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Прямоугольник 3"/>
          <p:cNvGrpSpPr/>
          <p:nvPr/>
        </p:nvGrpSpPr>
        <p:grpSpPr>
          <a:xfrm>
            <a:off x="208080" y="208080"/>
            <a:ext cx="8727840" cy="6441840"/>
            <a:chOff x="208080" y="208080"/>
            <a:chExt cx="8727840" cy="6441840"/>
          </a:xfrm>
        </p:grpSpPr>
        <p:pic>
          <p:nvPicPr>
            <p:cNvPr id="26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08080" y="208080"/>
              <a:ext cx="8727840" cy="64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Формирование культурно - гигиенических навыков одно из важнейших направлений в работе с детьми. Чаще всего дети учатся КГН в процессе игр или же с помощью художественного слова.                                                             </a:t>
            </a:r>
            <a:r>
              <a:rPr b="0" i="1" lang="ru-RU" sz="3200" spc="-1" strike="noStrike">
                <a:solidFill>
                  <a:srgbClr val="f2f2f2"/>
                </a:solidFill>
                <a:latin typeface="Arial"/>
              </a:rPr>
              <a:t>(А.С.Макаренк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КГН и умениями должно непрерывно происходить в форме игры, она основное средство развития детей.      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Я.А.Коменски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5" descr=""/>
          <p:cNvPicPr/>
          <p:nvPr/>
        </p:nvPicPr>
        <p:blipFill>
          <a:blip r:embed="rId1"/>
          <a:stretch/>
        </p:blipFill>
        <p:spPr>
          <a:xfrm>
            <a:off x="237960" y="969840"/>
            <a:ext cx="8637840" cy="48405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ая соединительная линия 6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3816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1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3816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19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3816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21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3816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ти в раннем возрасте нуждаются в терпеливом обучении и непосредственной помощи взрослого. В освоении навыков самообслуживания , режимные моменты (гигиенические процедуры, кормление, сборы на прогулку и возвращение с неё, укладывание на сон, подъём) занимают большую часть времени бодрств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907920" y="96840"/>
            <a:ext cx="748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питание культурно – гигиенических навыков и навыков самообслуживания у детей раннего возраста через педагогическую технологию организации режимных момен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Прямоугольник 5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65660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Формировать  умения овладевать культурно -гигиеническими навыками, и навыками самообслуживания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Побуждать детей к самостоятельности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944720" y="-237960"/>
            <a:ext cx="48466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298440"/>
            <a:ext cx="8541000" cy="4260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дом\Рабочий стол\презентация\4493a42cc122.png"/>
          <p:cNvPicPr/>
          <p:nvPr/>
        </p:nvPicPr>
        <p:blipFill>
          <a:blip r:embed="rId2"/>
          <a:stretch/>
        </p:blipFill>
        <p:spPr>
          <a:xfrm>
            <a:off x="304920" y="228600"/>
            <a:ext cx="671400" cy="949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http://im8-tub-ru.yandex.net/i?id=587656357-60-72"/>
          <p:cNvPicPr/>
          <p:nvPr/>
        </p:nvPicPr>
        <p:blipFill>
          <a:blip r:embed="rId3"/>
          <a:stretch/>
        </p:blipFill>
        <p:spPr>
          <a:xfrm>
            <a:off x="7391520" y="4952880"/>
            <a:ext cx="1299960" cy="131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C:\Documents and Settings\дом\Рабочий стол\презентация\vosp_03.jpg"/>
          <p:cNvPicPr/>
          <p:nvPr/>
        </p:nvPicPr>
        <p:blipFill>
          <a:blip r:embed="rId4"/>
          <a:stretch/>
        </p:blipFill>
        <p:spPr>
          <a:xfrm>
            <a:off x="5486400" y="4267080"/>
            <a:ext cx="1751040" cy="1481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C:\Documents and Settings\дом\Рабочий стол\презентация\38.jpg"/>
          <p:cNvPicPr/>
          <p:nvPr/>
        </p:nvPicPr>
        <p:blipFill>
          <a:blip r:embed="rId5"/>
          <a:stretch/>
        </p:blipFill>
        <p:spPr>
          <a:xfrm>
            <a:off x="3733920" y="4952880"/>
            <a:ext cx="1676160" cy="1252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C:\Documents and Settings\дом\Рабочий стол\презентация\e3417dbbdf24t.jpg"/>
          <p:cNvPicPr/>
          <p:nvPr/>
        </p:nvPicPr>
        <p:blipFill>
          <a:blip r:embed="rId6"/>
          <a:stretch/>
        </p:blipFill>
        <p:spPr>
          <a:xfrm>
            <a:off x="2362320" y="4343400"/>
            <a:ext cx="1225440" cy="157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C:\Documents and Settings\дом\Рабочий стол\презентация\zozh.jpg"/>
          <p:cNvPicPr/>
          <p:nvPr/>
        </p:nvPicPr>
        <p:blipFill>
          <a:blip r:embed="rId7"/>
          <a:stretch/>
        </p:blipFill>
        <p:spPr>
          <a:xfrm>
            <a:off x="762120" y="4648320"/>
            <a:ext cx="1249200" cy="156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дом\Рабочий стол\презентация\fiz-ra1.png"/>
          <p:cNvPicPr/>
          <p:nvPr/>
        </p:nvPicPr>
        <p:blipFill>
          <a:blip r:embed="rId8"/>
          <a:stretch/>
        </p:blipFill>
        <p:spPr>
          <a:xfrm>
            <a:off x="762012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Прямоугольник 2"/>
          <p:cNvGrpSpPr/>
          <p:nvPr/>
        </p:nvGrpSpPr>
        <p:grpSpPr>
          <a:xfrm>
            <a:off x="133200" y="55440"/>
            <a:ext cx="8882280" cy="6674040"/>
            <a:chOff x="133200" y="55440"/>
            <a:chExt cx="8882280" cy="6674040"/>
          </a:xfrm>
        </p:grpSpPr>
        <p:pic>
          <p:nvPicPr>
            <p:cNvPr id="23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33200" y="55440"/>
              <a:ext cx="8882280" cy="66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5" name="Picture 2" descr="C:\Users\керн5екп\Desktop\презентация\41279_html_m5b81a66f.jpg"/>
          <p:cNvPicPr/>
          <p:nvPr/>
        </p:nvPicPr>
        <p:blipFill>
          <a:blip r:embed="rId2"/>
          <a:stretch/>
        </p:blipFill>
        <p:spPr>
          <a:xfrm>
            <a:off x="762120" y="6094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5212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ем, знаем, да – да – 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де ты прячешься, во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ходи , водиц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 пришли умытьс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йся на ладо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емнож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йся, лейся, лей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м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ки умывайтесь вес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Прямоугольник 3" descr=""/>
          <p:cNvPicPr/>
          <p:nvPr/>
        </p:nvPicPr>
        <p:blipFill>
          <a:blip r:embed="rId1"/>
          <a:stretch/>
        </p:blipFill>
        <p:spPr>
          <a:xfrm>
            <a:off x="1311120" y="268200"/>
            <a:ext cx="69058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оугольник 2"/>
          <p:cNvGrpSpPr/>
          <p:nvPr/>
        </p:nvGrpSpPr>
        <p:grpSpPr>
          <a:xfrm>
            <a:off x="378000" y="0"/>
            <a:ext cx="8424720" cy="6516720"/>
            <a:chOff x="378000" y="0"/>
            <a:chExt cx="8424720" cy="65167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78000" y="0"/>
              <a:ext cx="8424720" cy="65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30360" y="247680"/>
              <a:ext cx="7924680" cy="60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7" descr="IMG-e36b9cbc1024f0d2237535ac37c30c01-V"/>
          <p:cNvPicPr/>
          <p:nvPr/>
        </p:nvPicPr>
        <p:blipFill>
          <a:blip r:embed="rId2"/>
          <a:stretch/>
        </p:blipFill>
        <p:spPr>
          <a:xfrm>
            <a:off x="685800" y="228600"/>
            <a:ext cx="3124080" cy="3052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a2"/>
          <p:cNvPicPr/>
          <p:nvPr/>
        </p:nvPicPr>
        <p:blipFill>
          <a:blip r:embed="rId3"/>
          <a:stretch/>
        </p:blipFill>
        <p:spPr>
          <a:xfrm>
            <a:off x="5562720" y="228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3"/>
          <p:cNvPicPr/>
          <p:nvPr/>
        </p:nvPicPr>
        <p:blipFill>
          <a:blip r:embed="rId4"/>
          <a:stretch/>
        </p:blipFill>
        <p:spPr>
          <a:xfrm>
            <a:off x="2971800" y="2743200"/>
            <a:ext cx="314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08:09:37Z</dcterms:created>
  <dc:creator>Алёся</dc:creator>
  <dc:description/>
  <dc:language>en-US</dc:language>
  <cp:lastModifiedBy>мвидео</cp:lastModifiedBy>
  <dcterms:modified xsi:type="dcterms:W3CDTF">2022-11-14T19:36:25Z</dcterms:modified>
  <cp:revision>66</cp:revision>
  <dc:subject/>
  <dc:title>Слайд 1</dc:title>
</cp:coreProperties>
</file>