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959-6852-4801-AA8A-39DB2A15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7A9-42FA-4DB9-97E5-EB33ED7F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213-616B-42F5-B098-BB6C19FA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0B5-DB9C-4315-AFA5-778B0A73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3035-1DED-48F5-992D-F98518BD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E256-92DB-438A-965B-E605F6A5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66E7-A7B3-4F78-B756-5893058A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1876-6275-4728-A818-CB8C33F5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6B6D-EE86-4D3E-AB76-B87A277E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395F-1DE1-4517-8287-C0F5AA29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B210-AA92-402D-8051-BE174678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F39-4D1F-4276-BAE0-B79C53B5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7EC2-208F-4820-BE2B-F839AD96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5A8E-2982-466E-84C1-851126C5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E30B-4D8C-4744-9F91-5035B4A9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6081-7171-4BE8-9A7F-342FC741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5211-3691-40FE-BA36-15D91526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FA51-609E-4D33-A2F2-E1AD9E29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310F-5F30-479A-BB4D-5E0AF807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8349-D285-427F-8757-16B0CB23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32D3-19DF-4641-940A-403A52B3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DD09-E2CF-4ABD-9934-A4D65327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1DC-4C69-4360-8102-F896ECA9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A41C1-E1CD-4D19-8FC3-8180B767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41F53-A795-4F5D-9F5A-E90CDBC5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16C34-C827-470F-830D-653CB5CE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6685-A3E4-48BC-A997-FCED789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B218-E5A5-4ADE-96D2-A7F38047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4134-150D-41DF-95F4-37DF5CA1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7049-1B30-4AD0-99DD-9B3D59D7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42DF-DD97-4E9E-A4A3-8F477D66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2507-80B5-4372-87F9-E55CC101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60FFA-E259-4F66-8D71-8774E56A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52A-4FB4-48F5-8D77-F6E50B57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B7276-347B-46EE-8471-8A18838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68B74-3EB8-42D5-9CBF-068AFC18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A265-58F7-4772-ACEB-79D1D489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2C95-9E6E-46FB-9334-216AF37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E0E1-F7CD-48A8-B580-C8C81D0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72E70-39EB-4CB6-A4DB-A4C8B7D6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27A04-3DFD-43CD-B454-F8DC1BA2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68CB-CBA9-4F56-B55B-CE20A3FB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DDE4-D250-412E-82EB-1BA02813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F3A0C-ED36-4832-AEF7-A11EEA2C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DA9-D21F-4EF8-B590-6EE6FB1A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8A5AC-20AD-4F69-B871-92E2C478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341C6-46C6-4C8D-A045-50507BEB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2B074-F472-4E5A-8FCD-C8B70137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BB561-E22A-4260-AD04-CC392750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786E1-3079-4AD5-9101-9B4ABAA9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4F52F-F154-48F5-A0BC-8BBCDF2E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E9DD2-100F-41E7-A791-6615FC13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83E5A-FDF1-49B3-AB5E-FD153630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48475-E52F-4C34-99A5-CEE2D4B0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38EC9-88E9-48A2-995D-2015577A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817-D6C0-45E8-919F-3847C128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E438C-7F72-4F7B-B0B1-E02F13E8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366-0144-4B5D-8961-B1839403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80C-457A-4559-8DDB-FCA324CA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D72-A61E-4055-A5D5-AFDF93D3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E97C4-FF9C-40EF-89FB-2991451E4B4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2EF1E-0F3F-4EAE-817C-2FFA55B6C12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110A9-B1A0-4710-BB3D-87C40AC9FDC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82009-15A8-457A-80AD-C0AF36D87F5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A04E6-63C9-4762-BDCA-CC80EC465CF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255160" cy="33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Проект по нетрадиционному рисованию «Необычное рисование. Золотая осень».</a:t>
            </a:r>
            <a:r>
              <a:rPr b="0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523880" y="4419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ыполнила : Волощенко Александра Игоревна детский сад №27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сновной этап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914040"/>
            <a:ext cx="9448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Беседы об осени, ее характерных признаках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НОД по рисованию в нетрадиционной технике, познанию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Рассматривание альбомов и картин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Наблюдение в природе  за осенними явлениями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Дидактические игры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Проведение работы с родителями: беседы, консультации. Оформление уголка для родителей по данной теме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Познакомить детей с техникой рисования пальчиками,  рисование манкой. Учить использовать в рисовании различные материалы: ватные палочки, манку, клей ПВА и т.д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Сделали подборку дидактических игр про осень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Мероприятия по работе с родителям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Консультация «Материалы для изо деятельности и способы их использования в семье»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Мастер –класс «Нетрадиционная техника рисования на молоке»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Совместная художественно-творческая работа детей и родителей по любой из разученных техник нетрадиционного рисования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29760"/>
            <a:ext cx="79250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Заключительный этап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218960" y="1447920"/>
            <a:ext cx="4647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рганизация выставки-конкурса продуктов художественной деятельности изготовленных совместно родителями с деть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2286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 ХОДЕ РЕАЛИЗАЦИИ ОСНОВНОГО ЭТАПА ПРОЕКТА БЫЛИ РЕАЛИЗОВАНЫ СЛЕДУЮЩИЕ ВИДЫ ДЕЯТЕЛЬНОСТ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640" y="-152280"/>
            <a:ext cx="84405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посредственно-образовательная деятельность «Осенний коврик»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838080" y="1561680"/>
            <a:ext cx="100584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0000" indent="0" algn="just">
              <a:lnSpc>
                <a:spcPct val="14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Задачи: познакомить детей с новой техникой нетрадиционного рисования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«Рисование ладошкой»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. Учить передавать образ солнца, листьев, строение и форму используя ладошки рук. Закрепить знания цвета 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(зеленого, желтого, красного, синего)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900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380880" y="4724280"/>
            <a:ext cx="4583160" cy="39625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-74520" y="3124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епосредственно-образовательная деятельность «Осенние мелодии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1920" y="3816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Непосредственно-образовательная деятельность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 «Осенние листочки»</a:t>
            </a:r>
            <a:br>
              <a:rPr sz="2500"/>
            </a:b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04760"/>
            <a:ext cx="6291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чи: Познакомить с приемами печати листьями. Развивать чувство композиции и ритма. Закрепить навыки рисования гуашью.</a:t>
            </a:r>
            <a:br>
              <a:rPr sz="2400"/>
            </a:b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600" y="100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Непосредственно-образовательная деятельность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«Золотой наряд осени»</a:t>
            </a:r>
            <a:br>
              <a:rPr sz="2600"/>
            </a:b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457200" y="1688760"/>
            <a:ext cx="960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0000" indent="-342720" algn="just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Закрепить умение рисовать пальцами. Закрепить представление об осени. Развивать воображе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900000" indent="-3427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6" name="Рисунок 6" descr=""/>
          <p:cNvPicPr/>
          <p:nvPr/>
        </p:nvPicPr>
        <p:blipFill>
          <a:blip r:embed="rId1"/>
          <a:stretch/>
        </p:blipFill>
        <p:spPr>
          <a:xfrm>
            <a:off x="1371600" y="2670120"/>
            <a:ext cx="39625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320" y="43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Дидактические игры, такие как: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3480" y="1600200"/>
            <a:ext cx="95486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Составь пейзаж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Подбери листочки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Оживи фигуру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Закончи картинку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пособствовали развитию воображения, мышления детей; совершенствовали композиционные навык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3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Подведение итогов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228240"/>
            <a:ext cx="6781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В ходе проекта совместно со взрослыми было сделано много интересного, а именно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оведены консультации для родителей 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«Нетрадиционные техники рисования»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одители стали более компетентны в вопросах развития художественно-творческих способностей у своих дет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547200"/>
            <a:ext cx="72388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00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-  С точки зрения родителей, работы их детей стали более выразительными и богатыми по тематике, улучшилось качество изображения. А у самих детей стал заметен более творческий подход к изобразительной деятельности.</a:t>
            </a:r>
            <a:br>
              <a:rPr sz="1900"/>
            </a:b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ahoma"/>
                <a:ea typeface="Tahoma"/>
              </a:rPr>
              <a:t>- Мне, как педагогу, проект помог систематизировать знания по нетрадиционным техникам рисования, узнать много нового, пополнить свою методическую копилку новыми материалами и пособиями.</a:t>
            </a:r>
            <a:br>
              <a:rPr sz="1900"/>
            </a:br>
            <a:endParaRPr b="0" lang="en-US" sz="19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3040" y="-360"/>
            <a:ext cx="6100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Тип проек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о виду проектной деятельности: познавательно- творческ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о составу участников: группово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о содержанию: монопроект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о продолжительности: долгосрочный (2 месяц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частники проек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дети, воспитатель, родите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По окончанию проекта была проведена выставка совместных работ родителей и детей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3" name="Picture 16" descr="51706_SDC13564"/>
          <p:cNvPicPr/>
          <p:nvPr/>
        </p:nvPicPr>
        <p:blipFill>
          <a:blip r:embed="rId1"/>
          <a:stretch/>
        </p:blipFill>
        <p:spPr>
          <a:xfrm rot="401400">
            <a:off x="274680" y="23792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7" descr="dDFhdbYrU6Q"/>
          <p:cNvPicPr/>
          <p:nvPr/>
        </p:nvPicPr>
        <p:blipFill>
          <a:blip r:embed="rId2"/>
          <a:stretch/>
        </p:blipFill>
        <p:spPr>
          <a:xfrm flipH="1" rot="21229800">
            <a:off x="4226040" y="2620080"/>
            <a:ext cx="31240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СПАСИБО ЗА ВНИМАНИЕ!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6120" y="151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Проблема проект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294920"/>
            <a:ext cx="6588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Работая с детьми дошкольного возраста,  я заметила, что нет главного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«своих»,  искренних рисунков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отсутствует  творческий подход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не поставлена рука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не правильный захват карандаша и других изобразительных материалов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плохо развита связная реч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28240" y="228600"/>
            <a:ext cx="609588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озникла необходимость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оздать такую систему занятий изобразительной деятельности, которая бы  стимулировала творческий потенци ал детей, развивала их художественно-творческие способности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95320" y="151920"/>
            <a:ext cx="76341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90c226"/>
                </a:solidFill>
                <a:latin typeface="Trebuchet MS"/>
              </a:rPr>
              <a:t>Цели проект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457200" y="741240"/>
            <a:ext cx="1013472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0000" indent="-342720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Цель проекта: развитие художественно-творческих способностей детей дошкольного возраста посредством использования нетрадиционных техник продуктивной деятельност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900000" indent="-342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90c226"/>
                </a:solidFill>
                <a:latin typeface="Trebuchet MS"/>
              </a:rPr>
              <a:t>Задачи проект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685800"/>
            <a:ext cx="609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ahoma"/>
                <a:ea typeface="Tahoma"/>
              </a:rPr>
              <a:t>познакомить детей с нетрадиционными техниками рисования: отпечатки листьями, пальчиковое рисование, рисование при помощи ватных палочек, мятой бумагой, рисование оттиском от картофеля, рисование на молоке, рисование манкой и т.д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 algn="just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ahoma"/>
                <a:ea typeface="Tahoma"/>
              </a:rPr>
              <a:t>развивать у детей творческие способности через нетрадиционные техники рисования;</a:t>
            </a:r>
            <a:r>
              <a:rPr b="1" lang="ru-RU" sz="1600" spc="-1" strike="noStrike">
                <a:solidFill>
                  <a:srgbClr val="404040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111111"/>
                </a:solidFill>
                <a:latin typeface="Tahoma"/>
                <a:ea typeface="Tahoma"/>
              </a:rPr>
              <a:t>воспитывать устойчивый интерес к изобразительной деятельности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 algn="just">
              <a:lnSpc>
                <a:spcPct val="150000"/>
              </a:lnSpc>
              <a:spcBef>
                <a:spcPts val="1125"/>
              </a:spcBef>
              <a:spcAft>
                <a:spcPts val="11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ahoma"/>
                <a:ea typeface="Tahoma"/>
              </a:rPr>
              <a:t>закрепление знаний об осени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 algn="just">
              <a:lnSpc>
                <a:spcPct val="150000"/>
              </a:lnSpc>
              <a:spcBef>
                <a:spcPts val="1125"/>
              </a:spcBef>
              <a:spcAft>
                <a:spcPts val="11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ahoma"/>
                <a:ea typeface="Tahoma"/>
              </a:rPr>
              <a:t>привлечь родителей к процессу развития художественных способностей детей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90c226"/>
                </a:solidFill>
                <a:latin typeface="Trebuchet MS"/>
              </a:rPr>
              <a:t>Ожидаемые результат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609840" y="609120"/>
            <a:ext cx="7848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0000" indent="-342720" algn="just">
              <a:lnSpc>
                <a:spcPct val="140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Дети познакомятся и овладеют простейшими техническими приемами работы с различными изобразительными материалами; научатся применять их в самостоятельной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0000" indent="-342720">
              <a:lnSpc>
                <a:spcPct val="140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оизойдёт повышение компетентности родителей воспитанников в вопросе рисования с использованием нетрадиционной техники, активное участие родителей в совместных творческих проект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0000" indent="-342720" algn="just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- получат практические навыки и умения по использованию техник 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печатанья листьями»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, «рисование пальцами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0000" indent="-342720" algn="just">
              <a:lnSpc>
                <a:spcPct val="14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- появится устойчивый интерес к разнообразным видам и способам рисова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0000" indent="-3427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12600" y="-385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90c226"/>
                </a:solidFill>
                <a:latin typeface="Trebuchet MS"/>
              </a:rPr>
              <a:t>Продукт проект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990720"/>
            <a:ext cx="5357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0000" indent="-3427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ahoma"/>
                <a:ea typeface="Tahoma"/>
              </a:rPr>
              <a:t>Выставка-конкурс продуктов художественной деятельности, изготовленных совместно родителями с детьми по изученным нетрадиционным техникам рисова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0000" indent="-342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8" name="Рисунок 1" descr=""/>
          <p:cNvPicPr/>
          <p:nvPr/>
        </p:nvPicPr>
        <p:blipFill>
          <a:blip r:embed="rId1"/>
          <a:stretch/>
        </p:blipFill>
        <p:spPr>
          <a:xfrm>
            <a:off x="-12600" y="3200400"/>
            <a:ext cx="7327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3124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Этапы проекта: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одготовительный этап: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ение актуальности темы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едложение идеи детям о предстоящем проекте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бозначение цели и задач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бзор методической литературы, поиск пособий для детей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бор опавших листьев, подготовка необходимого материал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ение предполагаемых результатов проект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4T23:43:47Z</dcterms:created>
  <dc:creator>Аня</dc:creator>
  <dc:description/>
  <dc:language>en-US</dc:language>
  <cp:lastModifiedBy>use</cp:lastModifiedBy>
  <dcterms:modified xsi:type="dcterms:W3CDTF">2022-11-14T19:09:2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