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20D-DF47-4FC5-A9DF-3F9B0875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9BA-A53B-40BE-AEEA-1D748804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D44-1E62-4A44-9E26-3F3FE3D6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5580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212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5580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0212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989-A374-4043-91FB-BF15EEEF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EBB-65C1-4C7B-8CCB-C5AA4C1D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282-C79B-451D-9846-1373DF4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C63B-7BCE-460E-AD10-58044DA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563-4B5B-4E30-B264-2C33EEA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8C93-6E5A-4097-8AF2-2F5BE38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8FA-9357-4633-9F3F-CE90251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C6C-94B8-43CE-9BF9-E6C388C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0DF-6F02-4E35-8262-63D31A5C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8CD-DDC3-4BCB-9D3F-4510784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909-DE54-4B7F-9E57-51B92D9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383-4F74-4265-BA37-FA3E578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4329-082F-4C50-B233-8D55B1D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12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12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D87A-23E0-471E-B7AC-A2A4411C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805-6C1F-4695-A876-9743A254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D84-FEEE-454A-ADB9-475EED0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93C-E6A6-42CD-9266-CA770B2C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466-8DA7-4F08-A46D-9CB3EB48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6AE-33C4-48E6-87AF-1C0D133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AA3-C3A1-44AA-A7E3-8ABBBE3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722-D0F4-45A5-B466-ADAADCC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cxnSp>
          <p:nvCxnSpPr>
            <p:cNvPr id="12" name="Straight Connector 1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" name="Straight Connector 1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4" name="Freeform 1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7"/>
            <p:cNvSpPr/>
            <p:nvPr/>
          </p:nvSpPr>
          <p:spPr>
            <a:xfrm>
              <a:off x="-8640" y="-864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F83F2-C39B-4E88-9BA0-6447E164908A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64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66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67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3A0D54-EDAD-4C45-8554-13B4D7C73CBA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3160" y="1523880"/>
            <a:ext cx="7848360" cy="26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Причины низкой успеваемости обучающихся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30760" y="4050720"/>
            <a:ext cx="58262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83400"/>
            <a:ext cx="8381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лучинская общеобразовательная средняя школа №1 с углубленным изучением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53160" y="49831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енков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1757880" y="61110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5803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т. Излуч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5803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798696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7. Причина - гадже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ни негативно влияют на успехи детей в учебе. Также гаджеты плохо влияют на целеустремленность, стремление познавать новые вещи и умение сохранять самообладание. Благодаря исследованию выяснилось, что подавляющее большинство детей тратит шестую часть дня на просмотр телевизора и игры на смартфонах, планшетах и прочих цифровых устройствах. Каждый час игр и просмотра телешоу заметно снижает вероятность того, что дети полностью выполнят домашнее зада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словам психологов, длительное увлечение видеоиграми  снижает мотивацию школьников и делает их нетерпеливыми.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Рекомендаци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аджеты должны быть в жизни детей, но дозировано и под родительским контролем. Грамотное и умеренное использование гаджетов действительно будет способствовать развитию ребёнка и поможет ему шагать в ногу со времене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" name="Picture 4" descr="http://b1.m24.ru/c/758158.483xp.jpg"/>
          <p:cNvPicPr/>
          <p:nvPr/>
        </p:nvPicPr>
        <p:blipFill>
          <a:blip r:embed="rId1"/>
          <a:srcRect l="0" t="7778" r="908" b="0"/>
          <a:stretch/>
        </p:blipFill>
        <p:spPr>
          <a:xfrm>
            <a:off x="2362320" y="4952880"/>
            <a:ext cx="3352320" cy="18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64880" y="260640"/>
            <a:ext cx="8799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Times New Roman"/>
              </a:rPr>
              <a:t>8.  Причина:</a:t>
            </a:r>
            <a:r>
              <a:rPr b="0" lang="ru-RU" sz="31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1" lang="ru-RU" sz="3100" spc="-1" strike="noStrike">
                <a:solidFill>
                  <a:srgbClr val="404040"/>
                </a:solidFill>
                <a:latin typeface="Times New Roman"/>
              </a:rPr>
              <a:t>слабый контакт родителей и учителей.</a:t>
            </a:r>
            <a:r>
              <a:rPr b="1" i="1" lang="ru-RU" sz="31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ычно именно из-за этого не удаётся вовремя упредить срыв ребёнка в учении, пропуски уроков и целых учебных дней, отставание по программе, а значит, и помочь устранить пробелы в знаниях.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уществует противоречие. Большинство родителей - частые гости в школе, пока их дети учатся в младших классах. Родительско - учительский контакт заметно ослабевает в средних классах, когда, в основном, появляются трудности в овладении материалом, а стремление к независимости от родителей и учителей намного опережает ответственность за себя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8" name="Picture 2" descr="http://img1.liveinternet.ru/images/attach/c/2/72/186/72186242_1300384340_j0442432.jpg"/>
          <p:cNvPicPr/>
          <p:nvPr/>
        </p:nvPicPr>
        <p:blipFill>
          <a:blip r:embed="rId1"/>
          <a:stretch/>
        </p:blipFill>
        <p:spPr>
          <a:xfrm>
            <a:off x="3200400" y="4267080"/>
            <a:ext cx="3809520" cy="21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33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ричина: родители не приучили ребёнка с малолетства преодолевать трудно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тели  слишком часто бросалась помогать своему чаду при малейших трудностях. И вот ребенок в первые годы учится вполне успешно, а в средних классах, где задачи становятся посложнее, предметов - больше, программа - обширнее, сразу пасует, у него пропадает интерес вообще к познанию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228600" y="3200400"/>
            <a:ext cx="7924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телям следует взять на себя только то, что ребенок не может выполнить сам, остальное предоставьте делать ему самому. По мере освоения ребенком новых действий постепенно передавайте их ему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276720" y="4876920"/>
            <a:ext cx="20570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313400" cy="67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Почему школьник плохо учится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36720" y="1447920"/>
            <a:ext cx="8226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Ребёнок – не робот, привязанный к книжкам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Гулять и играть должен юный мальчишк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Девчонка не хочет всегда сидеть дома, –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Такая проблема всем взрослым знакома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Как всё же ребёнка заставить учитьс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За книжкой упорно весь вечер сидеть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В то время как может он просто влюбитьс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И в мыслях в другие миры улететь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Не надо ребёнка ругать бесконечно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Попробуйте лучше в нём волю развить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С ним вместе вам надо учиться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конечно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А главное –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просто ребёнка любить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4" name="Picture 9" descr="5"/>
          <p:cNvPicPr/>
          <p:nvPr/>
        </p:nvPicPr>
        <p:blipFill>
          <a:blip r:embed="rId1"/>
          <a:stretch/>
        </p:blipFill>
        <p:spPr>
          <a:xfrm>
            <a:off x="7813440" y="152280"/>
            <a:ext cx="13140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40404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9880" y="856080"/>
            <a:ext cx="375660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1 класс – 30 че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480" y="2971800"/>
            <a:ext cx="837864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1 группа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ащихся характеризуется слабой подготовленностью к школе, недостаточной сформированностью 2-3 психических процессов или необходимых общеучебных умений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Они нуждаются в постоянном внимании со стороны учителя.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2 групп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- достаточная подготовленность учащихся к школе, владение основным обязательным объемом знаний и умений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Этим учащимся требуется определенная помощь со стороны учителя при обобщении изученн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3 группа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высокая степень подготовки к школе,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раженная познавательная мотивация, способность к творчеству при выполнении задан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rcRect l="0" t="19052" r="-2856" b="0"/>
          <a:stretch/>
        </p:blipFill>
        <p:spPr>
          <a:xfrm>
            <a:off x="252000" y="257760"/>
            <a:ext cx="2743560" cy="182376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5"/>
          <p:cNvCxnSpPr/>
          <p:nvPr/>
        </p:nvCxnSpPr>
        <p:spPr>
          <a:xfrm>
            <a:off x="6293880" y="1378440"/>
            <a:ext cx="869040" cy="70200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cxnSp>
        <p:nvCxnSpPr>
          <p:cNvPr id="124" name="Прямая со стрелкой 7"/>
          <p:cNvCxnSpPr/>
          <p:nvPr/>
        </p:nvCxnSpPr>
        <p:spPr>
          <a:xfrm flipH="1">
            <a:off x="3211920" y="1346040"/>
            <a:ext cx="1093680" cy="73440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>
            <a:off x="5226120" y="1502640"/>
            <a:ext cx="13680" cy="62208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sp>
        <p:nvSpPr>
          <p:cNvPr id="126" name="TextBox 13"/>
          <p:cNvSpPr/>
          <p:nvPr/>
        </p:nvSpPr>
        <p:spPr>
          <a:xfrm>
            <a:off x="2666880" y="2168640"/>
            <a:ext cx="151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1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6293880" y="2080440"/>
            <a:ext cx="1447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3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622400" y="2198880"/>
            <a:ext cx="115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2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995920" y="271800"/>
            <a:ext cx="556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1  класс - он трудный сам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успеваемость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тавание в учении, при котором школьник не овладевает на удовлетворительном уровне за отведенное время знаниями, предусмотренными учебной программо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304920" y="457200"/>
            <a:ext cx="8505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SourceSans"/>
              </a:rPr>
              <a:t>Успеваемость</a:t>
            </a:r>
            <a:r>
              <a:rPr b="0" lang="ru-RU" sz="3200" spc="-1" strike="noStrike">
                <a:solidFill>
                  <a:srgbClr val="010101"/>
                </a:solidFill>
                <a:latin typeface="SourceSans"/>
              </a:rPr>
              <a:t> - </a:t>
            </a:r>
            <a:r>
              <a:rPr b="0" lang="ru-RU" sz="3200" spc="-1" strike="noStrike">
                <a:solidFill>
                  <a:srgbClr val="010101"/>
                </a:solidFill>
                <a:latin typeface="Times New Roman"/>
              </a:rPr>
              <a:t>происходит от слова «успевать». Успевание – это скорость. Успевающий ученик успевает освоить заданное учителем и уложиться в назначенный срок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www.miloserdie.ru/wp-content/uploads/2015/10/33507005_1920398691367623_6887318262040756224_n.jpg"/>
          <p:cNvPicPr/>
          <p:nvPr/>
        </p:nvPicPr>
        <p:blipFill>
          <a:blip r:embed="rId1"/>
          <a:stretch/>
        </p:blipFill>
        <p:spPr>
          <a:xfrm>
            <a:off x="6095880" y="358128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1.  Плохо читает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многих неуспевающих именно плохое чтение стало первопричиной отставания в учебе в начальной школе. Оптимальный темп: темп разговорной речи от 120 до 150 слов в мину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показатель эффективности работы учителя – это продвинутость учащихся в умении читать по сравнению с результатами предыдущей провер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228600" y="3276720"/>
            <a:ext cx="85341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ь регулярно мониторинг техники чтения. Свои результаты ребята заносят в портфолио, знакомят родителей. На каждого ученика составляется индивидуальная карта состояния техники чтения. Ребята завели читательские дневники, где записывают прочитанные произведения. Делают зарисовки, записывают понравившиеся отрывки. Каждый день учащиеся фиксируют в таблице количество прочитанных страниц, родители ставят свои росписи. В конце месяца подсчитывается общее число страниц, прочитанных за месяц. В конце такого листа дается норма техники чтения. Ребята наглядно видят к чему надо стремиться. Такая работа дает существенный результат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44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2. Причина - наследственнос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следственность» — это то, что изменить нельз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ного большее значение для хорошей учебы имеет социальная среда, забота родителей, собственное упорство и трудолюб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говорите с родителями. Признавать особенности своего ребенка, уважать и развивать то хорошее, что есть в нем, и помогать ребенку правильно обходиться со своими слабыми сторон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6" name="Picture 4" descr="Картинки по запросу &quot;что делать если у ребенка плохая наследственность в учебе&quot;"/>
          <p:cNvPicPr/>
          <p:nvPr/>
        </p:nvPicPr>
        <p:blipFill>
          <a:blip r:embed="rId1"/>
          <a:stretch/>
        </p:blipFill>
        <p:spPr>
          <a:xfrm>
            <a:off x="2743200" y="4191120"/>
            <a:ext cx="37335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 Причин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успешной учёбе может помешать ряд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чин медицинского план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атическая ослабленность, нейродинамические, двигательные нарушения, расстройства психоневрологической сферы, причиной плохих оценок может стать авитаминоз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8" name="Picture 2" descr="http://www.classifieds24.ru/images/5879/5878377/thumb_1.jpg"/>
          <p:cNvPicPr/>
          <p:nvPr/>
        </p:nvPicPr>
        <p:blipFill>
          <a:blip r:embed="rId1"/>
          <a:stretch/>
        </p:blipFill>
        <p:spPr>
          <a:xfrm>
            <a:off x="7413840" y="5181480"/>
            <a:ext cx="1729800" cy="14475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304920" y="2438280"/>
            <a:ext cx="83815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райте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говорить с родителями,п осоветова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репить иммун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не д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ратить драгоценное время впустую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волять ребёнку пропускать школу без уважительной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2285640" cy="228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2526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 Причин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овой барьер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может ребенок, не знающий языка страны, куда переехала его семья, нормально учиться в школе или дружить со сверстникам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Прямоугольник 1"/>
          <p:cNvSpPr/>
          <p:nvPr/>
        </p:nvSpPr>
        <p:spPr>
          <a:xfrm>
            <a:off x="380880" y="1773720"/>
            <a:ext cx="8305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говориться с родителями, что дома они разговаривают на русском языке, объяснить, что значат некоторые слова на русском (кушать, туалет, пить).Давать учить с ребенком группы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80880" y="3420000"/>
            <a:ext cx="8076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ация идет довольно быстро и без особых проблем. детишки начинают учить язык самостоятельно. Исключения бывают, но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Картинки по запросу &quot;картинки про языковой барьер&quot;"/>
          <p:cNvPicPr/>
          <p:nvPr/>
        </p:nvPicPr>
        <p:blipFill>
          <a:blip r:embed="rId1"/>
          <a:srcRect l="0" t="0" r="846" b="11870"/>
          <a:stretch/>
        </p:blipFill>
        <p:spPr>
          <a:xfrm>
            <a:off x="2895480" y="4648320"/>
            <a:ext cx="2819160" cy="20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64072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5.  Причин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 - у ребёнка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сформировалось чувство страха перед школой. Боязнь отвечать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ы могут быть разными: общий тревожный фон в восприятии ребёнком людей и действительности, чьи-то нелестные отзывы о школе, необоснованные угрозы родителей. Страх перед школой детям могут передать родители, если у них самих в детстве были проблемы в школ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380880" y="3352680"/>
            <a:ext cx="8511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валите малыша за успехи, за его таланты и способности в определенных сферах учебы и жизни. Если вы поощряете ребенка, ему легче будет подтягивать свои слаб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Картинки по запросу &quot;картинка получил 2&quot;"/>
          <p:cNvPicPr/>
          <p:nvPr/>
        </p:nvPicPr>
        <p:blipFill>
          <a:blip r:embed="rId1"/>
          <a:stretch/>
        </p:blipFill>
        <p:spPr>
          <a:xfrm>
            <a:off x="3048120" y="4648320"/>
            <a:ext cx="2992680" cy="19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640" y="188640"/>
            <a:ext cx="8640720" cy="38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</a:rPr>
              <a:t>6.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Прич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статка силы воли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рой  ребенок даже ругает себя за лень, слабость характера, но толку от этого бывает немного, поскольку причина слабоволия лежит обычно глубже. Гнев, ругательные ярлыки, угрозы способны только усугубить ситуацию и стать причиной «школьной фобии».  Решить эту проблему можно вместе с ребёнком, а не в борьбе с ним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одители сами иногда становятся дезорганизующим факторо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да по неуважительным поводам разрешают не ходить в школу, пропускать уроки, возвращаются с детьми из отпуска не к 1 сентября, а на неделю позже и т.д., создавая у детей отношение к школе как к чему-то необязательному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3" name="Picture 2" descr="Картинки по запросу &quot;картинка получил 2&quot;"/>
          <p:cNvPicPr/>
          <p:nvPr/>
        </p:nvPicPr>
        <p:blipFill>
          <a:blip r:embed="rId1"/>
          <a:srcRect l="0" t="0" r="-2532" b="6739"/>
          <a:stretch/>
        </p:blipFill>
        <p:spPr>
          <a:xfrm>
            <a:off x="6172200" y="4267080"/>
            <a:ext cx="2590560" cy="20304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228600" y="3962520"/>
            <a:ext cx="59202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же страшная оценка "2" получена из-за невнимательности (забыл сделанную работу дома) или халатности (успею выучить потом, не сегодня), то в таком случае следует уделить особое внимание самодисциплине, изменить распорядок дня и отношение к учебе. Не зря ведь существует народная поговорка: "Сделал дело - гуляй смел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804</TotalTime>
  <Application>LibreOffice/7.4.7.2$Linux_X86_64 LibreOffice_project/40$Build-2</Application>
  <AppVersion>15.0000</AppVersion>
  <Words>486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Елена</dc:creator>
  <dc:description/>
  <dc:language>en-US</dc:language>
  <cp:lastModifiedBy>Ирина</cp:lastModifiedBy>
  <cp:lastPrinted>1601-01-01T00:00:00Z</cp:lastPrinted>
  <dcterms:modified xsi:type="dcterms:W3CDTF">2021-03-10T13:33:2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  <property fmtid="{D5CDD505-2E9C-101B-9397-08002B2CF9AE}" pid="4" name="Version">
    <vt:r8>1</vt:r8>
  </property>
</Properties>
</file>