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512-5582-461E-95EB-9EC6642D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1DC-04D2-420D-9B42-54B7D9E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3E5-A841-425C-A8C0-9FEB1739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5F7-B7BA-4E5D-BE5F-7A6CEB27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90F-C676-48E7-92AB-929B115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0F8-6F20-4E2F-8792-7265736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142-1538-4B93-B0FA-17514ED7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79A-2C58-4CBB-99D7-46B96D1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EEB-6019-4806-98C4-F1FF7502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1A3-000B-41AB-A206-439A935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762-2D93-4B0A-8FAD-DBA2508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BA8-9A39-4E09-BFE4-AED7699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D07B-F2B1-4B25-A710-1084316D6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Оформление зимнего участ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3920" y="4647960"/>
            <a:ext cx="30481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спитатель:                                                                     Воскобоева Л.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04920" y="4130640"/>
            <a:ext cx="3047760" cy="2589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3047760" cy="2589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1905120" y="72864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ьное автоном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«Детский сад № 10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381400" cy="2419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7760" y="826560"/>
            <a:ext cx="3886200" cy="46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а дымковская игруш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ареет сотню л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расоте, в таланте русско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находится секр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играй, моя гармошка,                                                                                                                                                 Ты,подруга,подпевай,                                                Мастеров Руси великой                                                       Во весь голос прославляй!                                                                                                                                                                                                                                                      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жные постройки на участке - «Дымковская игрушка»                                      </a:t>
            </a: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Чем знаменито Дымково?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грушкою своей.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 ней нету цвета дымного,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есть любовь людей.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 ней что-то есть от радуги,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т капелек росы.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 ней что-то есть от радости,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Гремящей, как басы.</a:t>
            </a:r>
            <a:br>
              <a:rPr sz="1800"/>
            </a:b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ымковская игрушка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является одним из старейших русских народных промыслов. Он впервые возник 400 лет назад и до сих пор не потерял своей актуальности. На протяжении этого времени менялся облик дымковской игрушки, но особенность ее изготовления, делающая ее уникальной, оставалась прежней.</a:t>
            </a:r>
            <a:br>
              <a:rPr sz="1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095880" y="4268880"/>
            <a:ext cx="30481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Лепилось, вырезалось, водой все заливалось. все лишнее ровнялось -- и вот как оказалось!                                                                                                                         Красиво все и ярко! Ну просто загляденье! Барыня - красавиц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7" descr=""/>
          <p:cNvPicPr/>
          <p:nvPr/>
        </p:nvPicPr>
        <p:blipFill>
          <a:blip r:embed="rId1"/>
          <a:stretch/>
        </p:blipFill>
        <p:spPr>
          <a:xfrm>
            <a:off x="1219320" y="988920"/>
            <a:ext cx="5029200" cy="586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095880" y="4268880"/>
            <a:ext cx="30481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60984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 печка очень нравится! В печке шарики пекутся, А в корзинке - испек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-792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60984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Есть, где ловкость показать! Друг за другом пролез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60948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имою всем есть дело: Все заняты - играют, друг другу помога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30481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1-14T15:14:1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