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CE79F-593F-442D-96C1-8CFE86721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D933E-D1C8-4528-888B-A716D33F9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19F48-DE7E-4934-8F1F-25CE2265A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66D3D-D0FD-4BB9-BEA4-3E6577B3B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731E6-90AF-4300-8BD3-D9B31A9BA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EE4D0-C565-480E-8C98-DD169702A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E50C9-47B4-488C-8E34-42BDB1A12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01ADC-875D-4BDB-AE5F-A9568176A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E120C-4D36-46E0-A511-D214C70E6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D364D-116B-4780-9B89-C4CB970B5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904A5-701A-4637-BA70-C60E456C6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08097-AC31-4B35-B9F4-22132867B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3FFC2-1CD2-4E35-9FBC-476B762D2B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380880" y="9907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езентация на тему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y home town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ыполнила: ученица 6А класс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Шишкина Дарь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АОУ СОШ №8 г.Старая Русс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уководитель: Крылова А.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990720" y="3429000"/>
            <a:ext cx="2097000" cy="2941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533520" y="380880"/>
            <a:ext cx="4114800" cy="27417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4876920" y="406440"/>
            <a:ext cx="3962160" cy="27176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609480" y="3505320"/>
            <a:ext cx="396252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4876920" y="3505320"/>
            <a:ext cx="3962160" cy="272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990720" y="3429000"/>
            <a:ext cx="2097000" cy="29415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2438280" y="380880"/>
            <a:ext cx="5486400" cy="38052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3581280" y="1064520"/>
            <a:ext cx="3505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a famous medical resort in my town. It has healthing mud and mineral wa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762120" y="609480"/>
            <a:ext cx="3886200" cy="25909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4952880" y="609480"/>
            <a:ext cx="3886200" cy="259236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685800" y="3429000"/>
            <a:ext cx="3886200" cy="2743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4"/>
          <a:stretch/>
        </p:blipFill>
        <p:spPr>
          <a:xfrm>
            <a:off x="4952880" y="3352680"/>
            <a:ext cx="3862440" cy="274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990720" y="3429000"/>
            <a:ext cx="2097000" cy="294156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2514600" y="0"/>
            <a:ext cx="5334120" cy="441972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3429000" y="835560"/>
            <a:ext cx="3809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. Russa was visited by famous personalities. For exemple, Peter I, Cathirine II and Fyodor Mikhailovich Dostoevsk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257800" y="1600200"/>
            <a:ext cx="3371760" cy="49068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286000" y="2895480"/>
            <a:ext cx="2752560" cy="363384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228600" y="152280"/>
            <a:ext cx="2754360" cy="363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990720" y="3429000"/>
            <a:ext cx="2097000" cy="294156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2666880" y="304920"/>
            <a:ext cx="5334120" cy="36986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3657600" y="1064520"/>
            <a:ext cx="3505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writer and his family lived in our town. We have a museum of Dostoevsk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990720" y="3429000"/>
            <a:ext cx="2097000" cy="294156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4"/>
          <a:stretch/>
        </p:blipFill>
        <p:spPr>
          <a:xfrm>
            <a:off x="990720" y="3429000"/>
            <a:ext cx="2097000" cy="2941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609480" y="914400"/>
            <a:ext cx="8001000" cy="5332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990720" y="3429000"/>
            <a:ext cx="2097000" cy="29415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2666880" y="304920"/>
            <a:ext cx="5334120" cy="36986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3733920" y="759600"/>
            <a:ext cx="3124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addition, my city is the native land of many famous people, such as the Sergey Rachmaninoff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343400" y="304920"/>
            <a:ext cx="4572000" cy="60958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457200" y="3429000"/>
            <a:ext cx="2097000" cy="29415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1219320" y="228600"/>
            <a:ext cx="3733560" cy="327672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1752480" y="1522800"/>
            <a:ext cx="294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am proud my tow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990720" y="3429000"/>
            <a:ext cx="2097000" cy="29415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2438280" y="0"/>
            <a:ext cx="6019920" cy="464832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3809880" y="911880"/>
            <a:ext cx="3733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y town is also full of wonderful parks. Life here is very simple and quite. I invite you to come and see my home tow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438280" y="0"/>
            <a:ext cx="6019920" cy="4648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y home tow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546120" y="1600200"/>
            <a:ext cx="8050320" cy="45259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533520" y="1600200"/>
            <a:ext cx="8049960" cy="452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533520" y="2971800"/>
            <a:ext cx="2435040" cy="34146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2362320" y="304920"/>
            <a:ext cx="5790960" cy="38098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809880" y="140220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lo! My name is Dasha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34880" y="2971800"/>
            <a:ext cx="2446560" cy="34290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2514600" y="152280"/>
            <a:ext cx="5334120" cy="40388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809880" y="1295280"/>
            <a:ext cx="365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tell you  about my home town.  I live in Staraya Russ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57200" y="3124080"/>
            <a:ext cx="2422440" cy="33991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286000" y="152280"/>
            <a:ext cx="6172200" cy="4191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914400"/>
            <a:ext cx="3352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y town is not very big, but it is very beautiful. The town is situated on the Polist and Porusya riv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57200" y="914400"/>
            <a:ext cx="8229600" cy="5207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990720" y="3429000"/>
            <a:ext cx="2097000" cy="29415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2666880" y="685800"/>
            <a:ext cx="4800600" cy="33289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990720" y="3429000"/>
            <a:ext cx="2097000" cy="29415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3505320" y="1369800"/>
            <a:ext cx="3054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raya Russa is an ancient town.  It was founded in 1167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609480" y="1066680"/>
            <a:ext cx="7848720" cy="4996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990720" y="3429000"/>
            <a:ext cx="2097000" cy="29415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2438280" y="0"/>
            <a:ext cx="5410440" cy="50292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3657600" y="682560"/>
            <a:ext cx="33526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own is not modern. There are a lot of old buildings, museums, ancient churches, monuments and two cinemas in St. Russ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11-06T12:37:16Z</dcterms:created>
  <dc:creator>анна</dc:creator>
  <dc:description/>
  <dc:language>en-US</dc:language>
  <cp:lastModifiedBy>анна</cp:lastModifiedBy>
  <dcterms:modified xsi:type="dcterms:W3CDTF">2022-11-14T19:23:18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