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E34-3A37-44C5-A3E4-3DBA2A50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309-DF04-4664-B823-CF083B47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6D3-EA59-406F-9D28-253BDBC7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731-3E9D-48CF-AA7F-399B95EB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54C-E301-4961-A906-CCFC66DB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E2D-6945-406D-8F6C-4DDEE589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EB0-B8DC-4E46-9A79-A79250D7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1D0-17CC-4ABF-A0AD-795764FA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CB3-6455-4007-A1F1-2973FEA8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FB6-4E79-46C9-89A8-01DF61E6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66C-E130-4FCB-97C0-3A002851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F0C-4DB2-4145-B706-B75AAE72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E716-339F-45AD-953F-56F312DEAE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31640" y="4599000"/>
            <a:ext cx="500076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оспитатель: Воскобоева Л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681280" y="98280"/>
            <a:ext cx="4681440" cy="43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Муниципал</a:t>
            </a: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ь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ое автономное образовательное учреждение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 «Детский сад № 101» </a:t>
            </a: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нкурс литературно-театрализованных постановок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«Алло, мы ищем таланты!!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31640" y="97920"/>
            <a:ext cx="8280720" cy="67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Ребята, сегодня я предлагаю вам совершить путешествие в необычную, сказочную страну, в страну, где происходят чудеса и превращения, где оживают куклы и начинают говорить звери. Вы догадались, что это за стран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Дети: – ТЕАТР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А знаете ли вы, кто живет в этой стран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Дети: – Куклы, сказочные герои, артис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Да, ребята. Вы правильно сказали. А что делают артисты, вы знаете?                   (Ответы дет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А вы хотели бы стать артистам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Дети: – 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У меня есть волшебная палочка и сейчас с ее помощью я всех вас превращу в артистов. Закройте все глаза, я произношу волшебные сло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Раз, два, три — поверни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И в артиста превратис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Откройте глаза. Теперь вы все артисты. Приглашаю вас войти в удивительный мир театр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054160" y="3886200"/>
            <a:ext cx="489276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035000" y="4599000"/>
            <a:ext cx="6931080" cy="20638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5560" y="998640"/>
            <a:ext cx="45720" cy="58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054160" y="3886200"/>
            <a:ext cx="489276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4" descr=""/>
          <p:cNvPicPr/>
          <p:nvPr/>
        </p:nvPicPr>
        <p:blipFill>
          <a:blip r:embed="rId1"/>
          <a:stretch/>
        </p:blipFill>
        <p:spPr>
          <a:xfrm>
            <a:off x="11160" y="90792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2054160" y="3886200"/>
            <a:ext cx="489276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2054160" y="3886200"/>
            <a:ext cx="489276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2054160" y="3886200"/>
            <a:ext cx="489276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054160" y="3886200"/>
            <a:ext cx="489276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054160" y="3886200"/>
            <a:ext cx="489276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2054160" y="3886200"/>
            <a:ext cx="489276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7:37:26Z</dcterms:created>
  <dc:creator>Администратор</dc:creator>
  <dc:description/>
  <dc:language>en-US</dc:language>
  <cp:lastModifiedBy>Пользователь</cp:lastModifiedBy>
  <dcterms:modified xsi:type="dcterms:W3CDTF">2022-11-14T15:30:53Z</dcterms:modified>
  <cp:revision>15</cp:revision>
  <dc:subject/>
  <dc:title>Слайд 1</dc:title>
</cp:coreProperties>
</file>