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00850"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85287-D534-464A-8450-4DFC9AE39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35C7D-90EB-4AC5-A405-5EB162681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9B10A-B2DC-4874-A031-754505855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0030F-BDD0-4C03-B723-DE91F7043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C480D-56BE-4C8E-A50A-0C22CE2C2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7DBBF-8E4A-4E58-BA48-91DF1FE60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24F5E-EF02-4284-AAD8-325218904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7AFCB-2832-4F99-BC86-A77C0AF09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1F3DD-3B7A-4DEC-9B88-6CBB3CE79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61D60-C6FA-405F-93BE-C00127535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95403-0442-49AA-9AB4-B1D19F0BA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452B0-4418-42A6-9BE6-33E4C35DF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036E-B802-4568-AE6A-8F6B69F15B5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Расчетный счет. для аккумулирования средств, поступающих в фонд марафона"/>
          <p:cNvPicPr/>
          <p:nvPr/>
        </p:nvPicPr>
        <p:blipFill>
          <a:blip r:embed="rId1"/>
          <a:stretch/>
        </p:blipFill>
        <p:spPr>
          <a:xfrm>
            <a:off x="0" y="0"/>
            <a:ext cx="9144000" cy="4437000"/>
          </a:xfrm>
          <a:prstGeom prst="rect">
            <a:avLst/>
          </a:prstGeom>
          <a:ln w="0">
            <a:noFill/>
          </a:ln>
        </p:spPr>
      </p:pic>
      <p:sp>
        <p:nvSpPr>
          <p:cNvPr id="42" name="TextBox 4"/>
          <p:cNvSpPr/>
          <p:nvPr/>
        </p:nvSpPr>
        <p:spPr>
          <a:xfrm>
            <a:off x="2362680" y="5373720"/>
            <a:ext cx="587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дготовила: воспитатель группы №4 ( 7-9 класс девочк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ШИЛЯЕВА Н.Г.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Работа в группах Бывают ли опасные для здоровья профессии, приводящие к инвалидности? Какие опасности подстерегают нас в жизни, в быту?"/>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Обсуждение в группе А как живут люди с проблемами слуха? Ведь на улице они не слышат гудков автомобилей, их не окликнешь, не предупредишь об опасности издали. В лесу мы "/>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В 1992 году Генеральная Ассамблея ООН провозгласила 3 декабря Международным Днём инвалидов.. И хотя этот день трудно назвать праздником, но  этот день – день сильных и устремлённых людей, людей, начавших жизнь заново, людей, понимающих, как эта жизнь дорога, какой бы она не была!"/>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Физкультминутка Встаньте. Правую руку уберите за спину. Левой рукой снимите с крючка и откройте ранец. Достаньте линейку. Удобно ли вам было выполнять мои команды? А теперь встаньте около своих парт и очень аккуратно, не мешая друг другу, попытайтесь присесть на одной ноге.  Расскажите, легко ли вы выполнили это задание? Теперь попросите соседа по парте помочь вам присесть на одной ноге. Когда задание «присесть» вам было легче выполнить?"/>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Ник Вуйчич Ник С рождения обладал редкой генетической патологией — тетраамелией: у мальчика отсутствовали полноценные конечности — обе руки и обе ноги. Ник научиться ходить, плавать, кататься на скейте, сёрфинговой доске, играть на компьютере и писать. Он научился жить со своим недостатком, делясь своим опытом с окружающими и став всемирно известным мотивационным спикером. Его выступления, в основном, обращены к детям и молодёжи, в том числе и с ограниченными возможностями, в надежде на активизацию в них поиска смысла жизни и развития своих способностей."/>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Русская спортсменка завоевала третье золото Паралимпиады-2018     Россиянка Екатерина Румянцева завоевала третью золотую медаль на  Паралимпийских играх  в Пхенчхане, одержав победу в биатлонной гонке на 10 км среди стоячих спортсменок,"/>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Знаменитые танцоры-инвалиды Ма Ли и Джай Сяовэй стали национальными героями Китая. Она потеряла руку в возрасте девятнадцати лет в автокатастрофе, а он остался без ноги в четырехлетнем возрасте из-за несчастного случая. Пара получила серебряную награду в танцевальном конкурсе, в котором принимали участие 7 000 человек. Для создания их знаменитого номера, который стал хитом, им понадобились два года упорных тренировок. Танцевальная пара покорила не только зрительный зал, аплодировавший им стоя, но и тысячи людей по всему миру."/>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Алексей Маресьев (1916 - 2001) - легендарный летчик, Герой Советского Союза. 4 апреля 1942 года в районе так называемого "/>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Делайте людям добро, разделяйте с ними и радость и беду, любите, уважайте друг друга. И тогда ваше сердце будет гореть ярким светом."/>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s://fsd.kopilkaurokov.ru/up/html/2018/03/21/k_5ab2870fb58ad/img_user_file_5ab2871048181_2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5" name="Picture 6" descr="https://present5.com/presentation/2063159_158930262/image-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s://fsd.kopilkaurokov.ru/up/html/2018/03/21/k_5ab2870fb58ad/img_user_file_5ab2871048181_2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26" descr="( звучит песня на слова Ани Лорак «Ты мне так важен! Ты мне так нужен!») Зажигай сердце,  Обжигай душу,  Ты мне так важен,  Ты мне так нужен.  Забирай сердце,  Обнимай душу,  Ты самый нежный,  Ты самый лучший ."/>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Я рад общаться с тобой»."/>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Протягиваем руку помощи ближнему. Как вы понимаете это выражение? Протяни   руку   помощи   ближнему  и ты уведешь счастье, которое придет.  Как   вы  хотите существовать тут?"/>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Все его дольки плотно прижаты друг к другу, и если не окажется хотя бы одной, самой маленькой, апельсин перестанет быть целым, единым. Его яркий, насыщенный цвет символизирует открытость, доброту и тепло человеческих взаимоотношений. Как в апельсине, символе акции, все дольки не разделимы, так и в благотворительном марафоне важен любой вклад в общее дело."/>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В. Катаев «Цветик – семицветик» И в ту же минуту мальчик вскочил со скамьи, стал играть с Женей в салки и бегал так хорошо, что девочка не могла его догнать, как ни старалась."/>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Работа в группе Какое же решение приняла Женя с последним лепестком? Как вы думаете, какое из всех семи желаний было обдумано? Правильно самое обдуманное и правильное желание было седьмое."/>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Кто же это такие - инвалиды? "/>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0-12T12:16:19Z</dcterms:created>
  <dc:creator>Andrey</dc:creator>
  <dc:description/>
  <dc:language>en-US</dc:language>
  <cp:lastModifiedBy>Andrey</cp:lastModifiedBy>
  <dcterms:modified xsi:type="dcterms:W3CDTF">2022-10-12T12:38:09Z</dcterms:modified>
  <cp:revision>3</cp:revision>
  <dc:subject/>
  <dc:title>Слайд 1</dc:title>
</cp:coreProperties>
</file>