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831-D8C9-4294-B6CB-6E204A2A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E70-C3F6-4F07-9EB6-91C80675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353-2405-4976-9E9C-6141D48C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80C-93D9-4A8F-8098-5AE98BE2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5522-D165-4E14-97B7-2649ACBF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AD95-6221-414A-AEF4-C1D82FE3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5423-0C81-4A1D-BE7F-57C2E1BA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DE1B-7E96-4490-96A1-28B94A90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F741-925C-45E7-91CB-0CA9E91F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3326-5F89-4A96-AF01-DA0A9119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0702-2D12-4BF4-8FE1-22BBB5EC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0A5-BFB7-4C06-8FBF-CB054AA3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76EB-1F8F-4B1A-A571-ACD0C88F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0309-837D-437C-9209-5DE93C98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8BDF-2D5D-4E3E-B988-0D1AFDD2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B671-FC7F-4774-A235-AE86DE2E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DEAC-7F8D-4D2B-8486-245D780D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29BCB-78A5-4CC8-9A5A-BA0F928E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8F66D-981F-4385-B58B-5FC709A8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23083-1173-4333-A393-00A056CB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1D7D5-A1B0-4FFD-8B61-CFA6A0D0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6933B-37C4-400E-A1BA-834EB950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84E-9B21-4022-9367-C25C966F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F7740-517A-4286-9185-1C224C1A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397C5-D265-424E-ADBA-F65617B5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BB020-15C1-4924-BB18-0E1BAFB8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54BAE-8294-4894-A4E1-4D24F6E3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00E47-AF55-4052-ADBE-0D2AB0F8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3AA61-2284-4403-B22E-6398538C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BD928-A819-4207-8CEC-56FD235F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F2D77-1FC4-4D93-8581-07058548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393A-E1C6-4E5D-A430-4B3D4C9F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DA00E-337A-4EB8-BC78-C5D4F7A3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D93-429E-4A58-8BDA-EFB32953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4C140-960B-40FF-9C8D-632727EF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94D8-E6B0-45C7-AA00-4E943166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2321E-2BAB-450D-9DE7-F82DC07C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F24E8-009E-4293-B0E2-1ED23903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B27D5-0AA3-4933-B349-737BDFBB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BCC0A-4963-464B-9E90-D80E26A5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E32D8-BC8E-4BE6-A899-8E88FA88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BA875-7078-4CDF-9BA2-9B607F46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A30F9-41B5-4206-BDFD-0F573F3D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1C35C-A682-4ADD-B751-B9FE4D14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C90-4664-4D8D-B798-9F3C412A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81FE9-B0F5-4ECA-A91C-323EC0E5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CAC44-1D84-48C7-87E0-BCE35A8A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29624-1696-4240-95A0-E62FFC91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86CFB-8064-4399-A4A6-E080C4E3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E1054-1E37-4563-B720-A6B886D9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C002FB-6E57-4915-984B-17E2E36D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0A444-8C63-437A-8CFD-CC4DB5C5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60F00-68DA-44C4-8957-FFEC7897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CB9FE-DCCD-4EAF-BCC6-8B2DDE49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E878F-7340-4DCD-B7C2-9FE9960A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C21-2C92-4393-8618-EEB519E8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AB997-DE55-4B7F-9C05-388F9B36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EBF4B-5774-441F-A6E6-8F734212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CF8717-0D13-471A-897A-AB83288D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B9BAA-929F-4D1E-81AD-0554D576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3066E-6767-44C4-9417-A4C70882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3C046-11AD-4B56-B59A-1A0E0FFF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A0EFA-7765-495D-9643-B480224F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B7DCA-9204-4ED8-8754-AF959F88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0ECF2-7778-4C34-AFF4-D85749C3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5B1EA-9E09-4E89-94EC-D32779BA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098-2A3F-4AFB-AE0A-445B992D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D38D0C-4D1E-4F56-A0CD-D86B255A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05997-EC6E-4186-AA1F-F46BDD45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D27764-D602-4BA5-840D-61C8B433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FD91B-AF89-4DF1-B280-59F1D214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FE9D76-841E-4BB2-B724-401584EE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E45FA8-8296-40DB-AB2D-8246732B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BEBD7-47BE-4B28-932A-57D94E76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B7A3C1-6053-403F-AE45-AA28DC1D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71C166-7C2B-41F8-9476-19DDF2BA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104C4-DECB-4C7C-A2F9-0D5CC652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8BB-2134-4BAE-8243-B989C7F1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1348A-2C7A-4367-AE53-51E0CD9B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10F88-1ECD-4EE6-AAA0-F0322CDD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E0AA1-A92E-4D61-BE65-6DCDE436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1294D-8430-47C8-8A22-4B8CE2BD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A4E0E4-A677-42E4-9582-7D3C0DF9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7BD-D9A1-48A4-942F-9B8EF609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24A2-61AF-4EAD-B699-FA0D795153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D739-29E9-49D7-A33C-4EF98B6B2CB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EB76-6B05-4383-9B1E-A8569AEEB3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4c1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84c1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32CB-A760-46B3-889C-52D8447422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9DE1-7F2C-4814-AFDF-EFB24C24273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0BC5-30BE-4FB0-B03E-ED2ED8557B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1ECD-FC5D-4ED3-B9F8-7CBAA3157CD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3.gif"/><Relationship Id="rId1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6" descr="D:\Лена\Мои рисунки\Зимние мотивы\кормушка1.png"/>
          <p:cNvPicPr/>
          <p:nvPr/>
        </p:nvPicPr>
        <p:blipFill>
          <a:blip r:embed="rId1"/>
          <a:stretch/>
        </p:blipFill>
        <p:spPr>
          <a:xfrm>
            <a:off x="500040" y="966960"/>
            <a:ext cx="7883640" cy="589104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3" descr=""/>
          <p:cNvPicPr/>
          <p:nvPr/>
        </p:nvPicPr>
        <p:blipFill>
          <a:blip r:embed="rId2"/>
          <a:stretch/>
        </p:blipFill>
        <p:spPr>
          <a:xfrm>
            <a:off x="426960" y="2998800"/>
            <a:ext cx="6931080" cy="1938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9" descr="D:\Лена\Мои рисунки\Смайлики на разные случаи\Погода\90dfec9b25235f851d906a83ccc9ab43.gif"/>
          <p:cNvPicPr/>
          <p:nvPr/>
        </p:nvPicPr>
        <p:blipFill>
          <a:blip r:embed="rId3"/>
          <a:stretch/>
        </p:blipFill>
        <p:spPr>
          <a:xfrm>
            <a:off x="1357200" y="557208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9" descr="D:\Лена\Мои рисунки\Смайлики на разные случаи\Погода\90dfec9b25235f851d906a83ccc9ab43.gif"/>
          <p:cNvPicPr/>
          <p:nvPr/>
        </p:nvPicPr>
        <p:blipFill>
          <a:blip r:embed="rId4"/>
          <a:stretch/>
        </p:blipFill>
        <p:spPr>
          <a:xfrm>
            <a:off x="214200" y="357192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9" descr="D:\Лена\Мои рисунки\Смайлики на разные случаи\Погода\90dfec9b25235f851d906a83ccc9ab43.gif"/>
          <p:cNvPicPr/>
          <p:nvPr/>
        </p:nvPicPr>
        <p:blipFill>
          <a:blip r:embed="rId5"/>
          <a:stretch/>
        </p:blipFill>
        <p:spPr>
          <a:xfrm>
            <a:off x="6643800" y="4071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9" descr="D:\Лена\Мои рисунки\Смайлики на разные случаи\Погода\90dfec9b25235f851d906a83ccc9ab43.gif"/>
          <p:cNvPicPr/>
          <p:nvPr/>
        </p:nvPicPr>
        <p:blipFill>
          <a:blip r:embed="rId6"/>
          <a:stretch/>
        </p:blipFill>
        <p:spPr>
          <a:xfrm>
            <a:off x="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9" descr="D:\Лена\Мои рисунки\Смайлики на разные случаи\Погода\90dfec9b25235f851d906a83ccc9ab43.gif"/>
          <p:cNvPicPr/>
          <p:nvPr/>
        </p:nvPicPr>
        <p:blipFill>
          <a:blip r:embed="rId7"/>
          <a:stretch/>
        </p:blipFill>
        <p:spPr>
          <a:xfrm>
            <a:off x="3929040" y="8571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9" descr="D:\Лена\Мои рисунки\Смайлики на разные случаи\Погода\90dfec9b25235f851d906a83ccc9ab43.gif"/>
          <p:cNvPicPr/>
          <p:nvPr/>
        </p:nvPicPr>
        <p:blipFill>
          <a:blip r:embed="rId8"/>
          <a:stretch/>
        </p:blipFill>
        <p:spPr>
          <a:xfrm>
            <a:off x="2786040" y="2214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9" descr="D:\Лена\Мои рисунки\Смайлики на разные случаи\Погода\90dfec9b25235f851d906a83ccc9ab43.gif"/>
          <p:cNvPicPr/>
          <p:nvPr/>
        </p:nvPicPr>
        <p:blipFill>
          <a:blip r:embed="rId9"/>
          <a:stretch/>
        </p:blipFill>
        <p:spPr>
          <a:xfrm>
            <a:off x="7858080" y="58579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4" descr="D:\Лена\Мои рисунки\Смайлики на разные случаи\Погода\94eaad9d7cce53c9d73652c8f7f832e8.gif"/>
          <p:cNvPicPr/>
          <p:nvPr/>
        </p:nvPicPr>
        <p:blipFill>
          <a:blip r:embed="rId10"/>
          <a:stretch/>
        </p:blipFill>
        <p:spPr>
          <a:xfrm>
            <a:off x="4286160" y="2357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4" descr="D:\Лена\Мои рисунки\Смайлики на разные случаи\Погода\94eaad9d7cce53c9d73652c8f7f832e8.gif"/>
          <p:cNvPicPr/>
          <p:nvPr/>
        </p:nvPicPr>
        <p:blipFill>
          <a:blip r:embed="rId11"/>
          <a:stretch/>
        </p:blipFill>
        <p:spPr>
          <a:xfrm>
            <a:off x="2286000" y="22860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4" descr="D:\Лена\Мои рисунки\Смайлики на разные случаи\Погода\94eaad9d7cce53c9d73652c8f7f832e8.gif"/>
          <p:cNvPicPr/>
          <p:nvPr/>
        </p:nvPicPr>
        <p:blipFill>
          <a:blip r:embed="rId12"/>
          <a:stretch/>
        </p:blipFill>
        <p:spPr>
          <a:xfrm>
            <a:off x="0" y="142884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4" descr="D:\Лена\Мои рисунки\Смайлики на разные случаи\Погода\94eaad9d7cce53c9d73652c8f7f832e8.gif"/>
          <p:cNvPicPr/>
          <p:nvPr/>
        </p:nvPicPr>
        <p:blipFill>
          <a:blip r:embed="rId13"/>
          <a:stretch/>
        </p:blipFill>
        <p:spPr>
          <a:xfrm>
            <a:off x="8215200" y="5072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4" descr="D:\Лена\Мои рисунки\Смайлики на разные случаи\Погода\94eaad9d7cce53c9d73652c8f7f832e8.gif"/>
          <p:cNvPicPr/>
          <p:nvPr/>
        </p:nvPicPr>
        <p:blipFill>
          <a:blip r:embed="rId14"/>
          <a:stretch/>
        </p:blipFill>
        <p:spPr>
          <a:xfrm>
            <a:off x="0" y="5072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4" descr="D:\Лена\Мои рисунки\Смайлики на разные случаи\Погода\94eaad9d7cce53c9d73652c8f7f832e8.gif"/>
          <p:cNvPicPr/>
          <p:nvPr/>
        </p:nvPicPr>
        <p:blipFill>
          <a:blip r:embed="rId15"/>
          <a:stretch/>
        </p:blipFill>
        <p:spPr>
          <a:xfrm>
            <a:off x="6429240" y="1357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4" descr="D:\Лена\Мои рисунки\Смайлики на разные случаи\Погода\94eaad9d7cce53c9d73652c8f7f832e8.gif"/>
          <p:cNvPicPr/>
          <p:nvPr/>
        </p:nvPicPr>
        <p:blipFill>
          <a:blip r:embed="rId16"/>
          <a:stretch/>
        </p:blipFill>
        <p:spPr>
          <a:xfrm>
            <a:off x="7786800" y="1857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4" descr="D:\Лена\Мои рисунки\Смайлики на разные случаи\Погода\94eaad9d7cce53c9d73652c8f7f832e8.gif"/>
          <p:cNvPicPr/>
          <p:nvPr/>
        </p:nvPicPr>
        <p:blipFill>
          <a:blip r:embed="rId17"/>
          <a:stretch/>
        </p:blipFill>
        <p:spPr>
          <a:xfrm>
            <a:off x="6143760" y="264312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9" descr="D:\Лена\Мои рисунки\Смайлики на разные случаи\Погода\90dfec9b25235f851d906a83ccc9ab43.gif"/>
          <p:cNvPicPr/>
          <p:nvPr/>
        </p:nvPicPr>
        <p:blipFill>
          <a:blip r:embed="rId18"/>
          <a:stretch/>
        </p:blipFill>
        <p:spPr>
          <a:xfrm>
            <a:off x="7643880" y="28584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cc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71720" y="1600200"/>
            <a:ext cx="685296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Огромное значение имеют птицы в природе и в сельском хозяйстве, сохраняя от насекомых-вредителей культурные и дикорастущие растения, помогают в их опылении. Известно, что семья скворцов уничтожает за месяц до 24 тыс. насекомых и их личинок. Кукушка, в пищу которой идут крупные гусеницы, майские жуки, поедает их за лето до 270 тыс.; грач, следя за плугом, способен уничтожить до 400 червей. Пара синиц, поселившихся в саду вместе со своим потомством, могут очистить от насекомых-вредителей 40 больших яблонь. 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pic>
        <p:nvPicPr>
          <p:cNvPr id="371" name="Picture 8" descr="Картинка 674 из 5322"/>
          <p:cNvPicPr/>
          <p:nvPr/>
        </p:nvPicPr>
        <p:blipFill>
          <a:blip r:embed="rId1"/>
          <a:stretch/>
        </p:blipFill>
        <p:spPr>
          <a:xfrm rot="20246400">
            <a:off x="136440" y="5226120"/>
            <a:ext cx="1373400" cy="987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Картинка 8 из 6585"/>
          <p:cNvPicPr/>
          <p:nvPr/>
        </p:nvPicPr>
        <p:blipFill>
          <a:blip r:embed="rId2"/>
          <a:stretch/>
        </p:blipFill>
        <p:spPr>
          <a:xfrm flipH="1" rot="587400">
            <a:off x="126360" y="2243160"/>
            <a:ext cx="1323720" cy="1608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4" descr="Картинка 65 из 484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6357960" y="0"/>
            <a:ext cx="1965240" cy="15717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9" descr="D:\Лена\Мои рисунки\Смайлики на разные случаи\Погода\90dfec9b25235f851d906a83ccc9ab43.gif"/>
          <p:cNvPicPr/>
          <p:nvPr/>
        </p:nvPicPr>
        <p:blipFill>
          <a:blip r:embed="rId4"/>
          <a:stretch/>
        </p:blipFill>
        <p:spPr>
          <a:xfrm>
            <a:off x="4357800" y="4287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9" descr="D:\Лена\Мои рисунки\Смайлики на разные случаи\Погода\90dfec9b25235f851d906a83ccc9ab43.gif"/>
          <p:cNvPicPr/>
          <p:nvPr/>
        </p:nvPicPr>
        <p:blipFill>
          <a:blip r:embed="rId5"/>
          <a:stretch/>
        </p:blipFill>
        <p:spPr>
          <a:xfrm>
            <a:off x="142920" y="407196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1420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В холодные дни птицы ищут себе корм в течение всего дня. Зимой птицам не так страшен холод, как голод. За короткий зимний день птицы едва успевают утолить голод. В зимнюю стужу голодные и ослабевшие птицы легко замерзают. Если птичка не ест зимой 6 часов, она погибает. Из десяти мелких птиц в суровые зимы остаются только две. Поэтому им необходимо помочь. 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cc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pic>
        <p:nvPicPr>
          <p:cNvPr id="378" name="Picture 29" descr="D:\Лена\Мои рисунки\Смайлики на разные случаи\Погода\90dfec9b25235f851d906a83ccc9ab43.gif"/>
          <p:cNvPicPr/>
          <p:nvPr/>
        </p:nvPicPr>
        <p:blipFill>
          <a:blip r:embed="rId1"/>
          <a:stretch/>
        </p:blipFill>
        <p:spPr>
          <a:xfrm>
            <a:off x="3500280" y="535788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9" descr="D:\Лена\Мои рисунки\Смайлики на разные случаи\Погода\90dfec9b25235f851d906a83ccc9ab43.gif"/>
          <p:cNvPicPr/>
          <p:nvPr/>
        </p:nvPicPr>
        <p:blipFill>
          <a:blip r:embed="rId2"/>
          <a:stretch/>
        </p:blipFill>
        <p:spPr>
          <a:xfrm>
            <a:off x="7643880" y="3357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9" descr="D:\Лена\Мои рисунки\Смайлики на разные случаи\Погода\90dfec9b25235f851d906a83ccc9ab43.gif"/>
          <p:cNvPicPr/>
          <p:nvPr/>
        </p:nvPicPr>
        <p:blipFill>
          <a:blip r:embed="rId3"/>
          <a:stretch/>
        </p:blipFill>
        <p:spPr>
          <a:xfrm>
            <a:off x="4786200" y="50004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4"/>
          <a:stretch/>
        </p:blipFill>
        <p:spPr>
          <a:xfrm>
            <a:off x="5286240" y="3929040"/>
            <a:ext cx="2853000" cy="2635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5" descr="301"/>
          <p:cNvPicPr/>
          <p:nvPr/>
        </p:nvPicPr>
        <p:blipFill>
          <a:blip r:embed="rId5"/>
          <a:stretch/>
        </p:blipFill>
        <p:spPr>
          <a:xfrm>
            <a:off x="6715080" y="285840"/>
            <a:ext cx="1998720" cy="1500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302"/>
          <p:cNvPicPr/>
          <p:nvPr/>
        </p:nvPicPr>
        <p:blipFill>
          <a:blip r:embed="rId6"/>
          <a:stretch/>
        </p:blipFill>
        <p:spPr>
          <a:xfrm>
            <a:off x="628560" y="4986360"/>
            <a:ext cx="2217960" cy="1712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7:01:34Z</dcterms:created>
  <dc:creator>дом</dc:creator>
  <dc:description/>
  <dc:language>en-US</dc:language>
  <cp:lastModifiedBy>USER</cp:lastModifiedBy>
  <dcterms:modified xsi:type="dcterms:W3CDTF">2017-10-21T17:16:42Z</dcterms:modified>
  <cp:revision>70</cp:revision>
  <dc:subject/>
  <dc:title>Слайд 1</dc:title>
</cp:coreProperties>
</file>