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FA9-4F57-42B3-9CFC-324B48B7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AFE-E7E3-4076-8694-CCFAF2FF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BA8-EFC3-4966-ADB0-CAACE64D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A5D-4B05-49B2-8C1A-03C358B8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83BA-CFB5-452A-9A4C-82C1E0B7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CE19-F641-4990-B1D7-FC272478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0801-47E2-4DCD-8B50-3D90BB5E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CEC2-D588-48EF-BE8B-E445E136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85EB-B680-475B-9B4D-1048F767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C850-7A61-44F5-8CEE-F953BDA9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F8D2-80AD-4651-A5BD-9C4ADA3A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CB6-017C-4916-B568-B9AC9874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B8FF-E342-494E-B78A-9FF8F4EE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6D35-2061-47B0-9588-37E592E3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4089-A548-4A6E-A01A-199D9CBF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7925-F5D4-40E2-87AB-43EC887A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D92D-FD63-466E-904E-8D513649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AA54E-970A-49A3-831F-0E24171E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B85A0-3BA5-4D12-A1A9-56E0E41C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EEF25-485B-408E-944F-980B6C94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12D80-7C40-4C7D-8857-CCF8EBA0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DA29E-7A9F-47DA-AC38-9731FB16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530-57D9-469E-8C52-19D873BF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A5B9C-A569-4ADA-8C29-0889594C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43E67-2A48-4FB1-AA2C-DDF3EA41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77857-1C97-44FE-A9FC-4F96B0C3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D43BE-5191-4ABC-82DD-47F769CB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4BF83-C6D8-4FD6-83A8-8BD95095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E5413-F9A1-421C-8BBE-90A3BE18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0BF0F-F4F7-410C-B8D4-8A38EA1C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76310-2B99-459D-9CFF-39655669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1637D-B131-4836-808A-18DE36B8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6D51B-4D29-4A65-A279-03DFC979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5E69-935B-4A5A-BD57-0A8A100F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09577-67C9-4E02-9D6E-779F51D8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DEEFC-42CA-4635-B7B0-DA2BD2D6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19D03-BFB9-4CA2-ADB2-9A06C954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F3BD3-CE1B-4591-A665-9AE9FF0D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2B6F9-D9AE-4BC0-92E9-0E2EC660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8A79E-BBD1-4F8B-A516-50702B1C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3A065-7A68-4B4D-AEE2-33F4F9A7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76CEC-4886-44FA-8E41-57750019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7647B-92A4-48E7-94F4-69A73BBA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EFF2DB-40AE-4D8D-AC2B-20741046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F1E-D12A-4025-B666-4E0915AA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86029-0C0B-40E5-82CB-A97E2FF3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FA8C22-04FA-4591-8BAC-3EC98E21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30812-F8F6-4EF9-ACD9-2C33B432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98F01E-FBD7-4CC5-BD9B-909CD45F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5E63D-9CFD-4C1C-9B54-0003A293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112361-9469-4E6A-96E9-59D07D1E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B57E64-807E-44D1-9C39-99768F36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5BBFF1-E862-42D1-8F6B-8205CC71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FAA190-676B-4C79-8088-5C6E21B2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5CB022-1785-462A-94E8-376E3E9C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108-E6B8-40F4-8876-0EC658B9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13BA54-BC50-4832-B2D9-6641D77C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CC07FF-D460-4332-907D-D5586244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567DD4-D8AD-4064-BDC3-743DF39B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C48633-CF6F-42B6-AAB1-78C2BC57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C6BCE-0979-4677-8124-B486D0D0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545AD-EAFB-4831-BF45-E60E9F2F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19B2E3-8ED9-47C1-8369-60E5DFF6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4AF5C-BDB5-4614-9B27-053A1C09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39B1C7-FCD9-42FB-821A-D4848C06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B08987-8016-4FEC-ADCB-856740DA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620-5C09-42DB-BB51-A93953EF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5DE41-D040-492B-B826-56FB92E0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BB0C57-E54D-405C-AE5F-31255E16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5B5AFB-2978-44B8-8F77-B66C97C6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4998A7-A5BD-47DF-A743-3682F3FA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67C790-EEA5-475F-B328-8C9F2EFC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0FD2A-9EA8-4CD2-872C-BC240FC4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234326-98B0-42E3-B6FB-7B7FEB5B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A64DB6-E098-4F95-B5A1-B5269FF9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CA90F-3D66-48FA-86D2-D3D55F2D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33B2A5-D994-4FDD-9059-C7388159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78C-DA58-4EBB-9104-FAD09567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D1403A-9E93-42AC-B424-F4451D66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B6D5A8-4E4D-4F25-8921-94AA2FD8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15F50-ECEB-42BB-A4F9-B36AC1D1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332980-D2A2-4CE3-A4A3-81BB8C4C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2A639C-8205-4314-BA1F-8902814A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4C2-ACE3-4A8F-9565-B218971C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6944-83B6-40F4-8B4C-EE5205FE01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e2e2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ce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ce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6f6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e2e2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6f6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e2e2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e2e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D7A2-3094-406E-B1CC-46E324A0093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ACEA-0D8A-41CA-BD4F-AFC71FDAF0E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e2e2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ce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ce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6f6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e2e2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6f6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e2e2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e2e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4c1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84c1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41DE-22CE-47B8-9FA2-FD7D6CF584E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ACB6-132A-42AB-9E90-8959A8FC42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E84C-B1F8-4322-96DF-75F329C963D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EA15-449C-49FB-BBCC-934027B16E0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28760" y="285480"/>
            <a:ext cx="8143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Цель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: Расширить знания детей о птицах, вызвать сочувствие к голодающим и замерзающим зимой птицам, учить проявлять заботу к ним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Задачи: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Обеспечить более надёжные основы экологической ответственности младших школьников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Обеспечение более широкой и разнообразной практической деятельности учащихся по охране окружающей среды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Обобщить и расширить представления детей о зимующих птицах нашего края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Помочь осознать главные этические законы жизни человека – любви, добра, справедливости к окружающему миру. 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pic>
        <p:nvPicPr>
          <p:cNvPr id="352" name="Picture 29" descr="D:\Лена\Мои рисунки\Смайлики на разные случаи\Погода\90dfec9b25235f851d906a83ccc9ab43.gif"/>
          <p:cNvPicPr/>
          <p:nvPr/>
        </p:nvPicPr>
        <p:blipFill>
          <a:blip r:embed="rId1"/>
          <a:stretch/>
        </p:blipFill>
        <p:spPr>
          <a:xfrm>
            <a:off x="285840" y="571500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9" descr="D:\Лена\Мои рисунки\Смайлики на разные случаи\Погода\90dfec9b25235f851d906a83ccc9ab43.gif"/>
          <p:cNvPicPr/>
          <p:nvPr/>
        </p:nvPicPr>
        <p:blipFill>
          <a:blip r:embed="rId2"/>
          <a:stretch/>
        </p:blipFill>
        <p:spPr>
          <a:xfrm>
            <a:off x="7143840" y="1071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C:\Users\ДОМ\Desktop\dac6e5d48c76.jpg"/>
          <p:cNvPicPr/>
          <p:nvPr/>
        </p:nvPicPr>
        <p:blipFill>
          <a:blip r:embed="rId3"/>
          <a:srcRect l="14481" t="22476" r="6709" b="14612"/>
          <a:stretch/>
        </p:blipFill>
        <p:spPr>
          <a:xfrm>
            <a:off x="6072120" y="5500800"/>
            <a:ext cx="1860480" cy="1108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Картинка 674 из 5322"/>
          <p:cNvPicPr/>
          <p:nvPr/>
        </p:nvPicPr>
        <p:blipFill>
          <a:blip r:embed="rId4"/>
          <a:stretch/>
        </p:blipFill>
        <p:spPr>
          <a:xfrm>
            <a:off x="3643200" y="5286240"/>
            <a:ext cx="178596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7168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Время работы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3b76"/>
                </a:solidFill>
                <a:latin typeface="Century Schoolbook"/>
              </a:rPr>
              <a:t>тип продолжительности 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– краткосрочный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Класс или возраст детей: 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3 класс, 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Количество участников: 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 2 человека (дети и родители)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Предметная область: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 Предметные области (технология и окружающий мир)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Форма организации детей: 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групповая работа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Ведущая деятельность: 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поисковая, практическая, творческая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pic>
        <p:nvPicPr>
          <p:cNvPr id="357" name="Picture 29" descr="D:\Лена\Мои рисунки\Смайлики на разные случаи\Погода\90dfec9b25235f851d906a83ccc9ab43.gif"/>
          <p:cNvPicPr/>
          <p:nvPr/>
        </p:nvPicPr>
        <p:blipFill>
          <a:blip r:embed="rId1"/>
          <a:stretch/>
        </p:blipFill>
        <p:spPr>
          <a:xfrm>
            <a:off x="285840" y="5643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9" descr="D:\Лена\Мои рисунки\Смайлики на разные случаи\Погода\90dfec9b25235f851d906a83ccc9ab43.gif"/>
          <p:cNvPicPr/>
          <p:nvPr/>
        </p:nvPicPr>
        <p:blipFill>
          <a:blip r:embed="rId2"/>
          <a:stretch/>
        </p:blipFill>
        <p:spPr>
          <a:xfrm>
            <a:off x="7286760" y="4287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9" descr="D:\Лена\Мои рисунки\Смайлики на разные случаи\Погода\90dfec9b25235f851d906a83ccc9ab43.gif"/>
          <p:cNvPicPr/>
          <p:nvPr/>
        </p:nvPicPr>
        <p:blipFill>
          <a:blip r:embed="rId3"/>
          <a:stretch/>
        </p:blipFill>
        <p:spPr>
          <a:xfrm>
            <a:off x="6429240" y="557208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8" descr="Картинка 39 из 839"/>
          <p:cNvPicPr/>
          <p:nvPr/>
        </p:nvPicPr>
        <p:blipFill>
          <a:blip r:embed="rId4"/>
          <a:stretch/>
        </p:blipFill>
        <p:spPr>
          <a:xfrm>
            <a:off x="7486560" y="1627200"/>
            <a:ext cx="1333440" cy="2390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0" descr=""/>
          <p:cNvPicPr/>
          <p:nvPr/>
        </p:nvPicPr>
        <p:blipFill>
          <a:blip r:embed="rId5"/>
          <a:stretch/>
        </p:blipFill>
        <p:spPr>
          <a:xfrm>
            <a:off x="3357720" y="5429160"/>
            <a:ext cx="1382400" cy="1214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428760" y="425520"/>
          <a:ext cx="8372520" cy="5607000"/>
        </p:xfrm>
        <a:graphic>
          <a:graphicData uri="http://schemas.openxmlformats.org/drawingml/2006/table">
            <a:tbl>
              <a:tblPr/>
              <a:tblGrid>
                <a:gridCol w="1234800"/>
                <a:gridCol w="2979720"/>
                <a:gridCol w="2143440"/>
                <a:gridCol w="201456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Этапы 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едагога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тей и родителей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родукт деятельности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19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262673"/>
                          </a:solidFill>
                          <a:uFillTx/>
                          <a:latin typeface="Times New Roman"/>
                          <a:ea typeface="Calibri"/>
                        </a:rPr>
                        <a:t>1 этап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73"/>
                          </a:solidFill>
                          <a:latin typeface="Times New Roman"/>
                          <a:ea typeface="Calibri"/>
                        </a:rPr>
                        <a:t>Выявление проблемы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73"/>
                          </a:solidFill>
                          <a:latin typeface="Times New Roman"/>
                          <a:ea typeface="Calibri"/>
                        </a:rPr>
                        <a:t>(1 неделя)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На уроке окружающего мира ученики в беседе с учителем выявляются причины гибели птиц зимой, рассматривают ся ситуации, к которым может привести это.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Учитель предлагает принять участие в проекте «Помоги птицам перезимовать».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Входят в проблему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Ищут ответ на вопрос «Каковы причины гибели птиц зимой?»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Осознают и личностно воспринимают проблему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ринимают задачи проекта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2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262673"/>
                          </a:solidFill>
                          <a:uFillTx/>
                          <a:latin typeface="Times New Roman"/>
                          <a:ea typeface="Calibri"/>
                        </a:rPr>
                        <a:t>2 этап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73"/>
                          </a:solidFill>
                          <a:latin typeface="Times New Roman"/>
                          <a:ea typeface="Calibri"/>
                        </a:rPr>
                        <a:t>Организация работы над проектом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73"/>
                          </a:solidFill>
                          <a:latin typeface="Times New Roman"/>
                          <a:ea typeface="Calibri"/>
                        </a:rPr>
                        <a:t>(2 неделя)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одбирает и изучает литературу по проблеме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Составляет  план реализации проекта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Составляет схемы взаимодействия участников проекта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Во внеурочное время учащиеся делятся результатами своей поисковой и практической деятельности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осещение библиотеки, изучение литературы по данной проблеме, просмотр видеофильмов, беседы со взрослыми, интернет, экскурсионная деятельность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ословицы и загадки о птицах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Классный час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«Птицы нашего края»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Конкурс рисунков и фотографий «Птицы зимой»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428760" y="425520"/>
          <a:ext cx="8372520" cy="4038480"/>
        </p:xfrm>
        <a:graphic>
          <a:graphicData uri="http://schemas.openxmlformats.org/drawingml/2006/table">
            <a:tbl>
              <a:tblPr/>
              <a:tblGrid>
                <a:gridCol w="1234800"/>
                <a:gridCol w="2979720"/>
                <a:gridCol w="1890720"/>
                <a:gridCol w="2267280"/>
              </a:tblGrid>
              <a:tr h="55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Этапы 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едагога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тей и родителей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родукт деятельности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193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262673"/>
                          </a:solidFill>
                          <a:uFillTx/>
                          <a:latin typeface="Times New Roman"/>
                          <a:ea typeface="Times New Roman"/>
                        </a:rPr>
                        <a:t>3 этап.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Реализация проекта. 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Arial"/>
                        </a:rPr>
                        <a:t>(ноябрь) 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Изготовление кормушек из подручных материалов на уроках технологии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одведение итогов поисковой деятельности, подготовка праздника «Помоги птицам перезимовать!»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Изготовление кормушек в домашних условиях, размещение их на деревьях, кормление птиц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Кормушки для птиц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93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262673"/>
                          </a:solidFill>
                          <a:uFillTx/>
                          <a:latin typeface="Times New Roman"/>
                          <a:ea typeface="Calibri"/>
                        </a:rPr>
                        <a:t>4 этап.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резентация полученных знаний;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раздник «Помоги птицам перезимовать!»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64" name="Picture 2" descr="Картинка 4 из 191"/>
          <p:cNvPicPr/>
          <p:nvPr/>
        </p:nvPicPr>
        <p:blipFill>
          <a:blip r:embed="rId1"/>
          <a:stretch/>
        </p:blipFill>
        <p:spPr>
          <a:xfrm>
            <a:off x="500040" y="4581360"/>
            <a:ext cx="2487600" cy="1990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Картинка 674 из 5322"/>
          <p:cNvPicPr/>
          <p:nvPr/>
        </p:nvPicPr>
        <p:blipFill>
          <a:blip r:embed="rId2"/>
          <a:stretch/>
        </p:blipFill>
        <p:spPr>
          <a:xfrm>
            <a:off x="0" y="5500800"/>
            <a:ext cx="1428840" cy="10285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1" descr=""/>
          <p:cNvPicPr/>
          <p:nvPr/>
        </p:nvPicPr>
        <p:blipFill>
          <a:blip r:embed="rId3"/>
          <a:stretch/>
        </p:blipFill>
        <p:spPr>
          <a:xfrm>
            <a:off x="1500120" y="5214960"/>
            <a:ext cx="1093680" cy="1285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9" descr="D:\Лена\Мои рисунки\Смайлики на разные случаи\Погода\90dfec9b25235f851d906a83ccc9ab43.gif"/>
          <p:cNvPicPr/>
          <p:nvPr/>
        </p:nvPicPr>
        <p:blipFill>
          <a:blip r:embed="rId4"/>
          <a:stretch/>
        </p:blipFill>
        <p:spPr>
          <a:xfrm>
            <a:off x="7236000" y="4149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9" descr="D:\Лена\Мои рисунки\Смайлики на разные случаи\Погода\90dfec9b25235f851d906a83ccc9ab43.gif"/>
          <p:cNvPicPr/>
          <p:nvPr/>
        </p:nvPicPr>
        <p:blipFill>
          <a:blip r:embed="rId5"/>
          <a:stretch/>
        </p:blipFill>
        <p:spPr>
          <a:xfrm>
            <a:off x="7286760" y="20001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9" descr="D:\Лена\Мои рисунки\Смайлики на разные случаи\Погода\90dfec9b25235f851d906a83ccc9ab43.gif"/>
          <p:cNvPicPr/>
          <p:nvPr/>
        </p:nvPicPr>
        <p:blipFill>
          <a:blip r:embed="rId6"/>
          <a:stretch/>
        </p:blipFill>
        <p:spPr>
          <a:xfrm>
            <a:off x="3203640" y="4724280"/>
            <a:ext cx="1500120" cy="1500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302"/>
          <p:cNvPicPr/>
          <p:nvPr/>
        </p:nvPicPr>
        <p:blipFill>
          <a:blip r:embed="rId7"/>
          <a:stretch/>
        </p:blipFill>
        <p:spPr>
          <a:xfrm rot="385200">
            <a:off x="3919320" y="5582880"/>
            <a:ext cx="1585800" cy="1189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302"/>
          <p:cNvPicPr/>
          <p:nvPr/>
        </p:nvPicPr>
        <p:blipFill>
          <a:blip r:embed="rId8"/>
          <a:stretch/>
        </p:blipFill>
        <p:spPr>
          <a:xfrm rot="385200">
            <a:off x="5919480" y="5160600"/>
            <a:ext cx="1655640" cy="1189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Картинка 7 из 5998"/>
          <p:cNvPicPr/>
          <p:nvPr/>
        </p:nvPicPr>
        <p:blipFill>
          <a:blip r:embed="rId9"/>
          <a:stretch/>
        </p:blipFill>
        <p:spPr>
          <a:xfrm>
            <a:off x="5500800" y="5857920"/>
            <a:ext cx="736560" cy="623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07:01:34Z</dcterms:created>
  <dc:creator>дом</dc:creator>
  <dc:description/>
  <dc:language>en-US</dc:language>
  <cp:lastModifiedBy>USER</cp:lastModifiedBy>
  <dcterms:modified xsi:type="dcterms:W3CDTF">2017-11-25T12:58:44Z</dcterms:modified>
  <cp:revision>74</cp:revision>
  <dc:subject/>
  <dc:title>Слайд 1</dc:title>
</cp:coreProperties>
</file>