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6DE-0BBB-4F35-8BC5-1D3A52F8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96C-754C-43DC-AD37-074D781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1A2-88D6-4C99-BC68-251486F8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B04-AD5E-421A-8DE7-BD8389D8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CF4-FDDB-4975-AD9A-B90EAD2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EF1-4771-4E10-9023-951AF97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402-E3DD-45E4-B134-DFE74197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F61-2390-4561-9789-3C84F698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530-4E1B-4F30-BAA7-BEA38D7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34D-5984-4FE5-AF13-AD9BFA5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0E8-796D-42BC-A68E-B4B8E13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A5E-A9A3-4DC5-A739-453A2FE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C74-2FD5-43CB-ABDB-0DCADFDF2D5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чкова Анна Валентиновна, МОУ Будинская ООШ Твер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207D-D2FB-4EAC-9C7F-61849EFBE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28600" y="381600"/>
            <a:ext cx="87631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Синтаксическая пяти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Неожиданно из лесу выскочил заяц и со всех ног побежал полем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533520" y="2895480"/>
            <a:ext cx="3276360" cy="0"/>
          </a:xfrm>
          <a:prstGeom prst="line">
            <a:avLst/>
          </a:prstGeom>
          <a:ln w="38160">
            <a:solidFill>
              <a:srgbClr val="00206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133720" y="3581280"/>
            <a:ext cx="2666880" cy="0"/>
          </a:xfrm>
          <a:prstGeom prst="line">
            <a:avLst/>
          </a:prstGeom>
          <a:ln w="38160">
            <a:solidFill>
              <a:srgbClr val="00206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114800" y="2895480"/>
            <a:ext cx="1523880" cy="0"/>
          </a:xfrm>
          <a:prstGeom prst="line">
            <a:avLst/>
          </a:prstGeom>
          <a:ln w="38160">
            <a:solidFill>
              <a:srgbClr val="00206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80880" y="4267080"/>
            <a:ext cx="1447920" cy="0"/>
          </a:xfrm>
          <a:prstGeom prst="line">
            <a:avLst/>
          </a:prstGeom>
          <a:ln w="38160">
            <a:solidFill>
              <a:srgbClr val="00206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3"/>
          <p:cNvGrpSpPr/>
          <p:nvPr/>
        </p:nvGrpSpPr>
        <p:grpSpPr>
          <a:xfrm>
            <a:off x="6019920" y="2895480"/>
            <a:ext cx="2209680" cy="76320"/>
            <a:chOff x="6019920" y="2895480"/>
            <a:chExt cx="2209680" cy="76320"/>
          </a:xfrm>
        </p:grpSpPr>
        <p:sp>
          <p:nvSpPr>
            <p:cNvPr id="48" name="Прямая соединительная линия 2"/>
            <p:cNvSpPr/>
            <p:nvPr/>
          </p:nvSpPr>
          <p:spPr>
            <a:xfrm>
              <a:off x="6019920" y="2895480"/>
              <a:ext cx="220968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1"/>
            <p:cNvSpPr/>
            <p:nvPr/>
          </p:nvSpPr>
          <p:spPr>
            <a:xfrm>
              <a:off x="6019920" y="2971800"/>
              <a:ext cx="220968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3"/>
          <p:cNvGrpSpPr/>
          <p:nvPr/>
        </p:nvGrpSpPr>
        <p:grpSpPr>
          <a:xfrm>
            <a:off x="4930920" y="3549600"/>
            <a:ext cx="2209680" cy="76320"/>
            <a:chOff x="4930920" y="3549600"/>
            <a:chExt cx="2209680" cy="76320"/>
          </a:xfrm>
        </p:grpSpPr>
        <p:sp>
          <p:nvSpPr>
            <p:cNvPr id="51" name="Прямая соединительная линия 14"/>
            <p:cNvSpPr/>
            <p:nvPr/>
          </p:nvSpPr>
          <p:spPr>
            <a:xfrm>
              <a:off x="4930920" y="3549600"/>
              <a:ext cx="220968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15"/>
            <p:cNvSpPr/>
            <p:nvPr/>
          </p:nvSpPr>
          <p:spPr>
            <a:xfrm>
              <a:off x="4930920" y="3625920"/>
              <a:ext cx="220968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ая соединительная линия 5"/>
          <p:cNvSpPr/>
          <p:nvPr/>
        </p:nvSpPr>
        <p:spPr>
          <a:xfrm>
            <a:off x="228600" y="3549600"/>
            <a:ext cx="1219320" cy="1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9"/>
          <p:cNvSpPr/>
          <p:nvPr/>
        </p:nvSpPr>
        <p:spPr>
          <a:xfrm>
            <a:off x="1523880" y="3078000"/>
            <a:ext cx="533520" cy="50328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228600" y="-27180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В этом предложении фразеоло-гизм употреблён в роли обстоятель-ства образа дейст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 Рассказы эти были данью моему детству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) Казалось, что какие-то узы крови связывают этого босяка со Стенькой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) Семён работал спустя рукава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) Олег в тот день проснулся ни свет ни за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52280" y="46483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04920" y="381960"/>
            <a:ext cx="86868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Укажите предложения, в которых обстоятельство выражено сравнитель-ным оборотом.</a:t>
            </a:r>
            <a:br>
              <a:rPr sz="32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 Чайка, как парус, белеет где-то в высоте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) Прилетев на место, гуси шумно опускаются на воду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) Опытный шахматист, сделав неудачный ход, сдался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) Внизу, как зеркало стальное, синеют озера стру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8600" y="19051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28600" y="51814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79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Конструирование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тром .........появились орлы.  ...…..., они поднялись с земли. Орлы начали ...... выписывать в раздольном подне-бесье огромные круги.  ...…..... они попарно опустились на землю. Одна пара, ...…..., шумно снизились на проталину. Крупные и красивые пти-цы некоторое время зорко, ............. , осматривались вокруг.   ..........…, орлы вышли на открытое ме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79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***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тром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в степ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явились орлы.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Немного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отдохну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они поднялись с земли. Орлы начали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тремительн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ыписывать в раз-дольном поднебесье огромные круги.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од вече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они попарно опустились на землю. Одна пара,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ипозда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шумно снизились на проталину. Крупные и красивые птицы некоторое время зорко,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ловно дозор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осматривались вокруг.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спокояс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орлы вышли на открытое место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57200" y="68580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Обстоятельств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сновные виды обстоятель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Я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есь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задачена таким прие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 лесу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авался топор дровос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Мы вышли из дома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и свет ни зар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 рад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зобу дыханье спёр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Душно стало в сакле, и я   вышел на воздух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свежить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В углу комнаты лежа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вернувшись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лачи-к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ленький ще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Грач по нивам ходит важно,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ловно сельский агро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старан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можете добиться больших успе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есмотря на устал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пать не хоте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Обстоятель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означает:  ………………………… или …………………...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носится к группе ……............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 какие вопросы отвечает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….......?  ………....?   ………....?  ……….......?  .……......?    …….....?  ….............. ?  .........………?  ………....................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581280" y="1219320"/>
            <a:ext cx="4114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знак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38080" y="1752480"/>
            <a:ext cx="3657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знак приз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724280" y="2286000"/>
            <a:ext cx="2438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казуе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914400" y="3352680"/>
            <a:ext cx="2666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 какой ме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581280" y="335268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62720" y="3352680"/>
            <a:ext cx="1904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886200"/>
            <a:ext cx="2209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352680" y="380988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486400" y="380988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38080" y="4419720"/>
            <a:ext cx="335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им образ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962520" y="4419720"/>
            <a:ext cx="4343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каком усло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914400" y="4952880"/>
            <a:ext cx="4343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есмотря на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Виды обстоятельст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...……… 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………...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………...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………...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………...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………..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………..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...………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) ...………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676520" y="129528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ме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76520" y="175248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реме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676520" y="22860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ч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676520" y="28195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76520" y="3276720"/>
            <a:ext cx="3352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раза 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676520" y="472428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ступ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676520" y="83808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ме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76520" y="380988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рав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76520" y="426708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сло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ем могут быть выраже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аще:  …………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……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...........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же: ……………............ оборотами;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.........…………… оборо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ногда: ……………......... ,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........................ .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пособ подчинительной связи :  ......................... и ……………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90920" y="83808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реч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066680" y="137160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уществительным в косвенном паде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590920" y="1828800"/>
            <a:ext cx="342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еприча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14600" y="2286000"/>
            <a:ext cx="342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равните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819520" y="2819520"/>
            <a:ext cx="3124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нфинит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743200" y="3276720"/>
            <a:ext cx="3200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разеолог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62120" y="4267080"/>
            <a:ext cx="289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191120" y="426708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57200" y="45720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Тес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39600" y="1098000"/>
            <a:ext cx="9021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предложение с обсто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ьством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  Мы очень уст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)  Кругом кричали корос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)  Вчера я приехал в Тамб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)  Он изменился до неузнаваем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28600" y="35812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45720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28600" y="33696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В этом предложении есть обсто-ятельство ц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 Степаныч с утра отправился 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с поохотиться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) Сгоряча он не почувствовал боли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) Сенокос запоздал из-за дождей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) От мороза побелели дерев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ошад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о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52280" y="17524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228600" y="9154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В каком предложении есть обстоя-тельство м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 Я всегда много чит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) Всю дорогу мы шли пеш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) В один из таких дней мы отправи-лись 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) В лесу раздавалось пение пт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152280" y="41911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1-15T08:55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