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0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.xml" ContentType="application/vnd.openxmlformats-officedocument.presentationml.comments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azer" initials="R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6-12-09T23:32:47.263000000" idx="1">
    <p:pos x="5550" y="-30"/>
    <p:text/>
  </p:cm>
</p:cmLst>
</file>

<file path=ppt/comments/comment24.xml><?xml version="1.0" encoding="utf-8"?>
<p:cmLst xmlns:p="http://schemas.openxmlformats.org/presentationml/2006/main">
  <p:cm authorId="0" dt="2016-12-09T23:32:47.263000000" idx="2">
    <p:pos x="5550" y="-3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45F-7825-40B5-8228-00473B6A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BA9-D13D-4740-81E2-917FC42D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7BB-6807-44EE-98AE-1BD58328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C3E-0F6C-4C70-B52F-E031FB1E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B3D-F402-4A4E-A11A-84819DF3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8D6-340F-459F-9963-293C4B60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175-BAB2-4B70-B44D-76E5B9D2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3EA-92C3-442F-A54F-124F4367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AFC-9E78-48B8-9FDB-F5DE766E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932-0704-4561-B11B-A25CB43E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597-E1C2-4A3A-B6DF-A79B679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AD3-A238-4189-84D1-30EEEFAC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9689-5C9B-4280-8BFE-AC5E3299E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static.panoramio.com/photos/large/555736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4200" y="3571920"/>
            <a:ext cx="7500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3 класс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БСОШ № 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Бреды Челябинской обла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щук Валер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шникова Светлана Викторовн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642920" y="1268280"/>
            <a:ext cx="4286520" cy="18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гадки </a:t>
            </a:r>
            <a:br>
              <a:rPr sz="7200"/>
            </a:br>
            <a:r>
              <a:rPr b="1" i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Чёрной» горы.</a:t>
            </a:r>
            <a:br>
              <a:rPr sz="7200"/>
            </a:br>
            <a:r>
              <a:rPr b="1" i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6"/>
          <p:cNvSpPr/>
          <p:nvPr/>
        </p:nvSpPr>
        <p:spPr>
          <a:xfrm>
            <a:off x="4643280" y="142920"/>
            <a:ext cx="4286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s://i.mycdn.me/image?t=3&amp;bid=524992611300&amp;id=524992611300&amp;plc=WEB&amp;tkn=*bsWhfuTKWKM47oplTiwgmApW084"/>
          <p:cNvPicPr/>
          <p:nvPr/>
        </p:nvPicPr>
        <p:blipFill>
          <a:blip r:embed="rId2"/>
          <a:stretch/>
        </p:blipFill>
        <p:spPr>
          <a:xfrm>
            <a:off x="47520" y="142920"/>
            <a:ext cx="45957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s1.fotokto.ru/photo/full/61/6172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831852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а3. Местоопределение. Времяопределение</a:t>
            </a:r>
            <a:br>
              <a:rPr sz="4000"/>
            </a:b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ые сведения о наличии  угля в данной местности относятся к середине XIX в. В 1854 г. геологи А.И.Антипов и Н. Г. Меглицкий обнаружили в землях Оренбургско-го казачьго войска у станиц Полтав-ской и Брединск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Alexey Antipov by Repin.jpg"/>
          <p:cNvPicPr/>
          <p:nvPr/>
        </p:nvPicPr>
        <p:blipFill>
          <a:blip r:embed="rId2"/>
          <a:stretch/>
        </p:blipFill>
        <p:spPr>
          <a:xfrm>
            <a:off x="468360" y="3429000"/>
            <a:ext cx="2643120" cy="3236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321480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лексей Иванович Анти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9" descr="http://nlib.sakha.ru/resoures/data/bibl_assist/Calendar/2004/img/150.jpg"/>
          <p:cNvPicPr/>
          <p:nvPr/>
        </p:nvPicPr>
        <p:blipFill>
          <a:blip r:embed="rId3"/>
          <a:stretch/>
        </p:blipFill>
        <p:spPr>
          <a:xfrm>
            <a:off x="5724360" y="3284640"/>
            <a:ext cx="3071880" cy="3286080"/>
          </a:xfrm>
          <a:prstGeom prst="rect">
            <a:avLst/>
          </a:prstGeom>
          <a:ln w="0">
            <a:noFill/>
          </a:ln>
        </p:spPr>
      </p:pic>
      <p:sp>
        <p:nvSpPr>
          <p:cNvPr id="88" name="Подзаголовок 7"/>
          <p:cNvSpPr/>
          <p:nvPr/>
        </p:nvSpPr>
        <p:spPr>
          <a:xfrm>
            <a:off x="6143760" y="6215040"/>
            <a:ext cx="300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глиц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лай Гаври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zolotoyolymp.ru/foto20.png?i=19587&amp;k=foto-polej-ross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357720" y="214200"/>
            <a:ext cx="53575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9 году геологические исследования были продолжены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ксандром Петровичем                             Карпински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ые разведочные работы начались в 1907 г. Акционерным обществом Троицко – Орской же-лезной дороги и его поставщиком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Торговый дом Г. Ф. и В. П. Дворниченко и Ко». , в связи с началом строительства железно-дорожной ветки Троицк – Орс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http://www.booklot.ru/templates/newimg/original/8c64480e42ee2a16fca19496d097d333.jpg"/>
          <p:cNvPicPr/>
          <p:nvPr/>
        </p:nvPicPr>
        <p:blipFill>
          <a:blip r:embed="rId2"/>
          <a:stretch/>
        </p:blipFill>
        <p:spPr>
          <a:xfrm>
            <a:off x="214200" y="285840"/>
            <a:ext cx="2962440" cy="43718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285840" y="514368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енно этот торговый дом и начал проводить развед-ки при помощи мелкого ручного бу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ую шахту №1 открыли в 1918  году (за год добыто 80 тыс. пудов антраци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zolotoyolymp.ru/foto20.png?i=19587&amp;k=foto-polej-ross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19640" y="188640"/>
            <a:ext cx="53575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Прямоугольник 7"/>
          <p:cNvSpPr/>
          <p:nvPr/>
        </p:nvSpPr>
        <p:spPr>
          <a:xfrm flipV="1" rot="10800000">
            <a:off x="285840" y="545436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вод 3: добыча анрацита велась по берегам реки Синташты (приток Тобола). Впоследствии  вся местность от железной дороги до нынешней плотины была занята  10 шах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260280"/>
          <a:ext cx="8569080" cy="518472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518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97" name="Picture 13" descr="D:\R.Stol\IMG_20161208_161509 - копия.jpg"/>
          <p:cNvPicPr/>
          <p:nvPr/>
        </p:nvPicPr>
        <p:blipFill>
          <a:blip r:embed="rId2"/>
          <a:stretch/>
        </p:blipFill>
        <p:spPr>
          <a:xfrm>
            <a:off x="250920" y="260280"/>
            <a:ext cx="457200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D:\R.Stol\Рисунок (2).jpg"/>
          <p:cNvPicPr/>
          <p:nvPr/>
        </p:nvPicPr>
        <p:blipFill>
          <a:blip r:embed="rId3"/>
          <a:stretch/>
        </p:blipFill>
        <p:spPr>
          <a:xfrm>
            <a:off x="4140360" y="260280"/>
            <a:ext cx="487188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s1.fotokto.ru/photo/full/61/6172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6120" y="-360"/>
            <a:ext cx="22860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гадка4. Шахта,шах-тёры, кирка, лопа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http://russiantourism.ru/uploads/Message504/3078/1169831_original.jpg"/>
          <p:cNvPicPr/>
          <p:nvPr/>
        </p:nvPicPr>
        <p:blipFill>
          <a:blip r:embed="rId2"/>
          <a:stretch/>
        </p:blipFill>
        <p:spPr>
          <a:xfrm>
            <a:off x="0" y="0"/>
            <a:ext cx="378612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caesarscoins.com/ba1373-01.jpg"/>
          <p:cNvPicPr/>
          <p:nvPr/>
        </p:nvPicPr>
        <p:blipFill>
          <a:blip r:embed="rId3"/>
          <a:stretch/>
        </p:blipFill>
        <p:spPr>
          <a:xfrm>
            <a:off x="4714920" y="3643200"/>
            <a:ext cx="4429080" cy="321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cs309529.userapi.com/v309529799/52a/1WGX_3UxA38.jpg"/>
          <p:cNvPicPr/>
          <p:nvPr/>
        </p:nvPicPr>
        <p:blipFill>
          <a:blip r:embed="rId4"/>
          <a:stretch/>
        </p:blipFill>
        <p:spPr>
          <a:xfrm>
            <a:off x="6072120" y="142920"/>
            <a:ext cx="3071880" cy="35431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7"/>
          <p:cNvSpPr/>
          <p:nvPr/>
        </p:nvSpPr>
        <p:spPr>
          <a:xfrm flipV="1" rot="10800000">
            <a:off x="285840" y="3960720"/>
            <a:ext cx="42148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ты укреплялись дере-вянными сваями и освеща-лись карбидными лампами и фонар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s1.fotokto.ru/photo/full/61/6172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cdn.trinixy.ru/pics5/20120921/main_18.jpg"/>
          <p:cNvPicPr/>
          <p:nvPr/>
        </p:nvPicPr>
        <p:blipFill>
          <a:blip r:embed="rId2"/>
          <a:stretch/>
        </p:blipFill>
        <p:spPr>
          <a:xfrm>
            <a:off x="0" y="321300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s://a2-images.myspacecdn.com/images03/27/821792d3b50a4df6945bcca2edb37335/600x600.jpg"/>
          <p:cNvPicPr/>
          <p:nvPr/>
        </p:nvPicPr>
        <p:blipFill>
          <a:blip r:embed="rId3"/>
          <a:stretch/>
        </p:blipFill>
        <p:spPr>
          <a:xfrm>
            <a:off x="0" y="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www.clipartkid.com/images/626/shovel-pickaxe-t1xLTu-clipart.gif"/>
          <p:cNvPicPr/>
          <p:nvPr/>
        </p:nvPicPr>
        <p:blipFill>
          <a:blip r:embed="rId4"/>
          <a:stretch/>
        </p:blipFill>
        <p:spPr>
          <a:xfrm>
            <a:off x="5143680" y="0"/>
            <a:ext cx="3141360" cy="2738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http://www.trud.ru/userfiles/gallery/ef/b_ef131a62e7113185353dfbc26a055b8f.jpg"/>
          <p:cNvPicPr/>
          <p:nvPr/>
        </p:nvPicPr>
        <p:blipFill>
          <a:blip r:embed="rId5"/>
          <a:stretch/>
        </p:blipFill>
        <p:spPr>
          <a:xfrm>
            <a:off x="4572000" y="3500280"/>
            <a:ext cx="4392720" cy="3357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s1.fotokto.ru/photo/full/61/6172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cdn.trinixy.ru/pics5/20120921/main_18.jpg"/>
          <p:cNvPicPr/>
          <p:nvPr/>
        </p:nvPicPr>
        <p:blipFill>
          <a:blip r:embed="rId2"/>
          <a:stretch/>
        </p:blipFill>
        <p:spPr>
          <a:xfrm>
            <a:off x="4500720" y="3429000"/>
            <a:ext cx="4429080" cy="3429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0" y="3357360"/>
            <a:ext cx="4286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ывод 4: Труд на шахтах был очень тяжёлым. Все виды работ выполнялись вручн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Razer\Desktop\Музей\IMG_20161208_162556.jpg"/>
          <p:cNvPicPr/>
          <p:nvPr/>
        </p:nvPicPr>
        <p:blipFill>
          <a:blip r:embed="rId3"/>
          <a:stretch/>
        </p:blipFill>
        <p:spPr>
          <a:xfrm>
            <a:off x="192240" y="0"/>
            <a:ext cx="4379760" cy="328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Razer\Desktop\Музей\IMG_20161208_162630.jpg"/>
          <p:cNvPicPr/>
          <p:nvPr/>
        </p:nvPicPr>
        <p:blipFill>
          <a:blip r:embed="rId4"/>
          <a:stretch/>
        </p:blipFill>
        <p:spPr>
          <a:xfrm>
            <a:off x="4788000" y="189000"/>
            <a:ext cx="3671640" cy="316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Razer\Desktop\Музей\IMG_20161208_161713.jpg"/>
          <p:cNvPicPr/>
          <p:nvPr/>
        </p:nvPicPr>
        <p:blipFill>
          <a:blip r:embed="rId5"/>
          <a:stretch/>
        </p:blipFill>
        <p:spPr>
          <a:xfrm>
            <a:off x="250920" y="357336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zolotoyolymp.ru/foto20.png?i=19587&amp;k=foto-polej-rossii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00000" y="475920"/>
            <a:ext cx="77342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адка5: Роль Брединского антрацита в истории  Стра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285840" y="14842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R.Stol\uralstar11.jpg"/>
          <p:cNvPicPr/>
          <p:nvPr/>
        </p:nvPicPr>
        <p:blipFill>
          <a:blip r:embed="rId2"/>
          <a:stretch/>
        </p:blipFill>
        <p:spPr>
          <a:xfrm>
            <a:off x="444600" y="1071720"/>
            <a:ext cx="833436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zolotoyolymp.ru/foto20.png?i=19587&amp;k=foto-polej-ross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одзаголовок 2"/>
          <p:cNvSpPr/>
          <p:nvPr/>
        </p:nvSpPr>
        <p:spPr>
          <a:xfrm>
            <a:off x="6429240" y="214200"/>
            <a:ext cx="2286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http://nesiditsa.ru/wp-content/uploads/2012/07/4.-v-voynu-delayut-tanki-na-CHTZ-ch-CHelyabinske1.jpg"/>
          <p:cNvPicPr/>
          <p:nvPr/>
        </p:nvPicPr>
        <p:blipFill>
          <a:blip r:embed="rId2"/>
          <a:stretch/>
        </p:blipFill>
        <p:spPr>
          <a:xfrm>
            <a:off x="142920" y="2857680"/>
            <a:ext cx="5313240" cy="38574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https://prv3.lori-images.net/chelyabinsk-tankograd-1941-1945-znachok-belyi-fon-0001378735-preview.jpg"/>
          <p:cNvPicPr/>
          <p:nvPr/>
        </p:nvPicPr>
        <p:blipFill>
          <a:blip r:embed="rId3"/>
          <a:stretch/>
        </p:blipFill>
        <p:spPr>
          <a:xfrm>
            <a:off x="5786280" y="1359000"/>
            <a:ext cx="3357720" cy="5499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214200" y="225360"/>
            <a:ext cx="8643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ы войны добыча угля шла в две смены, при этом использовался труд женщин и подростков. Добытый уголь отправляли в Танкоград (Челябинск) для печей, в которых  переплавляли металл для изгото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ков и снарядов, так необходимы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беды над Германи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zolotoyolymp.ru/foto20.png?i=19587&amp;k=foto-polej-ross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4000" y="189000"/>
            <a:ext cx="79498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адка6. Люди на шахтах, профе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285840" y="14842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4200" y="915840"/>
          <a:ext cx="8715600" cy="5942160"/>
        </p:xfrm>
        <a:graphic>
          <a:graphicData uri="http://schemas.openxmlformats.org/drawingml/2006/table">
            <a:tbl>
              <a:tblPr/>
              <a:tblGrid>
                <a:gridCol w="4500720"/>
                <a:gridCol w="4214880"/>
              </a:tblGrid>
              <a:tr h="179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хтёр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— человек, добывающий полезные ископаемые из недр земной ко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стер-взрывник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— рабочий, осуществляю-щий взрывные работы в шахт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ловой подзем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шахт-ная специальность, рабочий, ре-гулирующий движение клети по шахтному ствол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ловой отвечает за порядок спуска-подъема людей и матери- алов, выполняет погрузку в  клеть вагонеток с породой и углем, подает сигналы машинис-ту подъема, следит за состояни-ем зумпфа и огражден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8000"/>
                          <a:tab algn="l" pos="216000"/>
                          <a:tab algn="l" pos="324000"/>
                          <a:tab algn="l" pos="431640"/>
                          <a:tab algn="l" pos="539640"/>
                          <a:tab algn="l" pos="647640"/>
                          <a:tab algn="l" pos="755640"/>
                          <a:tab algn="l" pos="863640"/>
                          <a:tab algn="l" pos="971640"/>
                          <a:tab algn="l" pos="1079640"/>
                          <a:tab algn="l" pos="1187280"/>
                          <a:tab algn="l" pos="1295280"/>
                          <a:tab algn="l" pos="1403280"/>
                          <a:tab algn="l" pos="1511280"/>
                          <a:tab algn="l" pos="1619280"/>
                          <a:tab algn="l" pos="1727280"/>
                          <a:tab algn="l" pos="1835280"/>
                          <a:tab algn="l" pos="1943280"/>
                          <a:tab algn="l" pos="2050920"/>
                          <a:tab algn="l" pos="21589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ог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— рабочий, управляющий лошадьми в шахте,одна из шахтерских                       специальностей, ныне ус-таревшая. Для перемеще-ния вагонеток широко применялась конная тяга, которыми управляли жен-щин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D:\R.Stol\Рисунок (8).jpg"/>
          <p:cNvPicPr/>
          <p:nvPr/>
        </p:nvPicPr>
        <p:blipFill>
          <a:blip r:embed="rId2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:\R.Stol\Рисунок (9).jpg"/>
          <p:cNvPicPr/>
          <p:nvPr/>
        </p:nvPicPr>
        <p:blipFill>
          <a:blip r:embed="rId3"/>
          <a:stretch/>
        </p:blipFill>
        <p:spPr>
          <a:xfrm>
            <a:off x="5076720" y="3579840"/>
            <a:ext cx="40672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rudov.neosee.ru/origdocs/23/22103/22103_html_7671087c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4360" y="259920"/>
            <a:ext cx="84679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м  тут шахты под землё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земле стоят д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ился раньше тут на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а теперь, живу здесь 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 окном чудесный вид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стоит одна г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зглядом всех она ман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многих тайн она пол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гору «чёрною» зов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 породы состо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голь камень так похо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то – о многом говори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-к 3 класса Губайдулин Вла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дзаголовок 4"/>
          <p:cNvSpPr/>
          <p:nvPr/>
        </p:nvSpPr>
        <p:spPr>
          <a:xfrm>
            <a:off x="214200" y="4143240"/>
            <a:ext cx="87156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zolotoyolymp.ru/foto20.png?i=19587&amp;k=foto-polej-ross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85880" y="357120"/>
            <a:ext cx="77342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еорепорта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285840" y="14842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MOV_1101.mp4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zolotoyolymp.ru/foto20.png?i=19587&amp;k=foto-polej-ross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00000" y="475920"/>
            <a:ext cx="77342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м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285840" y="14842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4280" y="428760"/>
          <a:ext cx="7423200" cy="5416560"/>
        </p:xfrm>
        <a:graphic>
          <a:graphicData uri="http://schemas.openxmlformats.org/drawingml/2006/table">
            <a:tbl>
              <a:tblPr/>
              <a:tblGrid>
                <a:gridCol w="4286520"/>
                <a:gridCol w="3136680"/>
              </a:tblGrid>
              <a:tr h="541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од 6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шахтах работали  местные жители, приезжие рабочие.  Работа была очень тяжёлой, на каждого рабочего была установлена норма выработки в день , составляла она примерно 15-17 тонн угля в смен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13" descr="D:\R.Stol\Рисунок.jpg"/>
          <p:cNvPicPr/>
          <p:nvPr/>
        </p:nvPicPr>
        <p:blipFill>
          <a:blip r:embed="rId2"/>
          <a:stretch/>
        </p:blipFill>
        <p:spPr>
          <a:xfrm>
            <a:off x="480960" y="142920"/>
            <a:ext cx="4979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zolotoyolymp.ru/foto20.png?i=19587&amp;k=foto-polej-ross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00000" y="475920"/>
            <a:ext cx="77342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адка 7. Влияние шахт на жизнь лю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285840" y="14842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3509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роено 17 новых   двухэтажных  и  одноэтажных до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сюда название микрорайона « Новый городо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 с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 имени Артё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й пун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ста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я хлебопекар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за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ились новые ул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slavyanskaya-kultura.ru/images/10%28149%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3280" y="333360"/>
            <a:ext cx="38163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а8: куда исчезли шах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https://im3-tub-ru.yandex.net/i?id=934cc95f7b43188d75b2762643315dc1&amp;n=33&amp;h=215&amp;w=317"/>
          <p:cNvPicPr/>
          <p:nvPr/>
        </p:nvPicPr>
        <p:blipFill>
          <a:blip r:embed="rId2"/>
          <a:stretch/>
        </p:blipFill>
        <p:spPr>
          <a:xfrm>
            <a:off x="322200" y="260280"/>
            <a:ext cx="4311720" cy="302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http://ranive.ru/wp-content/uploads/2012/01/P1400156.jpg"/>
          <p:cNvPicPr/>
          <p:nvPr/>
        </p:nvPicPr>
        <p:blipFill>
          <a:blip r:embed="rId3"/>
          <a:stretch/>
        </p:blipFill>
        <p:spPr>
          <a:xfrm>
            <a:off x="4427640" y="3357720"/>
            <a:ext cx="4465440" cy="32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324000" y="3429000"/>
          <a:ext cx="3887640" cy="316872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316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од 8: Большой износ обору-дования, нехватка крепежного леса, топлива, привело к затоп-лению шахт и остановке элек-тростанции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1959 году Брединские копи были поставлены на мокрую консервацию (затоплены), чтобы сохранить залежи антраци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http://static.panoramio.com/photos/large/555736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Заголовок 6"/>
          <p:cNvSpPr/>
          <p:nvPr/>
        </p:nvSpPr>
        <p:spPr>
          <a:xfrm>
            <a:off x="4643280" y="142920"/>
            <a:ext cx="4286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пасибо </a:t>
            </a:r>
            <a:br>
              <a:rPr sz="8000"/>
            </a:br>
            <a:r>
              <a:rPr b="1" i="1" lang="ru-RU" sz="8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за </a:t>
            </a:r>
            <a:br>
              <a:rPr sz="8000"/>
            </a:br>
            <a:r>
              <a:rPr b="1" i="1" lang="ru-RU" sz="8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внима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zolotoyolymp.ru/foto20.png?i=19587&amp;k=foto-polej-ross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642960" y="500040"/>
            <a:ext cx="80010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Изучить историю появления Бредин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п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Изучить быт строителей и рабоч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Изучить этапы развития Брединских коп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Изучить причины закрытия шах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static.panoramio.com/photos/large/46229609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35812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становить время и условия появления Брединских  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опей.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становить местоположение антрацитовых 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алежей.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 особенности быта строителей и 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шахтеров.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пределить этапы развития Брединких копей.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знать причины ликвидации Брединских шах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mtdata.ru/u23/photoECEF/20048963701-0/original.jpg"/>
          <p:cNvPicPr/>
          <p:nvPr/>
        </p:nvPicPr>
        <p:blipFill>
          <a:blip r:embed="rId2"/>
          <a:stretch/>
        </p:blipFill>
        <p:spPr>
          <a:xfrm>
            <a:off x="5043600" y="3962520"/>
            <a:ext cx="41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zolotoyolymp.ru/foto20.png?i=19587&amp;k=foto-polej-ross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684360" y="549360"/>
            <a:ext cx="7920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ы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опрос населения Нового горо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 словар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 районного  краеведческого  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школьного 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центральной районной   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тречи с детьми работников шах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с периодической печа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в интер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s1.fotokto.ru/photo/full/61/6172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360" y="188640"/>
            <a:ext cx="4562280" cy="11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адка №1 Г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560" y="5373360"/>
            <a:ext cx="4033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 Черная гора –это порода угля –антрацита, добыча которого когда-то здесь вела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дзаголовок 7"/>
          <p:cNvSpPr/>
          <p:nvPr/>
        </p:nvSpPr>
        <p:spPr>
          <a:xfrm>
            <a:off x="6143760" y="6215040"/>
            <a:ext cx="300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s://i.mycdn.me/image?t=3&amp;bid=524992611300&amp;id=524992611300&amp;plc=WEB&amp;tkn=*bsWhfuTKWKM47oplTiwgmApW084"/>
          <p:cNvPicPr/>
          <p:nvPr/>
        </p:nvPicPr>
        <p:blipFill>
          <a:blip r:embed="rId2"/>
          <a:stretch/>
        </p:blipFill>
        <p:spPr>
          <a:xfrm>
            <a:off x="4356000" y="2492280"/>
            <a:ext cx="4595760" cy="378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476280"/>
          <a:ext cx="3816360" cy="4753080"/>
        </p:xfrm>
        <a:graphic>
          <a:graphicData uri="http://schemas.openxmlformats.org/drawingml/2006/table">
            <a:tbl>
              <a:tblPr/>
              <a:tblGrid>
                <a:gridCol w="1871640"/>
                <a:gridCol w="1944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опрос  нас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.горо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 вам известно о черной гор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 от 7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 11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черные камни, которыми засыпают дор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 от 12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я-то порода для строительста до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 от 35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7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– порода угля, который добывался здесь в шах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ratanews.ru/user_images/file4283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дзаголовок 2"/>
          <p:cNvSpPr/>
          <p:nvPr/>
        </p:nvSpPr>
        <p:spPr>
          <a:xfrm>
            <a:off x="900000" y="285840"/>
            <a:ext cx="8244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3840" y="5796720"/>
            <a:ext cx="24289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71640" y="1700280"/>
          <a:ext cx="7632720" cy="4248000"/>
        </p:xfrm>
        <a:graphic>
          <a:graphicData uri="http://schemas.openxmlformats.org/drawingml/2006/table">
            <a:tbl>
              <a:tblPr/>
              <a:tblGrid>
                <a:gridCol w="2028600"/>
                <a:gridCol w="5604120"/>
              </a:tblGrid>
              <a:tr h="84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ый у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опаемый уголь наиболее низкой степени углефи-кации -переходная форма от торфа к каменному уг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ёрный у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опаемое твердое горючее вещество растительного происх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рац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древний из ископаемых углей, уголь наиболее высокой степени углефик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гадка2.   Антрац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ratanews.ru/user_images/file4283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900000" y="285840"/>
            <a:ext cx="8244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13840" y="5796720"/>
            <a:ext cx="24289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свойств уг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1397160"/>
          <a:ext cx="8173800" cy="4782960"/>
        </p:xfrm>
        <a:graphic>
          <a:graphicData uri="http://schemas.openxmlformats.org/drawingml/2006/table">
            <a:tbl>
              <a:tblPr/>
              <a:tblGrid>
                <a:gridCol w="1643040"/>
                <a:gridCol w="1785960"/>
                <a:gridCol w="1714320"/>
                <a:gridCol w="3030480"/>
              </a:tblGrid>
              <a:tr h="106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е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ый у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-бурый, всегда с бурой чер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из окаменелых остатков раст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ёрный у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ый, иногда серовато-сталь-ной; в разрезе дает черную чер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овы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ковис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из окаменелых остатков раст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 граф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рац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ый со стально-серым, желтоватым (золотистым)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й металлический (золотист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из органического вещества высшей степени углефикации, содержит медь, цинк, железо, рт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ratanews.ru/user_images/file4283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дзаголовок 2"/>
          <p:cNvSpPr/>
          <p:nvPr/>
        </p:nvSpPr>
        <p:spPr>
          <a:xfrm>
            <a:off x="285840" y="285840"/>
            <a:ext cx="8858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2:  Брединский уголь является антрацит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трацит– самый древний из ископаемых углей, который отличается черным цветом, сильным блеском и большой тепловой отдач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www.quia.com/files/quia/users/psinclairpvhs/RocksandMinerals/AnthraciteBlueBackground.jpg"/>
          <p:cNvPicPr/>
          <p:nvPr/>
        </p:nvPicPr>
        <p:blipFill>
          <a:blip r:embed="rId2"/>
          <a:stretch/>
        </p:blipFill>
        <p:spPr>
          <a:xfrm>
            <a:off x="4500720" y="2519280"/>
            <a:ext cx="4430520" cy="4071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13840" y="5796720"/>
            <a:ext cx="24289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zer</dc:creator>
  <dc:description/>
  <dc:language>en-US</dc:language>
  <cp:lastModifiedBy>Razer</cp:lastModifiedBy>
  <dcterms:modified xsi:type="dcterms:W3CDTF">2016-12-13T17:00:27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260000000000010292010207f7000400038000</vt:lpwstr>
  </property>
</Properties>
</file>