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210-E947-4163-83AD-642D2E72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B5B-4A8E-4FF9-BF00-19D088D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DE-15EE-465F-AE0D-9C50D175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BBE-73FA-44FC-A56C-0305CCDB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732-9EBD-4F22-BC9D-70BF99B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097-AC9D-41E6-A502-891E2831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61F-1662-4D8D-8000-82A76A8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6C9-96F2-495F-9370-E992D92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F66-A26B-47BD-9562-B322E791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AD8-0CDD-4F36-9AFF-E8E05D2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F0F-B583-421E-AD6B-FCA9FCE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B66-B1D7-4D10-9BA2-58AACE9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86E-3317-425F-AACB-D60BCCC7C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320" y="1579320"/>
            <a:ext cx="788652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 Black"/>
              </a:rPr>
              <a:t>Лексическая тема: «Челове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1720" y="4184280"/>
            <a:ext cx="4627800" cy="4748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Стрелка вправо 3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laoblogger.com/images/clipart-comics-boy-and-girls-9.jpg"/>
          <p:cNvPicPr/>
          <p:nvPr/>
        </p:nvPicPr>
        <p:blipFill>
          <a:blip r:embed="rId1"/>
          <a:stretch/>
        </p:blipFill>
        <p:spPr>
          <a:xfrm>
            <a:off x="3459240" y="2455920"/>
            <a:ext cx="1566720" cy="194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ozdravtenas.ru/wp-content/uploads/2015/01/cooking_mama-1.png"/>
          <p:cNvPicPr/>
          <p:nvPr/>
        </p:nvPicPr>
        <p:blipFill>
          <a:blip r:embed="rId2"/>
          <a:stretch/>
        </p:blipFill>
        <p:spPr>
          <a:xfrm>
            <a:off x="236520" y="222120"/>
            <a:ext cx="1287360" cy="288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s://zabavnik.club/wp-content/uploads/2018/05/Kartinki_geroev_multfilmov_25_05062257.png"/>
          <p:cNvPicPr/>
          <p:nvPr/>
        </p:nvPicPr>
        <p:blipFill>
          <a:blip r:embed="rId3"/>
          <a:stretch/>
        </p:blipFill>
        <p:spPr>
          <a:xfrm>
            <a:off x="6558120" y="222120"/>
            <a:ext cx="2331720" cy="288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www.playcast.ru/uploads/2015/10/31/15682573.gif"/>
          <p:cNvPicPr/>
          <p:nvPr/>
        </p:nvPicPr>
        <p:blipFill>
          <a:blip r:embed="rId4"/>
          <a:stretch/>
        </p:blipFill>
        <p:spPr>
          <a:xfrm>
            <a:off x="236520" y="3978360"/>
            <a:ext cx="1689120" cy="28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images.clipartpanda.com/grandfather-clipart-grandfather5.png"/>
          <p:cNvPicPr/>
          <p:nvPr/>
        </p:nvPicPr>
        <p:blipFill>
          <a:blip r:embed="rId5"/>
          <a:stretch/>
        </p:blipFill>
        <p:spPr>
          <a:xfrm>
            <a:off x="6831000" y="3978360"/>
            <a:ext cx="157176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Волна 1"/>
          <p:cNvSpPr/>
          <p:nvPr/>
        </p:nvSpPr>
        <p:spPr>
          <a:xfrm>
            <a:off x="2847960" y="5460840"/>
            <a:ext cx="2925720" cy="1097280"/>
          </a:xfrm>
          <a:custGeom>
            <a:avLst/>
            <a:gdLst>
              <a:gd name="textAreaLeft" fmla="*/ 0 w 2925720"/>
              <a:gd name="textAreaRight" fmla="*/ 2926080 w 2925720"/>
              <a:gd name="textAreaTop" fmla="*/ 274320 h 1097280"/>
              <a:gd name="textAreaBottom" fmla="*/ 822960 h 109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трелка вправо 7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925640" y="58428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И ДОЛЖНЫ ЗНАТЬ СУЩЕСТВИТЕЛЬНЫ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ма, папа, бабушка, дедушка, сын, дочь, брат, сестра, внук, внучка, фамилия, имя, отчество, семья, тётя, дядя, отец, м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C 0.00156 0.0044 0.00313 0.00949 0.00538 0.01389 C 0.01007 0.02454 0.01042 0.02431 0.0151 0.03009 C 0.01701 0.03565 0.01771 0.0382 0.02066 0.04236 C 0.03195 0.05833 0.02292 0.04468 0.03177 0.05486 C 0.03316 0.05625 0.03455 0.05857 0.03594 0.06065 C 0.04236 0.07824 0.03385 0.05764 0.04149 0.06875 C 0.04254 0.07037 0.04288 0.07338 0.04375 0.075 C 0.04497 0.07755 0.04688 0.07917 0.04826 0.08125 C 0.04931 0.0831 0.05017 0.08565 0.05139 0.08704 C 0.05278 0.08866 0.05451 0.08843 0.0559 0.08935 C 0.05747 0.09028 0.05868 0.09236 0.06024 0.09329 C 0.06215 0.09421 0.06389 0.09468 0.0658 0.09537 C 0.06875 0.09653 0.07465 0.09954 0.07465 0.09977 L 0.08455 0.11181 C 0.08559 0.11273 0.08663 0.11458 0.08785 0.11551 C 0.08924 0.11713 0.0908 0.11829 0.09236 0.11991 C 0.0974 0.12523 0.09479 0.12431 0.10104 0.13195 C 0.11215 0.1456 0.1 0.12894 0.10885 0.1382 C 0.11111 0.14051 0.11302 0.14468 0.11528 0.1463 C 0.12118 0.14977 0.11771 0.14699 0.12517 0.15648 C 0.12639 0.15764 0.12743 0.15972 0.12847 0.16042 L 0.13507 0.16482 C 0.13629 0.16597 0.13733 0.16783 0.13854 0.16852 C 0.13993 0.16968 0.14149 0.16991 0.14288 0.17083 C 0.14705 0.17222 0.14896 0.17245 0.15295 0.17477 C 0.15504 0.17593 0.15938 0.1787 0.15938 0.17894 C 0.16632 0.1875 0.15885 0.17917 0.1717 0.18704 C 0.17274 0.18773 0.17361 0.18843 0.175 0.18912 C 0.17969 0.19167 0.17847 0.19028 0.18264 0.19329 C 0.18455 0.19445 0.18629 0.19607 0.18802 0.19722 C 0.18924 0.19792 0.1901 0.19908 0.19115 0.19931 C 0.19913 0.20046 0.2066 0.20046 0.21441 0.20116 C 0.21545 0.20255 0.21649 0.20463 0.21771 0.20533 C 0.23073 0.2125 0.22135 0.20232 0.22882 0.21158 C 0.22951 0.21343 0.23038 0.21551 0.23108 0.21759 C 0.2316 0.21968 0.23247 0.22384 0.23247 0.22431 L 0.23247 0.22384 L 0.23247 0.22431 L 0.23247 0.22176 E">
                                      <p:cBhvr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72 0.01458 C -0.09688 0.02292 -0.06493 0.01551 -0.13368 0.01921 C -0.13681 0.01921 -0.14149 0.02315 -0.1434 0.02384 C -0.14566 0.02477 -0.14827 0.025 -0.15035 0.02546 C -0.15226 0.02685 -0.15399 0.02824 -0.15625 0.02894 C -0.15834 0.02986 -0.16059 0.03009 -0.16302 0.03056 C -0.18733 0.03565 -0.18559 0.03241 -0.22709 0.03357 L -0.2342 0.03519 C -0.23698 0.03588 -0.23959 0.03634 -0.24271 0.03704 C -0.25156 0.03935 -0.2533 0.04097 -0.26215 0.04167 C -0.26788 0.04259 -0.27413 0.04283 -0.28021 0.04352 L -0.29531 0.04514 C -0.30834 0.04908 -0.29896 0.04653 -0.32344 0.05 L -0.33455 0.05162 C -0.33681 0.05255 -0.33906 0.05394 -0.34149 0.05486 C -0.3434 0.05556 -0.34514 0.05579 -0.34705 0.05648 C -0.34844 0.05718 -0.34983 0.05764 -0.35104 0.05833 C -0.35486 0.05926 -0.35868 0.05995 -0.36233 0.06134 L -0.37066 0.06482 C -0.38264 0.07408 -0.36754 0.06273 -0.37899 0.06945 C -0.38056 0.07037 -0.3816 0.07199 -0.38334 0.07292 C -0.38681 0.07431 -0.39063 0.07454 -0.39445 0.07616 C -0.39705 0.07708 -0.39983 0.07824 -0.40278 0.07917 C -0.40452 0.07963 -0.40643 0.08033 -0.40834 0.08079 C -0.41094 0.08195 -0.41389 0.0831 -0.41667 0.08403 C -0.41788 0.08472 -0.41927 0.08519 -0.42084 0.08565 L -0.43768 0.09051 L -0.44323 0.09213 L -0.44879 0.09398 C -0.45052 0.09491 -0.45243 0.09607 -0.45434 0.09699 C -0.45573 0.09792 -0.45712 0.09792 -0.45851 0.09861 C -0.46007 0.09977 -0.46129 0.10116 -0.46285 0.10208 C -0.46632 0.1044 -0.47014 0.10625 -0.47396 0.10857 C -0.4757 0.10949 -0.47743 0.11088 -0.47934 0.11158 C -0.48108 0.11227 -0.48229 0.1125 -0.48351 0.1132 C -0.49549 0.11945 -0.48281 0.11343 -0.49479 0.12153 C -0.49636 0.12245 -0.5033 0.12431 -0.50452 0.12477 C -0.5059 0.1257 -0.50747 0.12662 -0.50868 0.12801 C -0.51007 0.1294 -0.51094 0.13171 -0.51285 0.13287 C -0.51545 0.13426 -0.5184 0.13403 -0.52118 0.13449 C -0.52344 0.13565 -0.52587 0.13681 -0.52813 0.13773 C -0.52969 0.1382 -0.5309 0.13843 -0.53229 0.13912 C -0.54202 0.14491 -0.53004 0.14097 -0.54358 0.14421 C -0.54549 0.14537 -0.5474 0.1463 -0.54931 0.14722 C -0.55209 0.14931 -0.55434 0.15301 -0.55747 0.15394 C -0.57084 0.15787 -0.55434 0.15278 -0.56997 0.1588 C -0.57552 0.16088 -0.57518 0.15972 -0.57986 0.16204 C -0.58837 0.1662 -0.58264 0.16458 -0.59236 0.16852 C -0.59427 0.16921 -0.59618 0.16921 -0.59792 0.17014 C -0.59983 0.17107 -0.60156 0.17245 -0.60347 0.17361 C -0.60486 0.17384 -0.60643 0.17408 -0.60764 0.175 C -0.6092 0.1757 -0.61024 0.17755 -0.61181 0.17847 C -0.61354 0.17917 -0.61563 0.1794 -0.61736 0.18009 C -0.62257 0.18889 -0.61719 0.18148 -0.6257 0.1882 C -0.64306 0.20139 -0.63038 0.19468 -0.64375 0.20093 C -0.65122 0.21412 -0.64167 0.19838 -0.6507 0.20903 C -0.65243 0.21111 -0.65365 0.21343 -0.65504 0.21574 C -0.65816 0.22708 -0.65399 0.21296 -0.6592 0.22685 C -0.66198 0.23449 -0.65868 0.22963 -0.6632 0.23542 L -0.6632 0.23565 E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12 0.00416 L 0.02812 0.00439 C 0.03229 0.00277 0.03646 3.7037E-006 0.04097 0.00023 C 0.04549 0.00046 0.0493 0.00439 0.05382 0.00601 L 0.05955 0.00787 C 0.06771 0.01527 0.05972 0.00926 0.07378 0.01365 C 0.07674 0.01458 0.07934 0.01689 0.08229 0.01736 C 0.09184 0.01875 0.10139 0.01875 0.11094 0.01921 C 0.11823 0.02314 0.11684 0.02291 0.12378 0.025 C 0.12778 0.02615 0.13611 0.02777 0.13941 0.03078 C 0.14323 0.03402 0.14462 0.03611 0.14948 0.03634 C 0.17135 0.0375 0.19323 0.03773 0.2151 0.03842 C 0.22569 0.03889 0.23594 0.03935 0.2467 0.04027 C 0.24965 0.04051 0.26267 0.04282 0.26667 0.04398 C 0.26805 0.04444 0.26944 0.0456 0.27101 0.04606 C 0.27517 0.04699 0.27951 0.04722 0.28385 0.04791 C 0.30816 0.05115 0.29566 0.04907 0.32812 0.05162 C 0.3342 0.05208 0.34045 0.05301 0.3467 0.0537 L 0.37951 0.04976 C 0.38385 0.0493 0.38819 0.04907 0.39219 0.04791 C 0.40156 0.04537 0.41059 0.04236 0.41927 0.03842 L 0.43246 0.03264 C 0.43368 0.03194 0.43524 0.03171 0.43646 0.03078 C 0.43837 0.02939 0.44062 0.02847 0.44236 0.02685 C 0.44392 0.02546 0.44496 0.02245 0.44653 0.02129 C 0.45104 0.01805 0.45608 0.0162 0.46076 0.01365 C 0.46319 0.01226 0.46545 0.01041 0.46788 0.00972 C 0.47083 0.00902 0.47378 0.00856 0.47674 0.00787 C 0.48038 0.00671 0.48785 0.00416 0.48785 0.00439 C 0.49097 0.00162 0.49392 -0.00093 0.4967 -0.00348 C 0.49861 -0.00556 0.50017 -0.00764 0.50226 -0.00926 C 0.50451 -0.01135 0.50712 -0.01297 0.50937 -0.01505 C 0.51146 -0.01667 0.51319 -0.01899 0.51528 -0.02084 C 0.51684 -0.02223 0.51892 -0.02315 0.52101 -0.02454 C 0.5243 -0.02732 0.52674 -0.02986 0.52934 -0.03403 C 0.53055 -0.03588 0.53125 -0.03797 0.53246 -0.03982 C 0.53403 -0.04306 0.53611 -0.04607 0.53819 -0.04931 C 0.5401 -0.05301 0.54358 -0.06065 0.54358 -0.06042 C 0.5441 -0.0632 0.54462 -0.06598 0.54531 -0.06829 C 0.5467 -0.07385 0.54844 -0.07686 0.55087 -0.08172 C 0.55121 -0.08611 0.55121 -0.09074 0.55243 -0.09514 C 0.55278 -0.09723 0.55451 -0.09861 0.55521 -0.1007 C 0.5559 -0.10324 0.55573 -0.10602 0.55677 -0.10834 C 0.55764 -0.11227 0.55972 -0.11574 0.56076 -0.11991 C 0.56805 -0.14399 0.55764 -0.11366 0.56371 -0.13311 C 0.56458 -0.13565 0.56562 -0.1382 0.56667 -0.14074 C 0.56858 -0.14723 0.56753 -0.14676 0.56962 -0.15417 C 0.57014 -0.15741 0.57153 -0.16042 0.5724 -0.16366 C 0.57396 -0.16899 0.57413 -0.17084 0.57517 -0.17686 C 0.5743 -0.19352 0.57413 -0.21019 0.5724 -0.22639 C 0.57222 -0.22871 0.57014 -0.2301 0.56962 -0.23218 C 0.5684 -0.23496 0.56719 -0.24306 0.56667 -0.24561 C 0.56597 -0.25255 0.56649 -0.25973 0.5651 -0.26644 C 0.56458 -0.27061 0.56198 -0.27385 0.56076 -0.27801 C 0.56007 -0.28102 0.56007 -0.28426 0.55955 -0.2875 C 0.55868 -0.29074 0.55764 -0.29375 0.55677 -0.29699 C 0.5559 -0.29885 0.55555 -0.3007 0.55521 -0.30278 C 0.55555 -0.30463 0.55573 -0.30672 0.55677 -0.30834 C 0.55764 -0.31065 0.55972 -0.31204 0.56076 -0.31412 C 0.56163 -0.31528 0.56198 -0.31667 0.56233 -0.31783 L 0.56233 -0.31227 E">
                                      <p:cBhvr>
                                        <p:cTn id="14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0.01088 L 0.01423 0.01111 C 0.01232 0.00578 0.01007 0.00069 0.0085 -0.0044 C 0.00729 -0.00811 0.00555 -0.01598 0.00555 -0.01574 C 0.0052 -0.02037 0.00486 -0.02477 0.00416 -0.02917 C 0.00382 -0.03172 0.00312 -0.03426 0.00277 -0.03681 C 0.00225 -0.04005 0.00191 -0.04329 0.00139 -0.0463 C 0.00052 -0.05139 -0.00105 -0.05649 -0.00157 -0.06158 L -0.00296 -0.075 C -0.00382 -0.09537 -0.00573 -0.10949 -0.00296 -0.12824 C -0.00243 -0.13218 -0.00105 -0.13588 -0.00018 -0.13982 C 0.00034 -0.14167 0.00104 -0.14352 0.00139 -0.14537 C 0.00625 -0.17848 -0.00157 -0.12778 0.00555 -0.16644 C 0.00764 -0.17709 0.00659 -0.17153 0.0085 -0.18357 C 0.00798 -0.19445 0.00798 -0.2051 0.00711 -0.21598 C 0.00468 -0.24491 0.0059 -0.22616 0.00139 -0.2426 C 0.00017 -0.24653 -0.00087 -0.25602 -0.00157 -0.25973 C -0.00191 -0.26181 -0.00243 -0.26366 -0.00296 -0.26551 C -0.00348 -0.27246 -0.00539 -0.29514 -0.00573 -0.30162 C -0.00643 -0.31366 -0.00712 -0.33774 -0.00712 -0.3375 L -0.00712 -0.33774 E">
                                      <p:cBhvr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51000" y="712800"/>
            <a:ext cx="7623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, serif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рассмотреть картинку с изображением челове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рассмотреть собственное те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попросить ребёнка назвать части тела на рисунке, а затем части собственного те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выяснить, знает ли ребёнок, для чего нужны ноги, руки, уши, нос, глаза и т.д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закрепить название пальцев (большой, указательный, средний, безымянный, мизине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поиграть в игру </a:t>
            </a:r>
            <a:r>
              <a:rPr b="1" lang="ru-RU" sz="2000" spc="-1" strike="noStrike">
                <a:solidFill>
                  <a:srgbClr val="000000"/>
                </a:solidFill>
                <a:latin typeface="Arial, serif"/>
              </a:rPr>
              <a:t>«Большой – маленький»</a:t>
            </a: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У папы нос, а у сына (дочки) нос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У мамы губы, а у сына (дочки) губ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у папы глаза, а у сына (дочки) глаз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, serif"/>
              </a:rPr>
              <a:t>У мамы руки, а у сына (дочки) ручки.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74760" y="639720"/>
            <a:ext cx="740232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 Е Т И  Д О Л Ж Н Ы  У М Е Т 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ОВЫВАТЬ СУЩЕСТВИТЕЛЬНЫЕ С УМЕНЬШИТЕЛЬНО -ЛАСКАТЕЛЬНЫМИ СУФФИКСАМИ «НАЗОВИ ЛАСКОВО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а – ру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а – 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ец – пальч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га – ножка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ОВАВЫТЬ СУЩЕСТВИТЕЛЬНЫЕ МНОЖЕСТВЕННОГО ЧИСЛА В ИМЕНИТЕЛЬНОМ И РОДИТЕЛЬНОМ ПАДЕЖАХ «ОДИН-МНОГО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а – две руки – ру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га – две ноги – н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ец –два пальца – пальцев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граммные задач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425520" y="1720800"/>
            <a:ext cx="701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очнять и расширять словарь детей по теме «Части тел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я детей правильно подбирать глагольный словар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жнять в правильном согласовании числительных с существ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ь умению классифицировать и обобщ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мышление и вообра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ь детей сравнивать, анализировать и делать выв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041480" y="1147680"/>
            <a:ext cx="6400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ь детей называть части тела человека, составлять рассказ на наглядном материал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ять умение образовывать существительные множественного числа, существительные с уменьшительно-ласкательным суффикс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глагольный словар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ять в образовании слож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"/>
          <p:cNvPicPr/>
          <p:nvPr/>
        </p:nvPicPr>
        <p:blipFill>
          <a:blip r:embed="rId1"/>
          <a:stretch/>
        </p:blipFill>
        <p:spPr>
          <a:xfrm>
            <a:off x="6110280" y="3711600"/>
            <a:ext cx="1011240" cy="155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1238400" y="3417840"/>
            <a:ext cx="1633320" cy="16891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8256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59696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5960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51136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24520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42576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4340160" y="12556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5440" y="2644920"/>
            <a:ext cx="1536840" cy="154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3753000" y="3711600"/>
            <a:ext cx="1393560" cy="139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4984920" y="2529000"/>
            <a:ext cx="1314360" cy="157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6"/>
          <a:stretch/>
        </p:blipFill>
        <p:spPr>
          <a:xfrm>
            <a:off x="6927840" y="2592360"/>
            <a:ext cx="1184400" cy="15876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7"/>
          <a:stretch/>
        </p:blipFill>
        <p:spPr>
          <a:xfrm>
            <a:off x="2305080" y="2644920"/>
            <a:ext cx="171432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16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6600" y="276120"/>
            <a:ext cx="3468600" cy="477072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ый прямоугольник 2"/>
          <p:cNvSpPr/>
          <p:nvPr/>
        </p:nvSpPr>
        <p:spPr>
          <a:xfrm>
            <a:off x="4297320" y="1959120"/>
            <a:ext cx="2077920" cy="7444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3"/>
          <p:cNvSpPr/>
          <p:nvPr/>
        </p:nvSpPr>
        <p:spPr>
          <a:xfrm>
            <a:off x="1557360" y="2732040"/>
            <a:ext cx="803160" cy="1068480"/>
          </a:xfrm>
          <a:prstGeom prst="ellipse">
            <a:avLst/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1449360" y="915840"/>
            <a:ext cx="1085760" cy="1492560"/>
          </a:xfrm>
          <a:prstGeom prst="ellipse">
            <a:avLst/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9"/>
          <p:cNvSpPr/>
          <p:nvPr/>
        </p:nvSpPr>
        <p:spPr>
          <a:xfrm>
            <a:off x="3467160" y="668160"/>
            <a:ext cx="2163600" cy="6908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1"/>
          <p:cNvSpPr/>
          <p:nvPr/>
        </p:nvSpPr>
        <p:spPr>
          <a:xfrm>
            <a:off x="4297320" y="3186000"/>
            <a:ext cx="2208240" cy="728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12"/>
          <p:cNvSpPr/>
          <p:nvPr/>
        </p:nvSpPr>
        <p:spPr>
          <a:xfrm>
            <a:off x="2471760" y="5157720"/>
            <a:ext cx="2077920" cy="8431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5"/>
          <p:cNvSpPr/>
          <p:nvPr/>
        </p:nvSpPr>
        <p:spPr>
          <a:xfrm rot="18285000">
            <a:off x="3053880" y="2357280"/>
            <a:ext cx="446400" cy="1011240"/>
          </a:xfrm>
          <a:prstGeom prst="ellipse">
            <a:avLst/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959120" y="3444840"/>
            <a:ext cx="914400" cy="1268280"/>
          </a:xfrm>
          <a:prstGeom prst="rect">
            <a:avLst/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0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1857240" y="3498840"/>
            <a:ext cx="501336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Скругленный прямоугольник 2"/>
          <p:cNvSpPr/>
          <p:nvPr/>
        </p:nvSpPr>
        <p:spPr>
          <a:xfrm>
            <a:off x="235080" y="2403360"/>
            <a:ext cx="245556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6361200" y="240336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122724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1"/>
          <p:cNvSpPr/>
          <p:nvPr/>
        </p:nvSpPr>
        <p:spPr>
          <a:xfrm>
            <a:off x="235080" y="2403360"/>
            <a:ext cx="245556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1235160" y="13082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6364440" y="2403360"/>
            <a:ext cx="245268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право 10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1711440" y="244440"/>
            <a:ext cx="514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, serif"/>
              </a:rPr>
              <a:t>Загад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, serif"/>
              </a:rPr>
              <a:t>Живет мой братец за горой —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, serif"/>
              </a:rPr>
              <a:t>Не может встреться со мной. (глаза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42880" y="500040"/>
            <a:ext cx="6315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Мой замечательный нос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ичего не зн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д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н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вор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где-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у кого-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-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йч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ри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ичего не зна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 духоте сиж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с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гуляе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тебя прош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ишь с н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уляеш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говорит со м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знаеш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хнет уже вес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811680" y="1407960"/>
            <a:ext cx="23097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2"/>
          <p:cNvSpPr/>
          <p:nvPr/>
        </p:nvSpPr>
        <p:spPr>
          <a:xfrm>
            <a:off x="290520" y="249696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6361200" y="240336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122724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1"/>
          <p:cNvSpPr/>
          <p:nvPr/>
        </p:nvSpPr>
        <p:spPr>
          <a:xfrm>
            <a:off x="290520" y="249696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6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1235160" y="13082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8"/>
          <p:cNvSpPr/>
          <p:nvPr/>
        </p:nvSpPr>
        <p:spPr>
          <a:xfrm>
            <a:off x="6364440" y="2403360"/>
            <a:ext cx="245268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967120" y="3112920"/>
            <a:ext cx="3041640" cy="28832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11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2317680" y="351000"/>
            <a:ext cx="418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, serif"/>
              </a:rPr>
              <a:t>Загад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, serif"/>
              </a:rPr>
              <a:t>Всегда во рту, а не проглотишь. (язы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"/>
          <p:cNvSpPr/>
          <p:nvPr/>
        </p:nvSpPr>
        <p:spPr>
          <a:xfrm>
            <a:off x="290520" y="249696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6361200" y="240336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1227240" y="1308240"/>
            <a:ext cx="2455920" cy="914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1"/>
          <p:cNvSpPr/>
          <p:nvPr/>
        </p:nvSpPr>
        <p:spPr>
          <a:xfrm>
            <a:off x="290520" y="249696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4649760" y="13082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642960" y="1252440"/>
            <a:ext cx="245592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6364440" y="2403360"/>
            <a:ext cx="245268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1719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19200" y="3197160"/>
            <a:ext cx="5759640" cy="2878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11">
            <a:hlinkClick r:id="" action="ppaction://hlinkshowjump?jump=nextslide"/>
          </p:cNvPr>
          <p:cNvSpPr/>
          <p:nvPr/>
        </p:nvSpPr>
        <p:spPr>
          <a:xfrm>
            <a:off x="7986600" y="6273720"/>
            <a:ext cx="555840" cy="4064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2828880" y="24300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ь два, Без них нику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ва брат и справа бра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ё слышат, но молчат…(Уш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Пользователь Windows</cp:lastModifiedBy>
  <dcterms:modified xsi:type="dcterms:W3CDTF">2022-11-15T02:07:44Z</dcterms:modified>
  <cp:revision>47</cp:revision>
  <dc:subject/>
  <dc:title>Название презентации</dc:title>
</cp:coreProperties>
</file>