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5DD-3257-4F84-91E5-6CB31096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142-4F80-4263-B113-F0257928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CB8-AA88-4638-B75F-F6638D1F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6C6-5011-4C1C-8053-1FCE81FF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341-9EAB-4CE2-ABC8-D7681D86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61D-408A-475D-8F62-AB41EE4F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298-E4B6-4585-97E8-A420AC15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0C3-6D29-480A-9CDE-2F6C083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7CA-6CD1-4AC9-A980-5C31CA63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7E5-ED5B-441A-8FEB-7536B95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0DE-668C-4D74-9D68-E18B2239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A35-3D3F-4282-8E2D-C4CAE59F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ADB-E7C7-4D4A-9415-10C04A3ED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63128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сильева Ольга Валентиновн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Современные представления о влиянии  декоративно-прикладного творчества  на развитие  психофизического здоровья 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581360"/>
            <a:ext cx="73040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ссия. Самарская область, город Новокуйбыше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БОУ ООШ №20 СП «Детский сад «Василё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зон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т  иголка – это мы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т  и  нитка  - это  хв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итку вдели мы в иго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вязали уз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пошла  работа  лов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  - стежок  и  два  -  стеж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гда нити  пересек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акое ремесл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онитью  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1030303"/>
          <p:cNvPicPr/>
          <p:nvPr/>
        </p:nvPicPr>
        <p:blipFill>
          <a:blip r:embed="rId1"/>
          <a:stretch/>
        </p:blipFill>
        <p:spPr>
          <a:xfrm>
            <a:off x="5148360" y="4149720"/>
            <a:ext cx="3395520" cy="25480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46" name="Picture 5" descr="P1010954"/>
          <p:cNvPicPr/>
          <p:nvPr/>
        </p:nvPicPr>
        <p:blipFill>
          <a:blip r:embed="rId2"/>
          <a:stretch/>
        </p:blipFill>
        <p:spPr>
          <a:xfrm>
            <a:off x="5148360" y="1293840"/>
            <a:ext cx="3384360" cy="2538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атическое занятие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«Вечная памя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P1060135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28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grpSp>
        <p:nvGrpSpPr>
          <p:cNvPr id="49" name="Diagram 8"/>
          <p:cNvGrpSpPr/>
          <p:nvPr/>
        </p:nvGrpSpPr>
        <p:grpSpPr>
          <a:xfrm>
            <a:off x="4126680" y="2403000"/>
            <a:ext cx="4647960" cy="4069800"/>
            <a:chOff x="4126680" y="2403000"/>
            <a:chExt cx="4647960" cy="4069800"/>
          </a:xfrm>
        </p:grpSpPr>
        <p:sp>
          <p:nvSpPr>
            <p:cNvPr id="50" name="_s1028"/>
            <p:cNvSpPr/>
            <p:nvPr/>
          </p:nvSpPr>
          <p:spPr>
            <a:xfrm flipV="1">
              <a:off x="6063480" y="2403000"/>
              <a:ext cx="774000" cy="677520"/>
            </a:xfrm>
            <a:custGeom>
              <a:avLst/>
              <a:gdLst>
                <a:gd name="textAreaLeft" fmla="*/ 277560 w 774000"/>
                <a:gd name="textAreaRight" fmla="*/ 496440 w 774000"/>
                <a:gd name="textAreaTop" fmla="*/ 243000 h 677520"/>
                <a:gd name="textAreaBottom" fmla="*/ 434520 h 67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29"/>
            <p:cNvSpPr/>
            <p:nvPr/>
          </p:nvSpPr>
          <p:spPr>
            <a:xfrm flipV="1">
              <a:off x="5676840" y="3079800"/>
              <a:ext cx="1548000" cy="679320"/>
            </a:xfrm>
            <a:custGeom>
              <a:avLst/>
              <a:gdLst>
                <a:gd name="textAreaLeft" fmla="*/ 340200 w 1548000"/>
                <a:gd name="textAreaRight" fmla="*/ 1207800 w 1548000"/>
                <a:gd name="textAreaTop" fmla="*/ 149400 h 679320"/>
                <a:gd name="textAreaBottom" fmla="*/ 52992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3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и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0"/>
            <p:cNvSpPr/>
            <p:nvPr/>
          </p:nvSpPr>
          <p:spPr>
            <a:xfrm flipV="1">
              <a:off x="5287680" y="3759840"/>
              <a:ext cx="2325960" cy="676800"/>
            </a:xfrm>
            <a:custGeom>
              <a:avLst/>
              <a:gdLst>
                <a:gd name="textAreaLeft" fmla="*/ 403560 w 2325960"/>
                <a:gd name="textAreaRight" fmla="*/ 1922400 w 2325960"/>
                <a:gd name="textAreaTop" fmla="*/ 117360 h 676800"/>
                <a:gd name="textAreaBottom" fmla="*/ 559440 h 67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дномомен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1"/>
            <p:cNvSpPr/>
            <p:nvPr/>
          </p:nvSpPr>
          <p:spPr>
            <a:xfrm flipV="1">
              <a:off x="4900680" y="4436280"/>
              <a:ext cx="3099960" cy="679320"/>
            </a:xfrm>
            <a:custGeom>
              <a:avLst/>
              <a:gdLst>
                <a:gd name="textAreaLeft" fmla="*/ 466200 w 3099960"/>
                <a:gd name="textAreaRight" fmla="*/ 2633760 w 3099960"/>
                <a:gd name="textAreaTop" fmla="*/ 102240 h 679320"/>
                <a:gd name="textAreaBottom" fmla="*/ 57708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гляд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2"/>
            <p:cNvSpPr/>
            <p:nvPr/>
          </p:nvSpPr>
          <p:spPr>
            <a:xfrm flipV="1">
              <a:off x="4514040" y="5116320"/>
              <a:ext cx="3873600" cy="677520"/>
            </a:xfrm>
            <a:custGeom>
              <a:avLst/>
              <a:gdLst>
                <a:gd name="textAreaLeft" fmla="*/ 528840 w 3873600"/>
                <a:gd name="textAreaRight" fmla="*/ 3344760 w 3873600"/>
                <a:gd name="textAreaTop" fmla="*/ 92520 h 677520"/>
                <a:gd name="textAreaBottom" fmla="*/ 585000 h 67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ловес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 flipV="1">
              <a:off x="4126680" y="5793120"/>
              <a:ext cx="4647960" cy="679320"/>
            </a:xfrm>
            <a:custGeom>
              <a:avLst/>
              <a:gdLst>
                <a:gd name="textAreaLeft" fmla="*/ 591480 w 4647960"/>
                <a:gd name="textAreaRight" fmla="*/ 4056480 w 4647960"/>
                <a:gd name="textAreaTop" fmla="*/ 86400 h 679320"/>
                <a:gd name="textAreaBottom" fmla="*/ 59292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eff6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акт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ематическая 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P1060136"/>
          <p:cNvPicPr/>
          <p:nvPr/>
        </p:nvPicPr>
        <p:blipFill>
          <a:blip r:embed="rId1"/>
          <a:stretch/>
        </p:blipFill>
        <p:spPr>
          <a:xfrm>
            <a:off x="826920" y="1268280"/>
            <a:ext cx="3490920" cy="2617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смонавтом  стать  хоч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яду  я  в  рак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ше к звёздам  пол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  сильнее  в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ам – увижу  я  лу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ам – увижу звёз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не в ракете хорош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 увидеть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1030311"/>
          <p:cNvPicPr/>
          <p:nvPr/>
        </p:nvPicPr>
        <p:blipFill>
          <a:blip r:embed="rId2"/>
          <a:stretch/>
        </p:blipFill>
        <p:spPr>
          <a:xfrm>
            <a:off x="826920" y="4076640"/>
            <a:ext cx="3456000" cy="2592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аши  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MG_0002"/>
          <p:cNvPicPr/>
          <p:nvPr/>
        </p:nvPicPr>
        <p:blipFill>
          <a:blip r:embed="rId1"/>
          <a:stretch/>
        </p:blipFill>
        <p:spPr>
          <a:xfrm rot="1023000">
            <a:off x="323640" y="907560"/>
            <a:ext cx="2496960" cy="35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G_0001"/>
          <p:cNvPicPr/>
          <p:nvPr/>
        </p:nvPicPr>
        <p:blipFill>
          <a:blip r:embed="rId2"/>
          <a:stretch/>
        </p:blipFill>
        <p:spPr>
          <a:xfrm rot="20195400">
            <a:off x="971640" y="3068640"/>
            <a:ext cx="2333520" cy="3273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1030334"/>
          <p:cNvPicPr/>
          <p:nvPr/>
        </p:nvPicPr>
        <p:blipFill>
          <a:blip r:embed="rId3"/>
          <a:stretch/>
        </p:blipFill>
        <p:spPr>
          <a:xfrm>
            <a:off x="313200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MG_0003"/>
          <p:cNvPicPr/>
          <p:nvPr/>
        </p:nvPicPr>
        <p:blipFill>
          <a:blip r:embed="rId4"/>
          <a:stretch/>
        </p:blipFill>
        <p:spPr>
          <a:xfrm rot="20934000">
            <a:off x="5866920" y="981000"/>
            <a:ext cx="2608560" cy="366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IMG_0001"/>
          <p:cNvPicPr/>
          <p:nvPr/>
        </p:nvPicPr>
        <p:blipFill>
          <a:blip r:embed="rId5"/>
          <a:stretch/>
        </p:blipFill>
        <p:spPr>
          <a:xfrm>
            <a:off x="3203640" y="981000"/>
            <a:ext cx="2489040" cy="331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IMG_0003"/>
          <p:cNvPicPr/>
          <p:nvPr/>
        </p:nvPicPr>
        <p:blipFill>
          <a:blip r:embed="rId6"/>
          <a:stretch/>
        </p:blipFill>
        <p:spPr>
          <a:xfrm rot="1010400">
            <a:off x="5940000" y="3284640"/>
            <a:ext cx="23194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ворческая работа                                                                       «Заводской мой кра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rganization Chart 9"/>
          <p:cNvGrpSpPr/>
          <p:nvPr/>
        </p:nvGrpSpPr>
        <p:grpSpPr>
          <a:xfrm>
            <a:off x="0" y="1197000"/>
            <a:ext cx="5795280" cy="5038920"/>
            <a:chOff x="0" y="1197000"/>
            <a:chExt cx="5795280" cy="5038920"/>
          </a:xfrm>
        </p:grpSpPr>
        <p:cxnSp>
          <p:nvCxnSpPr>
            <p:cNvPr id="69" name="_s2052"/>
            <p:cNvCxnSpPr>
              <a:stCxn id="70" idx="0"/>
              <a:endCxn id="71" idx="2"/>
            </p:cNvCxnSpPr>
            <p:nvPr/>
          </p:nvCxnSpPr>
          <p:spPr>
            <a:xfrm flipV="1" rot="16200000">
              <a:off x="3407400" y="2701440"/>
              <a:ext cx="1008360" cy="2028960"/>
            </a:xfrm>
            <a:prstGeom prst="bentConnector3">
              <a:avLst>
                <a:gd name="adj1" fmla="val 127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2053"/>
            <p:cNvCxnSpPr>
              <a:stCxn id="73" idx="0"/>
              <a:endCxn id="71" idx="2"/>
            </p:cNvCxnSpPr>
            <p:nvPr/>
          </p:nvCxnSpPr>
          <p:spPr>
            <a:xfrm flipV="1">
              <a:off x="2897280" y="3211920"/>
              <a:ext cx="2520" cy="100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2054"/>
            <p:cNvCxnSpPr>
              <a:stCxn id="75" idx="0"/>
              <a:endCxn id="71" idx="2"/>
            </p:cNvCxnSpPr>
            <p:nvPr/>
          </p:nvCxnSpPr>
          <p:spPr>
            <a:xfrm flipH="1" flipV="1" rot="5400000">
              <a:off x="1379160" y="2701800"/>
              <a:ext cx="1008360" cy="2028960"/>
            </a:xfrm>
            <a:prstGeom prst="bentConnector3">
              <a:avLst>
                <a:gd name="adj1" fmla="val 127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2055"/>
            <p:cNvSpPr/>
            <p:nvPr/>
          </p:nvSpPr>
          <p:spPr>
            <a:xfrm>
              <a:off x="2028240" y="1197000"/>
              <a:ext cx="1738440" cy="2015640"/>
            </a:xfrm>
            <a:custGeom>
              <a:avLst/>
              <a:gdLst>
                <a:gd name="textAreaLeft" fmla="*/ 84600 w 1738440"/>
                <a:gd name="textAreaRight" fmla="*/ 1653840 w 1738440"/>
                <a:gd name="textAreaTop" fmla="*/ 84600 h 2015640"/>
                <a:gd name="textAreaBottom" fmla="*/ 1931040 h 2015640"/>
              </a:gdLst>
              <a:ahLst/>
              <a:rect l="textAreaLeft" t="textAreaTop" r="textAreaRight" b="textAreaBottom"/>
              <a:pathLst>
                <a:path w="21600" h="25043">
                  <a:moveTo>
                    <a:pt x="3600" y="0"/>
                  </a:moveTo>
                  <a:arcTo wR="3600" hR="3600" stAng="16200000" swAng="-5400000"/>
                  <a:lnTo>
                    <a:pt x="0" y="21443"/>
                  </a:lnTo>
                  <a:arcTo wR="3600" hR="3600" stAng="10800000" swAng="-5400000"/>
                  <a:lnTo>
                    <a:pt x="18000" y="250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нообраз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вигательно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6"/>
            <p:cNvSpPr/>
            <p:nvPr/>
          </p:nvSpPr>
          <p:spPr>
            <a:xfrm>
              <a:off x="0" y="4220280"/>
              <a:ext cx="1738440" cy="2015640"/>
            </a:xfrm>
            <a:custGeom>
              <a:avLst/>
              <a:gdLst>
                <a:gd name="textAreaLeft" fmla="*/ 84600 w 1738440"/>
                <a:gd name="textAreaRight" fmla="*/ 1653840 w 1738440"/>
                <a:gd name="textAreaTop" fmla="*/ 84600 h 2015640"/>
                <a:gd name="textAreaBottom" fmla="*/ 1931040 h 2015640"/>
              </a:gdLst>
              <a:ahLst/>
              <a:rect l="textAreaLeft" t="textAreaTop" r="textAreaRight" b="textAreaBottom"/>
              <a:pathLst>
                <a:path w="21600" h="25043">
                  <a:moveTo>
                    <a:pt x="3600" y="0"/>
                  </a:moveTo>
                  <a:arcTo wR="3600" hR="3600" stAng="16200000" swAng="-5400000"/>
                  <a:lnTo>
                    <a:pt x="0" y="21443"/>
                  </a:lnTo>
                  <a:arcTo wR="3600" hR="3600" stAng="10800000" swAng="-5400000"/>
                  <a:lnTo>
                    <a:pt x="18000" y="250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сихогимнас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7"/>
            <p:cNvSpPr/>
            <p:nvPr/>
          </p:nvSpPr>
          <p:spPr>
            <a:xfrm>
              <a:off x="2028240" y="4220280"/>
              <a:ext cx="1738440" cy="2015640"/>
            </a:xfrm>
            <a:custGeom>
              <a:avLst/>
              <a:gdLst>
                <a:gd name="textAreaLeft" fmla="*/ 84600 w 1738440"/>
                <a:gd name="textAreaRight" fmla="*/ 1653840 w 1738440"/>
                <a:gd name="textAreaTop" fmla="*/ 84600 h 2015640"/>
                <a:gd name="textAreaBottom" fmla="*/ 1931040 h 2015640"/>
              </a:gdLst>
              <a:ahLst/>
              <a:rect l="textAreaLeft" t="textAreaTop" r="textAreaRight" b="textAreaBottom"/>
              <a:pathLst>
                <a:path w="21600" h="25043">
                  <a:moveTo>
                    <a:pt x="3600" y="0"/>
                  </a:moveTo>
                  <a:arcTo wR="3600" hR="3600" stAng="16200000" swAng="-5400000"/>
                  <a:lnTo>
                    <a:pt x="0" y="21443"/>
                  </a:lnTo>
                  <a:arcTo wR="3600" hR="3600" stAng="10800000" swAng="-5400000"/>
                  <a:lnTo>
                    <a:pt x="18000" y="250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логоритмик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58"/>
            <p:cNvSpPr/>
            <p:nvPr/>
          </p:nvSpPr>
          <p:spPr>
            <a:xfrm>
              <a:off x="4056840" y="4220280"/>
              <a:ext cx="1738440" cy="2015640"/>
            </a:xfrm>
            <a:custGeom>
              <a:avLst/>
              <a:gdLst>
                <a:gd name="textAreaLeft" fmla="*/ 84600 w 1738440"/>
                <a:gd name="textAreaRight" fmla="*/ 1653840 w 1738440"/>
                <a:gd name="textAreaTop" fmla="*/ 84600 h 2015640"/>
                <a:gd name="textAreaBottom" fmla="*/ 1931040 h 2015640"/>
              </a:gdLst>
              <a:ahLst/>
              <a:rect l="textAreaLeft" t="textAreaTop" r="textAreaRight" b="textAreaBottom"/>
              <a:pathLst>
                <a:path w="21600" h="25043">
                  <a:moveTo>
                    <a:pt x="3600" y="0"/>
                  </a:moveTo>
                  <a:arcTo wR="3600" hR="3600" stAng="16200000" swAng="-5400000"/>
                  <a:lnTo>
                    <a:pt x="0" y="21443"/>
                  </a:lnTo>
                  <a:arcTo wR="3600" hR="3600" stAng="10800000" swAng="-5400000"/>
                  <a:lnTo>
                    <a:pt x="18000" y="250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альчик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5" descr="P1050994"/>
          <p:cNvPicPr/>
          <p:nvPr/>
        </p:nvPicPr>
        <p:blipFill>
          <a:blip r:embed="rId1"/>
          <a:stretch/>
        </p:blipFill>
        <p:spPr>
          <a:xfrm>
            <a:off x="4643280" y="1484280"/>
            <a:ext cx="2914920" cy="21859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77" name="Picture 24" descr="P1060102"/>
          <p:cNvPicPr/>
          <p:nvPr/>
        </p:nvPicPr>
        <p:blipFill>
          <a:blip r:embed="rId2"/>
          <a:stretch/>
        </p:blipFill>
        <p:spPr>
          <a:xfrm>
            <a:off x="6012000" y="4005360"/>
            <a:ext cx="2916000" cy="2187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азвитие мелкой мото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P106012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0" name="Picture 8" descr="P1060143"/>
          <p:cNvPicPr/>
          <p:nvPr/>
        </p:nvPicPr>
        <p:blipFill>
          <a:blip r:embed="rId2"/>
          <a:stretch/>
        </p:blipFill>
        <p:spPr>
          <a:xfrm>
            <a:off x="5292720" y="1916280"/>
            <a:ext cx="2863800" cy="3816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1" name="Picture 10" descr="P1060173"/>
          <p:cNvPicPr/>
          <p:nvPr/>
        </p:nvPicPr>
        <p:blipFill>
          <a:blip r:embed="rId3"/>
          <a:stretch/>
        </p:blipFill>
        <p:spPr>
          <a:xfrm>
            <a:off x="826920" y="4076640"/>
            <a:ext cx="3240360" cy="2430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7:46:57Z</dcterms:created>
  <dc:creator>Loner-XP</dc:creator>
  <dc:description/>
  <dc:language>en-US</dc:language>
  <cp:lastModifiedBy>мвидео</cp:lastModifiedBy>
  <dcterms:modified xsi:type="dcterms:W3CDTF">2022-11-15T07:31:48Z</dcterms:modified>
  <cp:revision>12</cp:revision>
  <dc:subject/>
  <dc:title>                                Инструктор по физическому воспитанию                                                 Васильева Ольга Валентиновна    «Современные представления о влиянии  декоративно-прикладного творчества  на развитие  психофизического здоровья  дошкольников</dc:title>
</cp:coreProperties>
</file>