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7A1-C88B-4D97-A4DC-A8E35DDC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A08-016D-4610-AB8E-2D84D80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A57-04EA-48C4-9E1E-36C946BE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10F-B084-465F-A96F-91050F08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70F-5CF3-4259-94EA-F65E134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DCF-BA5C-484C-B0F2-4B73417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0A0-5F38-45AE-8798-10B6B46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E8C-84A2-4953-87AA-5BEC07D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0D7-9978-4F41-B2B4-F56AAC6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F44-F797-4619-887F-8ECEB22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FC4-51E8-4B71-B431-7F608CC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B9E-1636-4614-9323-DD280E4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AE2A-0BC9-43EF-855E-F36A3A4C5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"/>
              </a:rPr>
              <a:t>Морские</a:t>
            </a:r>
            <a:br>
              <a:rPr sz="9600"/>
            </a:br>
            <a:r>
              <a:rPr b="1" lang="ru-RU" sz="9600" spc="-1" strike="noStrike">
                <a:solidFill>
                  <a:srgbClr val="0066ff"/>
                </a:solidFill>
                <a:latin typeface="Arial"/>
              </a:rPr>
              <a:t>жител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773600" y="52164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оспитатель Тельманова М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5216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ьми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26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рск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т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5661000"/>
            <a:ext cx="5651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ти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р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64000" y="259920"/>
            <a:ext cx="3492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р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м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рал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25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0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ре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50920" y="57340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м обитают тысячи удивительн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ли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4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о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ая 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90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кула-мо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5877000"/>
            <a:ext cx="59324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Ярки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5236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6360" y="-360"/>
            <a:ext cx="475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8:44:32Z</dcterms:created>
  <dc:creator>Инна</dc:creator>
  <dc:description/>
  <dc:language>en-US</dc:language>
  <cp:lastModifiedBy>Пользователь</cp:lastModifiedBy>
  <dcterms:modified xsi:type="dcterms:W3CDTF">2022-05-15T15:06:13Z</dcterms:modified>
  <cp:revision>7</cp:revision>
  <dc:subject/>
  <dc:title>Слайд 1</dc:title>
</cp:coreProperties>
</file>