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F5C-5355-456B-A153-BA3F2476A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42A5-EBF4-4A67-92E7-8506FDA89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35F4-158D-4458-B883-92AEBAC5D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FA6-CB58-42C3-B753-B22564A70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FF3-FA1A-4EE7-8053-D23961C72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0A0B-DBCB-4655-90E2-70F2E17E6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2216-5159-4894-A5CB-8DF3D7039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F28D-C49D-4433-B5A1-74A4F4C8C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7F12-6DAD-4E6B-9E1F-A3E246614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BEC2-6C27-488C-93F1-92CD8E7E2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6CC0-A27C-4D19-816C-72133BB1E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3529-6644-440F-89A4-AD096FDF8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8CF-8AC9-4E4B-BFB7-6463AD857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2C78-DC71-4B24-AE35-11970905A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F220-79E1-400A-A3A1-561FFE840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9A36-D5CD-41B7-8077-0E56D7ACF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BA3B-BE8C-4E41-B3BA-02E2AACCC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22CA-C2C2-432E-B3BC-DD36D5385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E77D-9483-4B4B-95E9-C48C046D6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AA2-8B73-45BB-B035-33C30F121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7716-3C2E-46C4-B411-83F388001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54C7-BA8F-4853-951E-F15022997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1BD-59F2-49F1-A846-FD239C8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CAE-9719-4B40-99C5-10A89CA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721-B1A4-469A-91F7-EF3D975F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66D-0A84-45A3-9F47-0387B852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8AA-216F-4561-A117-97D68932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11E-F5AC-464E-B07D-181B467A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364-8F4A-4DE9-87E9-D87FC85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58E-3CF3-4B1F-821C-A4A4830F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408-ECDC-4C68-9674-30E6072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A46-9C20-46E5-9AD9-56FCE903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EBE-7367-4ACD-AFC6-9310F17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80F-F50E-4DD8-8E78-5728FF7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A542-BAD9-406B-AC29-4088F9607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Алексей\Desktop\през\20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553080" y="1943280"/>
            <a:ext cx="2451240" cy="35272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971800" y="5667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Times New Roman"/>
              </a:rPr>
              <a:t>Выполнила 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Times New Roman"/>
              </a:rPr>
              <a:t>Покусай Гали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55640" y="12664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286000" y="84240"/>
            <a:ext cx="50292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0" y="84240"/>
            <a:ext cx="9144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d8a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 основная общеобразовательная школа № 9 имени Героя Советского Союза И.Д.Ваничкина города Новокуйбышевска городского округа Новокуйбышевск Самарской области структурного подразделения «Детский сад «Звонкие голо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Огонь м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друг и враг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708000" y="934560"/>
            <a:ext cx="521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играйте со спич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траивайте игр с огнём вблизи стро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айте меры пожарной безопасности при пользовании пиротехническими издел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гревайте на огне незнакомые предм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оставляйте без присмотра электроприб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джигайте тополиный пух и сухую тра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айте меры предосторожности при пользовании газовой п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Алексей\Desktop\през\22.jp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1080" y="1413000"/>
            <a:ext cx="3527280" cy="4535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770840" y="188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авила пожарной безопас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Алексей\Desktop\през\19.jpg"/>
          <p:cNvPicPr/>
          <p:nvPr/>
        </p:nvPicPr>
        <p:blipFill>
          <a:blip r:embed="rId1"/>
          <a:stretch/>
        </p:blipFill>
        <p:spPr>
          <a:xfrm>
            <a:off x="431640" y="1844640"/>
            <a:ext cx="5220000" cy="347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Алексей\Desktop\през\20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224760" y="1844640"/>
            <a:ext cx="2450880" cy="3527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752400" y="566748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необходимости вызови пожарную охрану  по телефону, наберите номер 01 или 1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26920" y="6908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Российской Федерации создана специальная система, направленная на борьбу с пожа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47960" y="111960"/>
            <a:ext cx="33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жарная охр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Алексей\Desktop\през\26.jpg"/>
          <p:cNvPicPr/>
          <p:nvPr/>
        </p:nvPicPr>
        <p:blipFill>
          <a:blip r:embed="rId1"/>
          <a:stretch/>
        </p:blipFill>
        <p:spPr>
          <a:xfrm>
            <a:off x="-14400" y="7920"/>
            <a:ext cx="91584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560" y="331560"/>
            <a:ext cx="849636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жидаясь прибытия пожарных, попытайтесь потушить возгорание огнетушителем и подручными средствами (водой, плотной мокрой тканью). Легковоспламеняющиеся жидкости (бензин, керосин) тушите мокрой тканью, песком, землёй из цветочных горшков. Не открывайте окна и двери, чтобы не усилить приток воздуха к очагу пож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тушить водой включённые в сеть электроприборы и лить воду на электрические провода, необходимо отключить электро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иквидировать очаг возгорания своими силами невозможно, необходимо немедленно покинуть квартиру, прикрыв за собой д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ымлённом помещении необходимо передвигаться на четвереньках (внизу меньше дыма) и дышать через влажную ткань (мокрое одеяло, пальто). Покинув квартиру, организуйте встречу пожарных, укажите им очаг пож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43280" y="981000"/>
            <a:ext cx="439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дленно вызови пожарных, позвонив по телефону 01 или по единому номеру 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и диспетчеру следующие данные: причину вызова, свой точный адрес, фамилию и номер телефона, с которого ты звон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 фамилию или номер дежурного, принявшего вы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Алексей\Desktop\през\11.jpg"/>
          <p:cNvPicPr/>
          <p:nvPr/>
        </p:nvPicPr>
        <p:blipFill>
          <a:blip r:embed="rId1"/>
          <a:stretch/>
        </p:blipFill>
        <p:spPr>
          <a:xfrm>
            <a:off x="395280" y="1125360"/>
            <a:ext cx="3887640" cy="453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Алексей\Desktop\през\4.png"/>
          <p:cNvPicPr/>
          <p:nvPr/>
        </p:nvPicPr>
        <p:blipFill>
          <a:blip r:embed="rId2"/>
          <a:stretch/>
        </p:blipFill>
        <p:spPr>
          <a:xfrm>
            <a:off x="2987640" y="5300640"/>
            <a:ext cx="1338120" cy="1100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2700000" y="188280"/>
            <a:ext cx="34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жар в кварти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Алексей\Desktop\през\ph110.jpg"/>
          <p:cNvPicPr/>
          <p:nvPr/>
        </p:nvPicPr>
        <p:blipFill>
          <a:blip r:embed="rId1"/>
          <a:stretch/>
        </p:blipFill>
        <p:spPr>
          <a:xfrm>
            <a:off x="468360" y="836640"/>
            <a:ext cx="3078000" cy="5256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3994200" y="1038240"/>
            <a:ext cx="504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ить о пожаре по телефону 01  (1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робовать самостоятельно, находясь вне зоны  задымления, потушить пожар, используя подручные средства. Если огонь набирает силу и ваши усилия тщетны, то немедленно покинуть балкон, плотно закрыв за собой дверь и форточки, чтобы не создавать сквозня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упредить соседей с верхних этажей, что у вас по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Алексей\Desktop\през\4.png"/>
          <p:cNvPicPr/>
          <p:nvPr/>
        </p:nvPicPr>
        <p:blipFill>
          <a:blip r:embed="rId2"/>
          <a:stretch/>
        </p:blipFill>
        <p:spPr>
          <a:xfrm>
            <a:off x="2627280" y="5424480"/>
            <a:ext cx="1338120" cy="1100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4546440" y="18828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жар на балк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75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75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75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90960" y="1054080"/>
            <a:ext cx="6053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райся определить место горения и сообщи соседям о пожа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райся локализовать очаг пожа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и о пожаре в пожарную ча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оспользоваться лестницей для выхода невозможно, оставайся в кварти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не отравиться продуктами горения, закрой щели дверей и вентиляционные отверстия мокрыми одеялами, полотен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ойся от пожара до прибытия пожарных на балконе, плотно закрыв за собой две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ибытии пожарных привлеки их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Алексей\Desktop\през\24.jpg"/>
          <p:cNvPicPr/>
          <p:nvPr/>
        </p:nvPicPr>
        <p:blipFill>
          <a:blip r:embed="rId1"/>
          <a:stretch/>
        </p:blipFill>
        <p:spPr>
          <a:xfrm>
            <a:off x="239760" y="1206360"/>
            <a:ext cx="2819520" cy="4886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334400" y="18828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жар в подъез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Users\Алексей\Desktop\през\4.png"/>
          <p:cNvPicPr/>
          <p:nvPr/>
        </p:nvPicPr>
        <p:blipFill>
          <a:blip r:embed="rId2"/>
          <a:stretch/>
        </p:blipFill>
        <p:spPr>
          <a:xfrm>
            <a:off x="209520" y="5300640"/>
            <a:ext cx="1338120" cy="110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25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325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25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325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325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25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25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325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25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25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325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25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25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25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25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325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325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25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25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325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25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user\Desktop\614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093080" y="128520"/>
            <a:ext cx="1863720" cy="2303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Алексей\Desktop\през\23.jpg"/>
          <p:cNvPicPr/>
          <p:nvPr/>
        </p:nvPicPr>
        <p:blipFill>
          <a:blip r:embed="rId2"/>
          <a:stretch/>
        </p:blipFill>
        <p:spPr>
          <a:xfrm>
            <a:off x="225360" y="115920"/>
            <a:ext cx="1538280" cy="150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25000" y="1395360"/>
            <a:ext cx="866772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озгорании в кабине лифта                                                                необходимо немедленно сообщить об эт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петчеру, нажав кнопку «вызо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лифт движется, не останавливай его, а дождись о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йдя из кабины лифта, заблокируй двери и попроси жильцов вызвать пожарную ох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лифт остановился между этажами, стучи по стенам кабины и зови на помощь, попытайся раздвинуть автоматические двери лифта и выбраться нару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невозможности самостоятельно выйти из лифта закрой нос и рот носовым платком, рукавом одежды, смочив их жидкостью, сохраняй выдержку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ко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273040" y="3168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жар в кабине лиф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Алексей\Desktop\през\4.png"/>
          <p:cNvPicPr/>
          <p:nvPr/>
        </p:nvPicPr>
        <p:blipFill>
          <a:blip r:embed="rId3"/>
          <a:stretch/>
        </p:blipFill>
        <p:spPr>
          <a:xfrm>
            <a:off x="7956720" y="5688000"/>
            <a:ext cx="1042920" cy="85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8920" y="1052280"/>
            <a:ext cx="49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медленно позвонить по телефону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ействовать систему оповещ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тупить к эвакуации детей из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естить о пожаре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овать встречу пожарных подразде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ь меры по тушению пожара средствами пожарот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88960" y="10080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жар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cdcc5c4c5a75bd70fd4f9a8fd0f7859 (NXPowerLite)"/>
          <p:cNvPicPr/>
          <p:nvPr/>
        </p:nvPicPr>
        <p:blipFill>
          <a:blip r:embed="rId1"/>
          <a:stretch/>
        </p:blipFill>
        <p:spPr>
          <a:xfrm>
            <a:off x="5292720" y="1773360"/>
            <a:ext cx="36608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user\Desktop\urn_130717090025_73297_resize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134136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757760" y="2410200"/>
            <a:ext cx="413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гра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«Вызови пожарную команду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Алексей\Desktop\през\2.jpg"/>
          <p:cNvPicPr/>
          <p:nvPr/>
        </p:nvPicPr>
        <p:blipFill>
          <a:blip r:embed="rId1"/>
          <a:stretch/>
        </p:blipFill>
        <p:spPr>
          <a:xfrm>
            <a:off x="468360" y="771480"/>
            <a:ext cx="4608360" cy="3594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900000" y="479736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ифы древних греков гласят, что огонь людям подарил титан Прометей. Он похитил огонь у богов Олимпа. Люди покорили огонь и научились управлять 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435640" y="2122200"/>
            <a:ext cx="326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гонь в мифах и легенд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143000" y="54936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69704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основные причины пож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Чем нельзя тушить включённые электроприборы и легковоспламеняющиеся жидкости? Объясните поч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Как защитить органы дыхания в задымлённом помещ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чему нельзя пользоваться лифтом, покидая здание при пож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4680" y="2349000"/>
            <a:ext cx="485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62221244 (NXPowerLite)"/>
          <p:cNvPicPr/>
          <p:nvPr/>
        </p:nvPicPr>
        <p:blipFill>
          <a:blip r:embed="rId2"/>
          <a:stretch/>
        </p:blipFill>
        <p:spPr>
          <a:xfrm>
            <a:off x="304920" y="165564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Алексей\Desktop\през\5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333360"/>
            <a:ext cx="5256000" cy="267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Алексей\Desktop\през\4.png"/>
          <p:cNvPicPr/>
          <p:nvPr/>
        </p:nvPicPr>
        <p:blipFill>
          <a:blip r:embed="rId2"/>
          <a:stretch/>
        </p:blipFill>
        <p:spPr>
          <a:xfrm>
            <a:off x="324000" y="5143680"/>
            <a:ext cx="1769760" cy="14540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2340000" y="329076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гонь имел огромное значение в жизни древнего челове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нем человек защищался от нападений животных на охо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нем человек научился согреваться, разводя костр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омощью огня начали обрабатывать пищу термически, то есть варить и жар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694480" y="831600"/>
            <a:ext cx="327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гонь в жизни древнего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Алексей\Desktop\през\6.jpg"/>
          <p:cNvPicPr/>
          <p:nvPr/>
        </p:nvPicPr>
        <p:blipFill>
          <a:blip r:embed="rId1"/>
          <a:stretch/>
        </p:blipFill>
        <p:spPr>
          <a:xfrm>
            <a:off x="468360" y="379080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Алексей\Desktop\през\7.jpg"/>
          <p:cNvPicPr/>
          <p:nvPr/>
        </p:nvPicPr>
        <p:blipFill>
          <a:blip r:embed="rId2"/>
          <a:stretch/>
        </p:blipFill>
        <p:spPr>
          <a:xfrm>
            <a:off x="425520" y="658800"/>
            <a:ext cx="3209760" cy="24098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4067280" y="1773360"/>
            <a:ext cx="48258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омощи огня человек обеспечил себя теплом и с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огня сегодня невозможна жизнь человека на нашей планете: огонь плавит руду, горение приводит в движение автомашины, пароходы, самолёты, ракеты, помогает вырабатывать электро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926520" y="76428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гонь на службе у лю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Алексей\Desktop\през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22600" y="729360"/>
            <a:ext cx="77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гонь может быть не только дру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2565360"/>
            <a:ext cx="7345440" cy="2531160"/>
          </a:xfrm>
          <a:prstGeom prst="rect">
            <a:avLst/>
          </a:prstGeom>
          <a:solidFill>
            <a:srgbClr val="800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жар - неконтролируемый процесс горения,  уничтожающий материальные ценности и создающий опасность для жизн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104,1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6,-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59280" y="1825560"/>
            <a:ext cx="590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часто пожары возникают в городских кварти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ость возникновения пожара в жилище человека постоянно воз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ждом доме увеличивается количество электроприборов. Это холодильники, телевизоры, радиоаппаратура, стиральные машины, электронагревательные при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Алексей\Desktop\през\9.jpg"/>
          <p:cNvPicPr/>
          <p:nvPr/>
        </p:nvPicPr>
        <p:blipFill>
          <a:blip r:embed="rId1"/>
          <a:stretch/>
        </p:blipFill>
        <p:spPr>
          <a:xfrm>
            <a:off x="250920" y="2637000"/>
            <a:ext cx="2722320" cy="395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Алексей\Desktop\през\13.jpg"/>
          <p:cNvPicPr/>
          <p:nvPr/>
        </p:nvPicPr>
        <p:blipFill>
          <a:blip r:embed="rId2"/>
          <a:stretch/>
        </p:blipFill>
        <p:spPr>
          <a:xfrm>
            <a:off x="179280" y="33336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178440" y="89316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жар в городских квартир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лексей\Desktop\през\17.jpg"/>
          <p:cNvPicPr/>
          <p:nvPr/>
        </p:nvPicPr>
        <p:blipFill>
          <a:blip r:embed="rId1"/>
          <a:stretch/>
        </p:blipFill>
        <p:spPr>
          <a:xfrm>
            <a:off x="404640" y="260280"/>
            <a:ext cx="3691080" cy="367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Алексей\Desktop\през\12.jpg"/>
          <p:cNvPicPr/>
          <p:nvPr/>
        </p:nvPicPr>
        <p:blipFill>
          <a:blip r:embed="rId2"/>
          <a:stretch/>
        </p:blipFill>
        <p:spPr>
          <a:xfrm>
            <a:off x="395280" y="4076640"/>
            <a:ext cx="3676680" cy="2583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4498920" y="1440000"/>
            <a:ext cx="45370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пожаров происходит по вине самих людей, от их небрежности в обращении с огнё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жар может возникнуть всюду, где огонь оказался без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ой пожара может стать и игра с огнём. Из-за этого вспыхивает примерно каждый шестой по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793760" y="47556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ичины пожа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Алексей\Desktop\през\15.jpg"/>
          <p:cNvPicPr/>
          <p:nvPr/>
        </p:nvPicPr>
        <p:blipFill>
          <a:blip r:embed="rId1"/>
          <a:stretch/>
        </p:blipFill>
        <p:spPr>
          <a:xfrm>
            <a:off x="539640" y="189000"/>
            <a:ext cx="3602160" cy="165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Алексей\Desktop\през\14.jpg"/>
          <p:cNvPicPr/>
          <p:nvPr/>
        </p:nvPicPr>
        <p:blipFill>
          <a:blip r:embed="rId2"/>
          <a:stretch/>
        </p:blipFill>
        <p:spPr>
          <a:xfrm>
            <a:off x="542880" y="1982880"/>
            <a:ext cx="360216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Алексей\Desktop\през\8.jpg"/>
          <p:cNvPicPr/>
          <p:nvPr/>
        </p:nvPicPr>
        <p:blipFill>
          <a:blip r:embed="rId3"/>
          <a:stretch/>
        </p:blipFill>
        <p:spPr>
          <a:xfrm>
            <a:off x="539640" y="4005360"/>
            <a:ext cx="3602160" cy="2592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4500720" y="1700280"/>
            <a:ext cx="4392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чале лета начинается обильное цветение топ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цы, дворы и скверы покрываются тополиным п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ради забавы поджигают тополиный п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такие игры заканчиваются пожа­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791960" y="54396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гры детей с ог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3770280"/>
            <a:ext cx="842472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ость представляет неосторожное обращение с пиротехническими изделиями - хлопушками, петардами, фейерверками и бенгальскими огнями. Если искры от них попадут на легко возгораемые предметы, может вспыхнуть по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жарную опасность представляет брошенная горящая спичка или не затушенный ок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Алексей\Desktop\през\16.jpg"/>
          <p:cNvPicPr/>
          <p:nvPr/>
        </p:nvPicPr>
        <p:blipFill>
          <a:blip r:embed="rId1"/>
          <a:stretch/>
        </p:blipFill>
        <p:spPr>
          <a:xfrm>
            <a:off x="541440" y="351000"/>
            <a:ext cx="4390920" cy="3294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5219640" y="118692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иротехнические издел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кусай Галина Юрьевна</dc:creator>
  <dc:description/>
  <dc:language>en-US</dc:language>
  <cp:lastModifiedBy>Галина</cp:lastModifiedBy>
  <dcterms:modified xsi:type="dcterms:W3CDTF">2022-11-15T15:48:03Z</dcterms:modified>
  <cp:revision>12</cp:revision>
  <dc:subject/>
  <dc:title>Пожарная безопасность 5 класс ОБ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e0000000000010243100207f6000400038000</vt:lpwstr>
  </property>
  <property fmtid="{D5CDD505-2E9C-101B-9397-08002B2CF9AE}" pid="3" name="Version">
    <vt:r8>1</vt:r8>
  </property>
</Properties>
</file>