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9A6-499C-4A83-B87E-C1639BEA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955-FABE-4360-880A-47F2A69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206-0083-4BBC-89C9-80D9DE0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72D-C3A4-47AC-B8F7-4AC11E06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767-F542-4B23-917D-03E07AF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1F4-5F45-4CE7-8EBA-2779B58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775-07EC-4B9A-BBC2-A3958CBC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FD3-A8CF-4EBA-8224-5D5E03EB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F85-ACC8-4E67-B007-187F801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531-874B-4AE8-8B09-C3B5072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8F3-FBE7-4B03-9195-14F9E50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008-2D00-4286-85E4-D7CF954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cf3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F86-3D84-4EAE-BC72-F6104F3C7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&#1087;&#1083;&#1086;&#1093;&#1086;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&#1093;&#1086;&#1088;&#1086;&#1096;&#1086;" TargetMode="External"/><Relationship Id="rId4" Type="http://schemas.openxmlformats.org/officeDocument/2006/relationships/hyperlink" Target="file:///tmp/home/.config/libreoffice/4/user/gallery/&#1087;&#1083;&#1086;&#1093;&#1086;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&#1093;&#1086;&#1088;&#1086;&#1096;&#1086;" TargetMode="External"/><Relationship Id="rId7" Type="http://schemas.openxmlformats.org/officeDocument/2006/relationships/hyperlink" Target="file:///tmp/home/.config/libreoffice/4/user/gallery/&#1087;&#1083;&#1086;&#1093;&#1086;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&#1093;&#1086;&#1088;&#1086;&#1096;&#1086;" TargetMode="External"/><Relationship Id="rId5" Type="http://schemas.openxmlformats.org/officeDocument/2006/relationships/hyperlink" Target="file:///tmp/home/.config/libreoffice/4/user/gallery/&#1087;&#1083;&#1086;&#1093;&#1086;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&#1093;&#1086;&#1088;&#1086;&#1096;&#1086;" TargetMode="External"/><Relationship Id="rId7" Type="http://schemas.openxmlformats.org/officeDocument/2006/relationships/hyperlink" Target="file:///tmp/home/.config/libreoffice/4/user/gallery/&#1087;&#1083;&#1086;&#1093;&#1086;" TargetMode="Externa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2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&#1087;&#1083;&#1086;&#1093;&#1086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hyperlink" Target="file:///tmp/home/.config/libreoffice/4/user/gallery/&#1093;&#1086;&#1088;&#1086;&#1096;&#1086;" TargetMode="External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&#1087;&#1083;&#1086;&#1093;&#1086;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84692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339933"/>
                </a:solidFill>
                <a:uFillTx/>
                <a:latin typeface="Arial Black"/>
              </a:rPr>
              <a:t>ВОСПИТАНИЕ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ПЛОХ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ХОРОШ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803_1063_5587_vuvv"/>
          <p:cNvPicPr/>
          <p:nvPr/>
        </p:nvPicPr>
        <p:blipFill>
          <a:blip r:embed="rId1"/>
          <a:stretch/>
        </p:blipFill>
        <p:spPr>
          <a:xfrm>
            <a:off x="1835280" y="5445000"/>
            <a:ext cx="5689440" cy="14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268360" y="4287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Рассказова  Наталья 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57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00803_1063_2170_vuvv"/>
          <p:cNvPicPr/>
          <p:nvPr/>
        </p:nvPicPr>
        <p:blipFill>
          <a:blip r:embed="rId1"/>
          <a:stretch/>
        </p:blipFill>
        <p:spPr>
          <a:xfrm>
            <a:off x="1835280" y="1844640"/>
            <a:ext cx="6038640" cy="4313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50920" y="6021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 одному весь праздничный торт и не поделиться ни с кем это разве хорош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>
            <a:hlinkClick r:id="rId3" action="ppaction://hlinksldjump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>
            <a:hlinkClick r:id="rId4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99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00803_1064_4192_vuvv"/>
          <p:cNvPicPr/>
          <p:nvPr/>
        </p:nvPicPr>
        <p:blipFill>
          <a:blip r:embed="rId1"/>
          <a:stretch/>
        </p:blipFill>
        <p:spPr>
          <a:xfrm>
            <a:off x="4716360" y="2492280"/>
            <a:ext cx="424836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9280" y="61657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аживать за своими домашними питомцами, э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nib-0891"/>
          <p:cNvPicPr/>
          <p:nvPr/>
        </p:nvPicPr>
        <p:blipFill>
          <a:blip r:embed="rId2"/>
          <a:stretch/>
        </p:blipFill>
        <p:spPr>
          <a:xfrm>
            <a:off x="179280" y="1844640"/>
            <a:ext cx="3697560" cy="410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36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00803_1063_2211_vuvv"/>
          <p:cNvPicPr/>
          <p:nvPr/>
        </p:nvPicPr>
        <p:blipFill>
          <a:blip r:embed="rId1"/>
          <a:stretch/>
        </p:blipFill>
        <p:spPr>
          <a:xfrm>
            <a:off x="3059280" y="1628640"/>
            <a:ext cx="3012840" cy="4445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79280" y="6237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тывать истерики, кричать и плакать без повода, капризничать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902664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2">
            <a:hlinkClick r:id="rId3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>
            <a:hlinkClick r:id="rId4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751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00803_1064_4191_vuvv"/>
          <p:cNvPicPr/>
          <p:nvPr/>
        </p:nvPicPr>
        <p:blipFill>
          <a:blip r:embed="rId1"/>
          <a:stretch/>
        </p:blipFill>
        <p:spPr>
          <a:xfrm>
            <a:off x="179280" y="1628640"/>
            <a:ext cx="4788000" cy="3640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79280" y="6237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иться в луже и быть грязным, как поросенок, это хорошо или плох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0803_1074_0887_vuvv"/>
          <p:cNvPicPr/>
          <p:nvPr/>
        </p:nvPicPr>
        <p:blipFill>
          <a:blip r:embed="rId2"/>
          <a:stretch/>
        </p:blipFill>
        <p:spPr>
          <a:xfrm flipH="1">
            <a:off x="4427280" y="1916280"/>
            <a:ext cx="4552920" cy="411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39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000803_1069_5279_vnvv"/>
          <p:cNvPicPr/>
          <p:nvPr/>
        </p:nvPicPr>
        <p:blipFill>
          <a:blip r:embed="rId1"/>
          <a:stretch/>
        </p:blipFill>
        <p:spPr>
          <a:xfrm>
            <a:off x="250920" y="3029040"/>
            <a:ext cx="1908000" cy="3063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00803_1069_5287_vnvv"/>
          <p:cNvPicPr/>
          <p:nvPr/>
        </p:nvPicPr>
        <p:blipFill>
          <a:blip r:embed="rId2"/>
          <a:stretch/>
        </p:blipFill>
        <p:spPr>
          <a:xfrm>
            <a:off x="7051680" y="1125360"/>
            <a:ext cx="1827360" cy="27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00803_1069_5285_vnvv"/>
          <p:cNvPicPr/>
          <p:nvPr/>
        </p:nvPicPr>
        <p:blipFill>
          <a:blip r:embed="rId3"/>
          <a:srcRect l="0" t="0" r="3578" b="0"/>
          <a:stretch/>
        </p:blipFill>
        <p:spPr>
          <a:xfrm flipH="1">
            <a:off x="4716360" y="377820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79280" y="63752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ться спортом, делать физические упражнения эт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000803_1069_5342_vnvv"/>
          <p:cNvPicPr/>
          <p:nvPr/>
        </p:nvPicPr>
        <p:blipFill>
          <a:blip r:embed="rId4"/>
          <a:stretch/>
        </p:blipFill>
        <p:spPr>
          <a:xfrm>
            <a:off x="2411280" y="1484280"/>
            <a:ext cx="2979720" cy="284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5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4">
            <a:hlinkClick r:id="rId6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>
            <a:hlinkClick r:id="rId7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581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000803_1069_5307_vnvv"/>
          <p:cNvPicPr/>
          <p:nvPr/>
        </p:nvPicPr>
        <p:blipFill>
          <a:blip r:embed="rId1"/>
          <a:stretch/>
        </p:blipFill>
        <p:spPr>
          <a:xfrm>
            <a:off x="4643280" y="1871640"/>
            <a:ext cx="4305600" cy="376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00803_1069_5306_vnvv"/>
          <p:cNvPicPr/>
          <p:nvPr/>
        </p:nvPicPr>
        <p:blipFill>
          <a:blip r:embed="rId2"/>
          <a:stretch/>
        </p:blipFill>
        <p:spPr>
          <a:xfrm>
            <a:off x="635040" y="1700280"/>
            <a:ext cx="3228840" cy="388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6308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ть маме по дому – пылесосить, мыть посуду эт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569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000803_1052_2093_vuvv"/>
          <p:cNvPicPr/>
          <p:nvPr/>
        </p:nvPicPr>
        <p:blipFill>
          <a:blip r:embed="rId1"/>
          <a:stretch/>
        </p:blipFill>
        <p:spPr>
          <a:xfrm>
            <a:off x="6300720" y="1773360"/>
            <a:ext cx="199224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50920" y="6453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драчуном и обижать слабых,  маленьких детишек эт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000803_1052_2095_vuvv"/>
          <p:cNvPicPr/>
          <p:nvPr/>
        </p:nvPicPr>
        <p:blipFill>
          <a:blip r:embed="rId3"/>
          <a:stretch/>
        </p:blipFill>
        <p:spPr>
          <a:xfrm flipH="1">
            <a:off x="1116000" y="2205000"/>
            <a:ext cx="2805120" cy="4006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533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250920" y="6453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учиться, быть прилежным, внимательным  – это хорошо или плох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nib-0882"/>
          <p:cNvPicPr/>
          <p:nvPr/>
        </p:nvPicPr>
        <p:blipFill>
          <a:blip r:embed="rId1"/>
          <a:stretch/>
        </p:blipFill>
        <p:spPr>
          <a:xfrm>
            <a:off x="4356000" y="2421000"/>
            <a:ext cx="4672080" cy="387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hnib-0896"/>
          <p:cNvPicPr/>
          <p:nvPr/>
        </p:nvPicPr>
        <p:blipFill>
          <a:blip r:embed="rId2"/>
          <a:stretch/>
        </p:blipFill>
        <p:spPr>
          <a:xfrm>
            <a:off x="404640" y="1531800"/>
            <a:ext cx="4454640" cy="3121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654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000803_1069_5305_vnvv"/>
          <p:cNvPicPr/>
          <p:nvPr/>
        </p:nvPicPr>
        <p:blipFill>
          <a:blip r:embed="rId1"/>
          <a:stretch/>
        </p:blipFill>
        <p:spPr>
          <a:xfrm>
            <a:off x="5329080" y="3009960"/>
            <a:ext cx="3130560" cy="2940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79280" y="6308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ть книги, резать журналы, обрывать обои – это оче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000803_1052_2113_vuvv"/>
          <p:cNvPicPr/>
          <p:nvPr/>
        </p:nvPicPr>
        <p:blipFill>
          <a:blip r:embed="rId2"/>
          <a:stretch/>
        </p:blipFill>
        <p:spPr>
          <a:xfrm>
            <a:off x="611280" y="1916280"/>
            <a:ext cx="3746520" cy="4081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768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95280" y="630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ить зубы, умываться по утрам и вечерам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000803_1069_6056_vuvv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5"/>
          <p:cNvGrpSpPr/>
          <p:nvPr/>
        </p:nvGrpSpPr>
        <p:grpSpPr>
          <a:xfrm>
            <a:off x="86760" y="1646280"/>
            <a:ext cx="5295960" cy="4368960"/>
            <a:chOff x="86760" y="1646280"/>
            <a:chExt cx="5295960" cy="4368960"/>
          </a:xfrm>
        </p:grpSpPr>
        <p:pic>
          <p:nvPicPr>
            <p:cNvPr id="148" name="Picture 6" descr="000803_1069_6057_vuvv"/>
            <p:cNvPicPr/>
            <p:nvPr/>
          </p:nvPicPr>
          <p:blipFill>
            <a:blip r:embed="rId2"/>
            <a:stretch/>
          </p:blipFill>
          <p:spPr>
            <a:xfrm>
              <a:off x="282600" y="2128680"/>
              <a:ext cx="4403880" cy="38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9"/>
            <p:cNvSpPr/>
            <p:nvPr/>
          </p:nvSpPr>
          <p:spPr>
            <a:xfrm rot="1692000">
              <a:off x="571320" y="3141720"/>
              <a:ext cx="433080" cy="21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 rot="7508400">
              <a:off x="479520" y="4728600"/>
              <a:ext cx="433440" cy="11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 rot="1692000">
              <a:off x="3746160" y="2601720"/>
              <a:ext cx="884160" cy="340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 rot="5728800">
              <a:off x="4132080" y="2093760"/>
              <a:ext cx="50796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 rot="10273200">
              <a:off x="2656080" y="1696320"/>
              <a:ext cx="720720" cy="79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6" descr=""/>
          <p:cNvPicPr/>
          <p:nvPr/>
        </p:nvPicPr>
        <p:blipFill>
          <a:blip r:embed="rId3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1">
            <a:hlinkClick r:id="rId4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2">
            <a:hlinkClick r:id="rId5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53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00803_1063_2168_vuvv"/>
          <p:cNvPicPr/>
          <p:nvPr/>
        </p:nvPicPr>
        <p:blipFill>
          <a:blip r:embed="rId1"/>
          <a:stretch/>
        </p:blipFill>
        <p:spPr>
          <a:xfrm>
            <a:off x="468360" y="1301760"/>
            <a:ext cx="3103560" cy="5556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ты совершаешь плохие поступки, то огорчаешь близких людей. Мама и папа серд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00803_1063_2141_vuvv"/>
          <p:cNvPicPr/>
          <p:nvPr/>
        </p:nvPicPr>
        <p:blipFill>
          <a:blip r:embed="rId2"/>
          <a:stretch/>
        </p:blipFill>
        <p:spPr>
          <a:xfrm>
            <a:off x="5580000" y="1773360"/>
            <a:ext cx="3027600" cy="490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868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du022"/>
          <p:cNvPicPr/>
          <p:nvPr/>
        </p:nvPicPr>
        <p:blipFill>
          <a:blip r:embed="rId1"/>
          <a:stretch/>
        </p:blipFill>
        <p:spPr>
          <a:xfrm>
            <a:off x="539640" y="1628640"/>
            <a:ext cx="4160880" cy="421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Edctn108"/>
          <p:cNvPicPr/>
          <p:nvPr/>
        </p:nvPicPr>
        <p:blipFill>
          <a:blip r:embed="rId2"/>
          <a:stretch/>
        </p:blipFill>
        <p:spPr>
          <a:xfrm>
            <a:off x="4356000" y="1844640"/>
            <a:ext cx="33321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50920" y="6381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и делиться с детками своими игрушками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Edctn137"/>
          <p:cNvPicPr/>
          <p:nvPr/>
        </p:nvPicPr>
        <p:blipFill>
          <a:blip r:embed="rId3"/>
          <a:stretch/>
        </p:blipFill>
        <p:spPr>
          <a:xfrm>
            <a:off x="6443640" y="4941720"/>
            <a:ext cx="2376360" cy="122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du017"/>
          <p:cNvPicPr/>
          <p:nvPr/>
        </p:nvPicPr>
        <p:blipFill>
          <a:blip r:embed="rId4"/>
          <a:stretch/>
        </p:blipFill>
        <p:spPr>
          <a:xfrm>
            <a:off x="4500720" y="4365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5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>
            <a:hlinkClick r:id="rId6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>
            <a:hlinkClick r:id="rId7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545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чем что-то сделать, подумай, огорчат ли твои действия маму и папу. Если огорчат, значит ты поступаешь неправильно - плохо. Если родители не расстроятся или даже похвалят тебя, значит ты  все сделал правильно, поступил - хорош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7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000803_1052_2094_vuvv"/>
          <p:cNvPicPr/>
          <p:nvPr/>
        </p:nvPicPr>
        <p:blipFill>
          <a:blip r:embed="rId2"/>
          <a:stretch/>
        </p:blipFill>
        <p:spPr>
          <a:xfrm>
            <a:off x="5219640" y="2276640"/>
            <a:ext cx="3348000" cy="4368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000803_1074_0636_vnvv"/>
          <p:cNvPicPr/>
          <p:nvPr/>
        </p:nvPicPr>
        <p:blipFill>
          <a:blip r:embed="rId3"/>
          <a:stretch/>
        </p:blipFill>
        <p:spPr>
          <a:xfrm>
            <a:off x="971640" y="1773360"/>
            <a:ext cx="253836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060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00803_1066_4846_vuvv"/>
          <p:cNvPicPr/>
          <p:nvPr/>
        </p:nvPicPr>
        <p:blipFill>
          <a:blip r:embed="rId1"/>
          <a:stretch/>
        </p:blipFill>
        <p:spPr>
          <a:xfrm>
            <a:off x="3132000" y="1844640"/>
            <a:ext cx="3308400" cy="4799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FLOWER22"/>
          <p:cNvPicPr/>
          <p:nvPr/>
        </p:nvPicPr>
        <p:blipFill>
          <a:blip r:embed="rId3"/>
          <a:stretch/>
        </p:blipFill>
        <p:spPr>
          <a:xfrm>
            <a:off x="6804000" y="4581360"/>
            <a:ext cx="2160720" cy="213372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2"/>
          <p:cNvSpPr txBox="1"/>
          <p:nvPr/>
        </p:nvSpPr>
        <p:spPr>
          <a:xfrm>
            <a:off x="3203640" y="981000"/>
            <a:ext cx="331308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931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КОНЕЦ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31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наказывают тебя – ставят в угол, шлепают по попке или лишают каких-то удовольствий, развл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00803_1063_2220_vuvv"/>
          <p:cNvPicPr/>
          <p:nvPr/>
        </p:nvPicPr>
        <p:blipFill>
          <a:blip r:embed="rId1"/>
          <a:stretch/>
        </p:blipFill>
        <p:spPr>
          <a:xfrm>
            <a:off x="5024520" y="1700280"/>
            <a:ext cx="3024000" cy="489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00803_1063_5426_vuvv"/>
          <p:cNvPicPr/>
          <p:nvPr/>
        </p:nvPicPr>
        <p:blipFill>
          <a:blip r:embed="rId2"/>
          <a:stretch/>
        </p:blipFill>
        <p:spPr>
          <a:xfrm flipH="1">
            <a:off x="468360" y="2924280"/>
            <a:ext cx="2217600" cy="36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не дают сладкого или не разрешают смотреть муль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00803_1052_2112_vuvv"/>
          <p:cNvPicPr/>
          <p:nvPr/>
        </p:nvPicPr>
        <p:blipFill>
          <a:blip r:embed="rId1"/>
          <a:stretch/>
        </p:blipFill>
        <p:spPr>
          <a:xfrm>
            <a:off x="4646520" y="2386080"/>
            <a:ext cx="4173480" cy="44719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7"/>
          <p:cNvGrpSpPr/>
          <p:nvPr/>
        </p:nvGrpSpPr>
        <p:grpSpPr>
          <a:xfrm>
            <a:off x="5076720" y="3610080"/>
            <a:ext cx="3614760" cy="2698560"/>
            <a:chOff x="5076720" y="3610080"/>
            <a:chExt cx="3614760" cy="2698560"/>
          </a:xfrm>
        </p:grpSpPr>
        <p:sp>
          <p:nvSpPr>
            <p:cNvPr id="56" name="Line 5"/>
            <p:cNvSpPr/>
            <p:nvPr/>
          </p:nvSpPr>
          <p:spPr>
            <a:xfrm>
              <a:off x="5076720" y="3610080"/>
              <a:ext cx="3614760" cy="2698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 flipV="1">
              <a:off x="5076720" y="3858840"/>
              <a:ext cx="3580200" cy="2408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8" descr="000803_1069_5270_vnvv"/>
          <p:cNvPicPr/>
          <p:nvPr/>
        </p:nvPicPr>
        <p:blipFill>
          <a:blip r:embed="rId2"/>
          <a:stretch/>
        </p:blipFill>
        <p:spPr>
          <a:xfrm flipH="1">
            <a:off x="178920" y="1662120"/>
            <a:ext cx="4032360" cy="21985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0"/>
          <p:cNvGrpSpPr/>
          <p:nvPr/>
        </p:nvGrpSpPr>
        <p:grpSpPr>
          <a:xfrm>
            <a:off x="1547640" y="1773360"/>
            <a:ext cx="3456000" cy="2376360"/>
            <a:chOff x="1547640" y="1773360"/>
            <a:chExt cx="3456000" cy="2376360"/>
          </a:xfrm>
        </p:grpSpPr>
        <p:sp>
          <p:nvSpPr>
            <p:cNvPr id="60" name="Line 11"/>
            <p:cNvSpPr/>
            <p:nvPr/>
          </p:nvSpPr>
          <p:spPr>
            <a:xfrm>
              <a:off x="1547640" y="1773360"/>
              <a:ext cx="3456000" cy="23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 flipV="1">
              <a:off x="1547640" y="1992240"/>
              <a:ext cx="3422880" cy="212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ругают тебя, наказывают, потому что хотят, чтобы ты запомнил свой поступок и больше так никогда не дел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000803_1063_2221_vuvv"/>
          <p:cNvPicPr/>
          <p:nvPr/>
        </p:nvPicPr>
        <p:blipFill>
          <a:blip r:embed="rId1"/>
          <a:stretch/>
        </p:blipFill>
        <p:spPr>
          <a:xfrm>
            <a:off x="1835280" y="1268280"/>
            <a:ext cx="1998360" cy="527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00803_1063_2142_vuvv"/>
          <p:cNvPicPr/>
          <p:nvPr/>
        </p:nvPicPr>
        <p:blipFill>
          <a:blip r:embed="rId3"/>
          <a:stretch/>
        </p:blipFill>
        <p:spPr>
          <a:xfrm flipH="1">
            <a:off x="4787640" y="2060640"/>
            <a:ext cx="3429000" cy="43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07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 поиграем? Я буду показывать тебе картинки, как ведут  себя другие детки, а ты реши сам – плохо они поступают или хорошо. Если ты считаешь, что ребенок поступил хорошо, нажми на слово ХОРОШО. Если же плохо, нажми на слово –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000803_1063_2205_vuvv"/>
          <p:cNvPicPr/>
          <p:nvPr/>
        </p:nvPicPr>
        <p:blipFill>
          <a:blip r:embed="rId1"/>
          <a:stretch/>
        </p:blipFill>
        <p:spPr>
          <a:xfrm>
            <a:off x="7380360" y="1413000"/>
            <a:ext cx="1493640" cy="5262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3780000" y="3933720"/>
            <a:ext cx="3178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755640" y="191628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017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remove" presetClass="emph" presetID="26" repeatCount="200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remove" presetClass="emph" presetID="26" repeatCount="2000">
                                  <p:stCondLst>
                                    <p:cond delay="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00803_1063_2157_vuvv"/>
          <p:cNvPicPr/>
          <p:nvPr/>
        </p:nvPicPr>
        <p:blipFill>
          <a:blip r:embed="rId1"/>
          <a:stretch/>
        </p:blipFill>
        <p:spPr>
          <a:xfrm>
            <a:off x="4859280" y="1989000"/>
            <a:ext cx="3703680" cy="385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000803_1063_2162_vuvv"/>
          <p:cNvPicPr/>
          <p:nvPr/>
        </p:nvPicPr>
        <p:blipFill>
          <a:blip r:embed="rId2"/>
          <a:stretch/>
        </p:blipFill>
        <p:spPr>
          <a:xfrm>
            <a:off x="826920" y="1989000"/>
            <a:ext cx="2729160" cy="3942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11280" y="6308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на полу и на стенах это хорошо или плохо. Как ты думаеш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>
            <a:hlinkClick r:id="rId3" action="ppaction://hlinksldjump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>
            <a:hlinkClick r:id="rId4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9325080" y="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6"/>
          <a:stretch/>
        </p:blipFill>
        <p:spPr>
          <a:xfrm>
            <a:off x="9252000" y="476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7"/>
          <a:stretch/>
        </p:blipFill>
        <p:spPr>
          <a:xfrm>
            <a:off x="8388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647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4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2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00803_1063_2186_vuvv"/>
          <p:cNvPicPr/>
          <p:nvPr/>
        </p:nvPicPr>
        <p:blipFill>
          <a:blip r:embed="rId1"/>
          <a:stretch/>
        </p:blipFill>
        <p:spPr>
          <a:xfrm>
            <a:off x="384120" y="1701720"/>
            <a:ext cx="3683160" cy="4248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39640" y="630864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ть близким людям или если тебя попросили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000803_1068_6432_vnvv"/>
          <p:cNvPicPr/>
          <p:nvPr/>
        </p:nvPicPr>
        <p:blipFill>
          <a:blip r:embed="rId2"/>
          <a:stretch/>
        </p:blipFill>
        <p:spPr>
          <a:xfrm>
            <a:off x="5219640" y="1627200"/>
            <a:ext cx="3335400" cy="4465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0">
            <a:hlinkClick r:id="rId3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>
            <a:hlinkClick r:id="rId4" action="ppaction://hlinksldjump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28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000803_1063_2159_vuvv"/>
          <p:cNvPicPr/>
          <p:nvPr/>
        </p:nvPicPr>
        <p:blipFill>
          <a:blip r:embed="rId1"/>
          <a:stretch/>
        </p:blipFill>
        <p:spPr>
          <a:xfrm>
            <a:off x="1258920" y="1557360"/>
            <a:ext cx="3625920" cy="4437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79280" y="623088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гать людей за одежду, за волосы это плохо или хорош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000803_1064_6452_vuvv"/>
          <p:cNvPicPr/>
          <p:nvPr/>
        </p:nvPicPr>
        <p:blipFill>
          <a:blip r:embed="rId2"/>
          <a:stretch/>
        </p:blipFill>
        <p:spPr>
          <a:xfrm>
            <a:off x="5508720" y="2276640"/>
            <a:ext cx="3028680" cy="3679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1">
            <a:hlinkClick r:id="rId3" action="ppaction://hlinksldjump"/>
          </p:cNvPr>
          <p:cNvSpPr/>
          <p:nvPr/>
        </p:nvSpPr>
        <p:spPr>
          <a:xfrm>
            <a:off x="5292720" y="260280"/>
            <a:ext cx="35272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 Black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>
            <a:hlinkClick r:id="rId4"/>
          </p:cNvPr>
          <p:cNvSpPr/>
          <p:nvPr/>
        </p:nvSpPr>
        <p:spPr>
          <a:xfrm>
            <a:off x="324000" y="270000"/>
            <a:ext cx="3538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5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72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2:34:34Z</dcterms:created>
  <dc:creator>viki</dc:creator>
  <dc:description/>
  <dc:language>en-US</dc:language>
  <cp:lastModifiedBy>1</cp:lastModifiedBy>
  <dcterms:modified xsi:type="dcterms:W3CDTF">2016-05-10T05:21:09Z</dcterms:modified>
  <cp:revision>25</cp:revision>
  <dc:subject/>
  <dc:title>ВОСПИТАНИЕ плохой ребенок или хороший?</dc:title>
</cp:coreProperties>
</file>